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1400-4B2A-4958-8A23-A74F0AB7D37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837C-B248-46F1-A555-D284F64E62F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8D23-84FA-4DC0-BBA9-2B898CB9BA38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904A-6AD6-497C-8028-9B18EC762F9E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2F11-09AC-4904-BC54-4C16DA3012A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AB44-7C8D-4C85-97F0-9EC565E2431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3FFA-A6F3-46CE-B96D-197333F3D13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DC49-5CD0-4141-8761-DC02AA4283E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7E3C-A42A-4FF3-A1EA-14589F356AC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92DE-FE05-4112-A199-74DA2192035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9862-B1DB-4E3B-A348-F3D7E913A2A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0652-D524-4414-9689-D01BF500A1F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3AC9-FA00-4898-8665-67C2DAB986F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6F5B-C331-408C-8DCB-E40DB3C0EA8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125B-C61A-4EC5-A626-19DFCBFC782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863B-81A6-4F47-AE64-A454D256BFF0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3E52-239F-4552-87BC-C5064482A86A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91CB-752A-40D0-B2AF-00B8204A1195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2817-8744-4A1B-B8FB-B080B2FF52B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101F-45DD-4D85-831D-3ED205DC58E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3366-A655-46C3-A59D-F93D1905EDE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4835-768E-4221-8C85-25DE7A4FFB2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9EEF-C290-4296-9AB3-F80884DFD80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D7A5-6F10-47FD-A2C4-AD9C313B71BA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7EA8-0905-4095-ADD8-AD26362AE50A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20EA-87F8-4C19-96BA-F3945D745F48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D1EB-286A-48AA-BC6E-3592E2F811E5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0B90-1BFB-4B03-BD0D-46F72503C32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994C-BAF5-4940-9DE8-292DF511C67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7145-3CB7-4D62-A0C2-BDF1E0AF3B8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B663-6895-41E8-AB1F-781BB62241F1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4136-3DCE-41E8-B68B-D8132DB9DB35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4E99-119F-44F1-9667-12E52CA3E9CC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E118-2555-469A-A9FD-0214F65AE358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D84C-91D6-467E-AA99-15E77BB53B7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CCFA-BA6A-4F0E-80FD-0E852231837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2B8A-65AD-4290-B4FE-744CC26BCDB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804E-FB31-4D90-95BB-5D3A592F19BE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4AC1-78D7-41E2-B03D-5C533B69082C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C7D1-5976-49F9-AAC3-A6A45F04C99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AFA1-C0EA-459D-BE78-F0D1AFDEC54A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785D-3F17-41CF-8EE7-1A89740DDC6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D354-F090-45CC-8E7B-727068A4EFE0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8629-8CB1-4255-BA0F-64C7954F9566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192F-CD52-4D7E-8285-8C2B5C244A0C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F385-4106-43F0-9165-6F0DA650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B3A2-C807-42B4-9A22-47941810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AB24-B896-4A59-80AD-23D2D091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03FE8-87E1-4587-808A-9D760E23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6701-E6A0-47AB-9270-EB467399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A52D-C234-465D-B33D-0B36B188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AF2A-AF60-49F5-8EA9-38601905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31F8-FD01-4D7E-B9AF-BE677DFC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B91B-086D-4100-8619-4DD35EF7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B6A1-E5B7-4A23-8336-676F23C4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215D-59F9-4ED0-9B3C-6681F2DD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43B2-BBD6-4E77-B0CC-87B0134A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53E7-A4B8-429B-9195-A8492B1B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48BF-1FCE-4DD2-8E26-AF9D4F82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9766-1953-418B-BB94-420049AF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3751-915E-4428-8130-F7484B58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2272-B0E9-4E03-8F02-1BF3A1C7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D16F1-9AA4-4780-B5E4-0FAC450F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ECFD-F4C6-4793-AACF-64BEA2AD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333AF-2D0A-41E0-B9F0-1E9F6C5E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709D4-8EC9-49E4-A3B7-B66CE7F6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573E-E6FF-4A27-8B63-319BAC69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0DB28-0FF7-46F8-A3F1-B575C238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A909-AC64-40C2-8AD2-56A74231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B41B-3D51-4662-A57D-49FA933422BF}" type="datetime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82CC-C41A-4A62-BAFE-BA99D4E095C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5897-5214-41A6-9663-917D3A80A2CD}" type="datetime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32E3-8853-4620-96CE-2D363B452F16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B787-C872-4E2E-8038-FE67F6869ED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0480" y="46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Introduction to Linear Programm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54000"/>
            <a:ext cx="7851600" cy="32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near Programming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Form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imple Maximization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phical Solution Proced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reme Points and the Optimal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er Sol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imple Minimization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C83C-19C4-4B47-8159-BD3333A21F48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15320" cy="82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Book Antiqua"/>
              </a:rPr>
              <a:t>Example 1:  Graphical Solu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6693120" cy="4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Third Constraint Grap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649160" y="138420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7062120" y="556092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Line 6"/>
          <p:cNvSpPr/>
          <p:nvPr/>
        </p:nvSpPr>
        <p:spPr>
          <a:xfrm flipH="1">
            <a:off x="3654360" y="3301920"/>
            <a:ext cx="39384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Line 7"/>
          <p:cNvSpPr/>
          <p:nvPr/>
        </p:nvSpPr>
        <p:spPr>
          <a:xfrm flipH="1">
            <a:off x="5810400" y="5437080"/>
            <a:ext cx="317520" cy="29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2044800" y="1936800"/>
            <a:ext cx="0" cy="3873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4040640" y="2933640"/>
            <a:ext cx="15548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=  8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Line 10"/>
          <p:cNvSpPr/>
          <p:nvPr/>
        </p:nvSpPr>
        <p:spPr>
          <a:xfrm flipH="1">
            <a:off x="2135160" y="1992240"/>
            <a:ext cx="317520" cy="29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2497320" y="165744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0, 8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6104160" y="509256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8, 0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1652760" y="213048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2093400" y="588960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Freeform 15"/>
          <p:cNvSpPr/>
          <p:nvPr/>
        </p:nvSpPr>
        <p:spPr>
          <a:xfrm>
            <a:off x="2057400" y="2362320"/>
            <a:ext cx="3657600" cy="342900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264" h="2160">
                <a:moveTo>
                  <a:pt x="0" y="2160"/>
                </a:moveTo>
                <a:lnTo>
                  <a:pt x="0" y="0"/>
                </a:lnTo>
                <a:lnTo>
                  <a:pt x="2264" y="2160"/>
                </a:lnTo>
                <a:lnTo>
                  <a:pt x="0" y="216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038320" y="2336760"/>
            <a:ext cx="3708360" cy="346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29" name="Group 17"/>
          <p:cNvGrpSpPr/>
          <p:nvPr/>
        </p:nvGrpSpPr>
        <p:grpSpPr>
          <a:xfrm>
            <a:off x="1968480" y="2311560"/>
            <a:ext cx="139680" cy="3111480"/>
            <a:chOff x="1968480" y="2311560"/>
            <a:chExt cx="139680" cy="3111480"/>
          </a:xfrm>
        </p:grpSpPr>
        <p:sp>
          <p:nvSpPr>
            <p:cNvPr id="230" name="Line 18"/>
            <p:cNvSpPr/>
            <p:nvPr/>
          </p:nvSpPr>
          <p:spPr>
            <a:xfrm>
              <a:off x="1968480" y="2311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968480" y="2756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2" name="Line 20"/>
            <p:cNvSpPr/>
            <p:nvPr/>
          </p:nvSpPr>
          <p:spPr>
            <a:xfrm>
              <a:off x="1968480" y="32007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3" name="Line 21"/>
            <p:cNvSpPr/>
            <p:nvPr/>
          </p:nvSpPr>
          <p:spPr>
            <a:xfrm>
              <a:off x="1968480" y="3645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4" name="Line 22"/>
            <p:cNvSpPr/>
            <p:nvPr/>
          </p:nvSpPr>
          <p:spPr>
            <a:xfrm>
              <a:off x="1968480" y="40896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5" name="Line 23"/>
            <p:cNvSpPr/>
            <p:nvPr/>
          </p:nvSpPr>
          <p:spPr>
            <a:xfrm>
              <a:off x="1968480" y="45342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6" name="Line 24"/>
            <p:cNvSpPr/>
            <p:nvPr/>
          </p:nvSpPr>
          <p:spPr>
            <a:xfrm>
              <a:off x="1968480" y="49788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7" name="Line 25"/>
            <p:cNvSpPr/>
            <p:nvPr/>
          </p:nvSpPr>
          <p:spPr>
            <a:xfrm>
              <a:off x="1968480" y="54230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38" name="Line 26"/>
          <p:cNvSpPr/>
          <p:nvPr/>
        </p:nvSpPr>
        <p:spPr>
          <a:xfrm>
            <a:off x="2038320" y="5803920"/>
            <a:ext cx="486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39" name="Group 27"/>
          <p:cNvGrpSpPr/>
          <p:nvPr/>
        </p:nvGrpSpPr>
        <p:grpSpPr>
          <a:xfrm>
            <a:off x="2424240" y="5744520"/>
            <a:ext cx="4294080" cy="145440"/>
            <a:chOff x="2424240" y="5744520"/>
            <a:chExt cx="4294080" cy="145440"/>
          </a:xfrm>
        </p:grpSpPr>
        <p:grpSp>
          <p:nvGrpSpPr>
            <p:cNvPr id="240" name="Group 28"/>
            <p:cNvGrpSpPr/>
            <p:nvPr/>
          </p:nvGrpSpPr>
          <p:grpSpPr>
            <a:xfrm>
              <a:off x="2424240" y="5750640"/>
              <a:ext cx="3327480" cy="139320"/>
              <a:chOff x="2424240" y="5750640"/>
              <a:chExt cx="3327480" cy="139320"/>
            </a:xfrm>
          </p:grpSpPr>
          <p:sp>
            <p:nvSpPr>
              <p:cNvPr id="241" name="Line 29"/>
              <p:cNvSpPr/>
              <p:nvPr/>
            </p:nvSpPr>
            <p:spPr>
              <a:xfrm>
                <a:off x="5751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2" name="Line 30"/>
              <p:cNvSpPr/>
              <p:nvPr/>
            </p:nvSpPr>
            <p:spPr>
              <a:xfrm>
                <a:off x="527688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3" name="Line 31"/>
              <p:cNvSpPr/>
              <p:nvPr/>
            </p:nvSpPr>
            <p:spPr>
              <a:xfrm>
                <a:off x="48006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4" name="Line 32"/>
              <p:cNvSpPr/>
              <p:nvPr/>
            </p:nvSpPr>
            <p:spPr>
              <a:xfrm>
                <a:off x="43261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5" name="Line 33"/>
              <p:cNvSpPr/>
              <p:nvPr/>
            </p:nvSpPr>
            <p:spPr>
              <a:xfrm>
                <a:off x="38498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6" name="Line 34"/>
              <p:cNvSpPr/>
              <p:nvPr/>
            </p:nvSpPr>
            <p:spPr>
              <a:xfrm>
                <a:off x="33750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2898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8" name="Line 36"/>
              <p:cNvSpPr/>
              <p:nvPr/>
            </p:nvSpPr>
            <p:spPr>
              <a:xfrm>
                <a:off x="24242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49" name="Line 37"/>
            <p:cNvSpPr/>
            <p:nvPr/>
          </p:nvSpPr>
          <p:spPr>
            <a:xfrm>
              <a:off x="622944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0" name="Line 38"/>
            <p:cNvSpPr/>
            <p:nvPr/>
          </p:nvSpPr>
          <p:spPr>
            <a:xfrm>
              <a:off x="671832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51" name="Text Box 39"/>
          <p:cNvSpPr/>
          <p:nvPr/>
        </p:nvSpPr>
        <p:spPr>
          <a:xfrm>
            <a:off x="2229480" y="4200480"/>
            <a:ext cx="230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had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egion contai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ll feasible poi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r this constrai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0075-9D72-4156-A9CC-10A5A6DD8FA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1:  Graphical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7062120" y="556092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2044800" y="1936800"/>
            <a:ext cx="0" cy="3873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649160" y="138420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Freeform 6"/>
          <p:cNvSpPr/>
          <p:nvPr/>
        </p:nvSpPr>
        <p:spPr>
          <a:xfrm>
            <a:off x="2070000" y="2336760"/>
            <a:ext cx="3683160" cy="3479760"/>
          </a:xfrm>
          <a:custGeom>
            <a:avLst/>
            <a:gdLst/>
            <a:ahLst/>
            <a:rect l="l" t="t" r="r" b="b"/>
            <a:pathLst>
              <a:path w="2296" h="2200">
                <a:moveTo>
                  <a:pt x="0" y="0"/>
                </a:moveTo>
                <a:lnTo>
                  <a:pt x="2296" y="22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Freeform 7"/>
          <p:cNvSpPr/>
          <p:nvPr/>
        </p:nvSpPr>
        <p:spPr>
          <a:xfrm>
            <a:off x="2050920" y="3060720"/>
            <a:ext cx="4413240" cy="2743200"/>
          </a:xfrm>
          <a:custGeom>
            <a:avLst/>
            <a:gdLst/>
            <a:ahLst/>
            <a:rect l="l" t="t" r="r" b="b"/>
            <a:pathLst>
              <a:path w="2732" h="1736">
                <a:moveTo>
                  <a:pt x="0" y="0"/>
                </a:moveTo>
                <a:lnTo>
                  <a:pt x="2732" y="173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Freeform 8"/>
          <p:cNvSpPr/>
          <p:nvPr/>
        </p:nvSpPr>
        <p:spPr>
          <a:xfrm>
            <a:off x="2044800" y="3054240"/>
            <a:ext cx="2754360" cy="2756160"/>
          </a:xfrm>
          <a:custGeom>
            <a:avLst/>
            <a:gdLst>
              <a:gd name="textAreaLeft" fmla="*/ 0 w 2754360"/>
              <a:gd name="textAreaRight" fmla="*/ 2754720 w 2754360"/>
              <a:gd name="textAreaTop" fmla="*/ 0 h 2756160"/>
              <a:gd name="textAreaBottom" fmla="*/ 2756520 h 2756160"/>
            </a:gdLst>
            <a:ahLst/>
            <a:rect l="textAreaLeft" t="textAreaTop" r="textAreaRight" b="textAreaBottom"/>
            <a:pathLst>
              <a:path w="1735" h="1736">
                <a:moveTo>
                  <a:pt x="0" y="20"/>
                </a:moveTo>
                <a:lnTo>
                  <a:pt x="1452" y="907"/>
                </a:lnTo>
                <a:lnTo>
                  <a:pt x="1735" y="1177"/>
                </a:lnTo>
                <a:lnTo>
                  <a:pt x="1732" y="1732"/>
                </a:lnTo>
                <a:lnTo>
                  <a:pt x="16" y="1736"/>
                </a:lnTo>
                <a:lnTo>
                  <a:pt x="8" y="0"/>
                </a:lnTo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652760" y="213048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2093400" y="588960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5799240" y="4522680"/>
            <a:ext cx="1965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+ 3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 = 19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Line 12"/>
          <p:cNvSpPr/>
          <p:nvPr/>
        </p:nvSpPr>
        <p:spPr>
          <a:xfrm flipH="1">
            <a:off x="2444760" y="2336760"/>
            <a:ext cx="279360" cy="311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Line 13"/>
          <p:cNvSpPr/>
          <p:nvPr/>
        </p:nvSpPr>
        <p:spPr>
          <a:xfrm flipH="1">
            <a:off x="4857840" y="3137040"/>
            <a:ext cx="622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Line 14"/>
          <p:cNvSpPr/>
          <p:nvPr/>
        </p:nvSpPr>
        <p:spPr>
          <a:xfrm flipH="1">
            <a:off x="5479920" y="4876920"/>
            <a:ext cx="317520" cy="27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2713680" y="1973160"/>
            <a:ext cx="15548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=  8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5529240" y="2906640"/>
            <a:ext cx="948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=  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0917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Combined-Constraint Graph Showing Feasible Reg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2734560" y="4613400"/>
            <a:ext cx="12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easibl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g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1968480" y="2311560"/>
            <a:ext cx="139680" cy="3111480"/>
            <a:chOff x="1968480" y="2311560"/>
            <a:chExt cx="139680" cy="3111480"/>
          </a:xfrm>
        </p:grpSpPr>
        <p:sp>
          <p:nvSpPr>
            <p:cNvPr id="271" name="Line 20"/>
            <p:cNvSpPr/>
            <p:nvPr/>
          </p:nvSpPr>
          <p:spPr>
            <a:xfrm>
              <a:off x="1968480" y="2311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2" name="Line 21"/>
            <p:cNvSpPr/>
            <p:nvPr/>
          </p:nvSpPr>
          <p:spPr>
            <a:xfrm>
              <a:off x="1968480" y="2756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3" name="Line 22"/>
            <p:cNvSpPr/>
            <p:nvPr/>
          </p:nvSpPr>
          <p:spPr>
            <a:xfrm>
              <a:off x="1968480" y="32007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4" name="Line 23"/>
            <p:cNvSpPr/>
            <p:nvPr/>
          </p:nvSpPr>
          <p:spPr>
            <a:xfrm>
              <a:off x="1968480" y="3645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5" name="Line 24"/>
            <p:cNvSpPr/>
            <p:nvPr/>
          </p:nvSpPr>
          <p:spPr>
            <a:xfrm>
              <a:off x="1968480" y="40896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6" name="Line 25"/>
            <p:cNvSpPr/>
            <p:nvPr/>
          </p:nvSpPr>
          <p:spPr>
            <a:xfrm>
              <a:off x="1968480" y="45342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7" name="Line 26"/>
            <p:cNvSpPr/>
            <p:nvPr/>
          </p:nvSpPr>
          <p:spPr>
            <a:xfrm>
              <a:off x="1968480" y="49788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8" name="Line 27"/>
            <p:cNvSpPr/>
            <p:nvPr/>
          </p:nvSpPr>
          <p:spPr>
            <a:xfrm>
              <a:off x="1968480" y="54230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79" name="Line 28"/>
          <p:cNvSpPr/>
          <p:nvPr/>
        </p:nvSpPr>
        <p:spPr>
          <a:xfrm>
            <a:off x="2038320" y="5803920"/>
            <a:ext cx="486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80" name="Group 29"/>
          <p:cNvGrpSpPr/>
          <p:nvPr/>
        </p:nvGrpSpPr>
        <p:grpSpPr>
          <a:xfrm>
            <a:off x="2424240" y="5744520"/>
            <a:ext cx="4294080" cy="145440"/>
            <a:chOff x="2424240" y="5744520"/>
            <a:chExt cx="4294080" cy="145440"/>
          </a:xfrm>
        </p:grpSpPr>
        <p:grpSp>
          <p:nvGrpSpPr>
            <p:cNvPr id="281" name="Group 30"/>
            <p:cNvGrpSpPr/>
            <p:nvPr/>
          </p:nvGrpSpPr>
          <p:grpSpPr>
            <a:xfrm>
              <a:off x="2424240" y="5750640"/>
              <a:ext cx="3327480" cy="139320"/>
              <a:chOff x="2424240" y="5750640"/>
              <a:chExt cx="3327480" cy="139320"/>
            </a:xfrm>
          </p:grpSpPr>
          <p:sp>
            <p:nvSpPr>
              <p:cNvPr id="282" name="Line 31"/>
              <p:cNvSpPr/>
              <p:nvPr/>
            </p:nvSpPr>
            <p:spPr>
              <a:xfrm>
                <a:off x="5751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3" name="Line 32"/>
              <p:cNvSpPr/>
              <p:nvPr/>
            </p:nvSpPr>
            <p:spPr>
              <a:xfrm>
                <a:off x="527688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4" name="Line 33"/>
              <p:cNvSpPr/>
              <p:nvPr/>
            </p:nvSpPr>
            <p:spPr>
              <a:xfrm>
                <a:off x="48006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5" name="Line 34"/>
              <p:cNvSpPr/>
              <p:nvPr/>
            </p:nvSpPr>
            <p:spPr>
              <a:xfrm>
                <a:off x="43261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6" name="Line 35"/>
              <p:cNvSpPr/>
              <p:nvPr/>
            </p:nvSpPr>
            <p:spPr>
              <a:xfrm>
                <a:off x="38498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7" name="Line 36"/>
              <p:cNvSpPr/>
              <p:nvPr/>
            </p:nvSpPr>
            <p:spPr>
              <a:xfrm>
                <a:off x="33750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8" name="Line 37"/>
              <p:cNvSpPr/>
              <p:nvPr/>
            </p:nvSpPr>
            <p:spPr>
              <a:xfrm>
                <a:off x="2898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9" name="Line 38"/>
              <p:cNvSpPr/>
              <p:nvPr/>
            </p:nvSpPr>
            <p:spPr>
              <a:xfrm>
                <a:off x="24242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90" name="Line 39"/>
            <p:cNvSpPr/>
            <p:nvPr/>
          </p:nvSpPr>
          <p:spPr>
            <a:xfrm>
              <a:off x="622944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1" name="Line 40"/>
            <p:cNvSpPr/>
            <p:nvPr/>
          </p:nvSpPr>
          <p:spPr>
            <a:xfrm>
              <a:off x="671832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92" name="Line 41"/>
          <p:cNvSpPr/>
          <p:nvPr/>
        </p:nvSpPr>
        <p:spPr>
          <a:xfrm flipV="1">
            <a:off x="4794120" y="1816200"/>
            <a:ext cx="0" cy="3975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1ECD-0694-4C06-BDCA-250BE00955B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Freeform 2"/>
          <p:cNvSpPr/>
          <p:nvPr/>
        </p:nvSpPr>
        <p:spPr>
          <a:xfrm>
            <a:off x="2044800" y="3048120"/>
            <a:ext cx="2755800" cy="2755800"/>
          </a:xfrm>
          <a:custGeom>
            <a:avLst/>
            <a:gdLst>
              <a:gd name="textAreaLeft" fmla="*/ 0 w 2755800"/>
              <a:gd name="textAreaRight" fmla="*/ 2756160 w 2755800"/>
              <a:gd name="textAreaTop" fmla="*/ 0 h 2755800"/>
              <a:gd name="textAreaBottom" fmla="*/ 2756160 h 2755800"/>
            </a:gdLst>
            <a:ahLst/>
            <a:rect l="textAreaLeft" t="textAreaTop" r="textAreaRight" b="textAreaBottom"/>
            <a:pathLst>
              <a:path w="1704" h="1736">
                <a:moveTo>
                  <a:pt x="0" y="0"/>
                </a:moveTo>
                <a:lnTo>
                  <a:pt x="1408" y="944"/>
                </a:lnTo>
                <a:lnTo>
                  <a:pt x="1704" y="1208"/>
                </a:lnTo>
                <a:lnTo>
                  <a:pt x="1704" y="1736"/>
                </a:lnTo>
                <a:lnTo>
                  <a:pt x="8" y="1736"/>
                </a:lnTo>
                <a:lnTo>
                  <a:pt x="8" y="56"/>
                </a:lnTo>
              </a:path>
            </a:pathLst>
          </a:custGeom>
          <a:solidFill>
            <a:srgbClr val="5f5f5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1:  Graphical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68580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Objective Function 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7062120" y="556092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2038320" y="5803920"/>
            <a:ext cx="4863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2044800" y="1936800"/>
            <a:ext cx="0" cy="3873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1649160" y="138420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5678640" y="504180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7, 0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Line 10"/>
          <p:cNvSpPr/>
          <p:nvPr/>
        </p:nvSpPr>
        <p:spPr>
          <a:xfrm flipH="1">
            <a:off x="5378400" y="5429160"/>
            <a:ext cx="317520" cy="29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2656080" y="273672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0, 5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4101840" y="3090960"/>
            <a:ext cx="2615400" cy="8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bjective Funct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7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= 35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Line 13"/>
          <p:cNvSpPr/>
          <p:nvPr/>
        </p:nvSpPr>
        <p:spPr>
          <a:xfrm>
            <a:off x="2025720" y="3638520"/>
            <a:ext cx="3263760" cy="215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3555720" y="3828960"/>
            <a:ext cx="584280" cy="730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Line 15"/>
          <p:cNvSpPr/>
          <p:nvPr/>
        </p:nvSpPr>
        <p:spPr>
          <a:xfrm flipH="1">
            <a:off x="2184480" y="3117960"/>
            <a:ext cx="48888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1652760" y="213048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2093400" y="588960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10" name="Group 18"/>
          <p:cNvGrpSpPr/>
          <p:nvPr/>
        </p:nvGrpSpPr>
        <p:grpSpPr>
          <a:xfrm>
            <a:off x="1968480" y="2311560"/>
            <a:ext cx="139680" cy="3111480"/>
            <a:chOff x="1968480" y="2311560"/>
            <a:chExt cx="139680" cy="3111480"/>
          </a:xfrm>
        </p:grpSpPr>
        <p:sp>
          <p:nvSpPr>
            <p:cNvPr id="311" name="Line 19"/>
            <p:cNvSpPr/>
            <p:nvPr/>
          </p:nvSpPr>
          <p:spPr>
            <a:xfrm>
              <a:off x="1968480" y="2311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2" name="Line 20"/>
            <p:cNvSpPr/>
            <p:nvPr/>
          </p:nvSpPr>
          <p:spPr>
            <a:xfrm>
              <a:off x="1968480" y="2756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3" name="Line 21"/>
            <p:cNvSpPr/>
            <p:nvPr/>
          </p:nvSpPr>
          <p:spPr>
            <a:xfrm>
              <a:off x="1968480" y="32007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4" name="Line 22"/>
            <p:cNvSpPr/>
            <p:nvPr/>
          </p:nvSpPr>
          <p:spPr>
            <a:xfrm>
              <a:off x="1968480" y="3645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5" name="Line 23"/>
            <p:cNvSpPr/>
            <p:nvPr/>
          </p:nvSpPr>
          <p:spPr>
            <a:xfrm>
              <a:off x="1968480" y="40896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6" name="Line 24"/>
            <p:cNvSpPr/>
            <p:nvPr/>
          </p:nvSpPr>
          <p:spPr>
            <a:xfrm>
              <a:off x="1968480" y="45342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7" name="Line 25"/>
            <p:cNvSpPr/>
            <p:nvPr/>
          </p:nvSpPr>
          <p:spPr>
            <a:xfrm>
              <a:off x="1968480" y="49788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968480" y="54230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19" name="Group 27"/>
          <p:cNvGrpSpPr/>
          <p:nvPr/>
        </p:nvGrpSpPr>
        <p:grpSpPr>
          <a:xfrm>
            <a:off x="2424240" y="5744520"/>
            <a:ext cx="4294080" cy="145440"/>
            <a:chOff x="2424240" y="5744520"/>
            <a:chExt cx="4294080" cy="145440"/>
          </a:xfrm>
        </p:grpSpPr>
        <p:grpSp>
          <p:nvGrpSpPr>
            <p:cNvPr id="320" name="Group 28"/>
            <p:cNvGrpSpPr/>
            <p:nvPr/>
          </p:nvGrpSpPr>
          <p:grpSpPr>
            <a:xfrm>
              <a:off x="2424240" y="5750640"/>
              <a:ext cx="3327480" cy="139320"/>
              <a:chOff x="2424240" y="5750640"/>
              <a:chExt cx="3327480" cy="139320"/>
            </a:xfrm>
          </p:grpSpPr>
          <p:sp>
            <p:nvSpPr>
              <p:cNvPr id="321" name="Line 29"/>
              <p:cNvSpPr/>
              <p:nvPr/>
            </p:nvSpPr>
            <p:spPr>
              <a:xfrm>
                <a:off x="5751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2" name="Line 30"/>
              <p:cNvSpPr/>
              <p:nvPr/>
            </p:nvSpPr>
            <p:spPr>
              <a:xfrm>
                <a:off x="527688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3" name="Line 31"/>
              <p:cNvSpPr/>
              <p:nvPr/>
            </p:nvSpPr>
            <p:spPr>
              <a:xfrm>
                <a:off x="48006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4" name="Line 32"/>
              <p:cNvSpPr/>
              <p:nvPr/>
            </p:nvSpPr>
            <p:spPr>
              <a:xfrm>
                <a:off x="43261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5" name="Line 33"/>
              <p:cNvSpPr/>
              <p:nvPr/>
            </p:nvSpPr>
            <p:spPr>
              <a:xfrm>
                <a:off x="38498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6" name="Line 34"/>
              <p:cNvSpPr/>
              <p:nvPr/>
            </p:nvSpPr>
            <p:spPr>
              <a:xfrm>
                <a:off x="33750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7" name="Line 35"/>
              <p:cNvSpPr/>
              <p:nvPr/>
            </p:nvSpPr>
            <p:spPr>
              <a:xfrm>
                <a:off x="2898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8" name="Line 36"/>
              <p:cNvSpPr/>
              <p:nvPr/>
            </p:nvSpPr>
            <p:spPr>
              <a:xfrm>
                <a:off x="24242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29" name="Line 37"/>
            <p:cNvSpPr/>
            <p:nvPr/>
          </p:nvSpPr>
          <p:spPr>
            <a:xfrm>
              <a:off x="622944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0" name="Line 38"/>
            <p:cNvSpPr/>
            <p:nvPr/>
          </p:nvSpPr>
          <p:spPr>
            <a:xfrm>
              <a:off x="671832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E9FA-107E-4506-86D6-C3A527BCBCD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Freeform 2"/>
          <p:cNvSpPr/>
          <p:nvPr/>
        </p:nvSpPr>
        <p:spPr>
          <a:xfrm>
            <a:off x="1967040" y="3395520"/>
            <a:ext cx="2755800" cy="2770200"/>
          </a:xfrm>
          <a:custGeom>
            <a:avLst/>
            <a:gdLst>
              <a:gd name="textAreaLeft" fmla="*/ 0 w 2755800"/>
              <a:gd name="textAreaRight" fmla="*/ 2756160 w 2755800"/>
              <a:gd name="textAreaTop" fmla="*/ 0 h 2770200"/>
              <a:gd name="textAreaBottom" fmla="*/ 2770200 h 2770200"/>
            </a:gdLst>
            <a:ahLst/>
            <a:rect l="textAreaLeft" t="textAreaTop" r="textAreaRight" b="textAreaBottom"/>
            <a:pathLst>
              <a:path w="1736" h="1745">
                <a:moveTo>
                  <a:pt x="0" y="9"/>
                </a:moveTo>
                <a:lnTo>
                  <a:pt x="1434" y="942"/>
                </a:lnTo>
                <a:lnTo>
                  <a:pt x="1735" y="1210"/>
                </a:lnTo>
                <a:lnTo>
                  <a:pt x="1736" y="1745"/>
                </a:lnTo>
                <a:lnTo>
                  <a:pt x="8" y="1745"/>
                </a:lnTo>
                <a:lnTo>
                  <a:pt x="8" y="0"/>
                </a:lnTo>
              </a:path>
            </a:pathLst>
          </a:custGeom>
          <a:solidFill>
            <a:srgbClr val="5f5f5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685800" y="30492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Example 1:  Graphical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609480" y="1371600"/>
            <a:ext cx="5378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elected Objective Function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6984360" y="592308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1960560" y="6165720"/>
            <a:ext cx="4863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1571400" y="174636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2888640" y="3090960"/>
            <a:ext cx="1852200" cy="4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7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= 35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1986120" y="4013280"/>
            <a:ext cx="3200400" cy="2146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1575000" y="249228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2015640" y="625140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1960560" y="3720960"/>
            <a:ext cx="3581280" cy="241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708160" y="4637160"/>
            <a:ext cx="1852200" cy="4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7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= 4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4266720" y="3782880"/>
            <a:ext cx="1852200" cy="4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7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= 39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Line 15"/>
          <p:cNvSpPr/>
          <p:nvPr/>
        </p:nvSpPr>
        <p:spPr>
          <a:xfrm flipH="1">
            <a:off x="5148000" y="4984920"/>
            <a:ext cx="609480" cy="63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1973160" y="3530520"/>
            <a:ext cx="3924360" cy="2616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47" name="Group 17"/>
          <p:cNvGrpSpPr/>
          <p:nvPr/>
        </p:nvGrpSpPr>
        <p:grpSpPr>
          <a:xfrm>
            <a:off x="2346480" y="6107040"/>
            <a:ext cx="4294080" cy="146160"/>
            <a:chOff x="2346480" y="6107040"/>
            <a:chExt cx="4294080" cy="146160"/>
          </a:xfrm>
        </p:grpSpPr>
        <p:grpSp>
          <p:nvGrpSpPr>
            <p:cNvPr id="348" name="Group 18"/>
            <p:cNvGrpSpPr/>
            <p:nvPr/>
          </p:nvGrpSpPr>
          <p:grpSpPr>
            <a:xfrm>
              <a:off x="2346480" y="6113520"/>
              <a:ext cx="3327480" cy="139680"/>
              <a:chOff x="2346480" y="6113520"/>
              <a:chExt cx="3327480" cy="139680"/>
            </a:xfrm>
          </p:grpSpPr>
          <p:sp>
            <p:nvSpPr>
              <p:cNvPr id="349" name="Line 19"/>
              <p:cNvSpPr/>
              <p:nvPr/>
            </p:nvSpPr>
            <p:spPr>
              <a:xfrm>
                <a:off x="5673960" y="6113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0" name="Line 20"/>
              <p:cNvSpPr/>
              <p:nvPr/>
            </p:nvSpPr>
            <p:spPr>
              <a:xfrm>
                <a:off x="5199120" y="6113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1" name="Line 21"/>
              <p:cNvSpPr/>
              <p:nvPr/>
            </p:nvSpPr>
            <p:spPr>
              <a:xfrm>
                <a:off x="4722840" y="6113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2" name="Line 22"/>
              <p:cNvSpPr/>
              <p:nvPr/>
            </p:nvSpPr>
            <p:spPr>
              <a:xfrm>
                <a:off x="4248360" y="6113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3" name="Line 23"/>
              <p:cNvSpPr/>
              <p:nvPr/>
            </p:nvSpPr>
            <p:spPr>
              <a:xfrm>
                <a:off x="3772080" y="6113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4" name="Line 24"/>
              <p:cNvSpPr/>
              <p:nvPr/>
            </p:nvSpPr>
            <p:spPr>
              <a:xfrm>
                <a:off x="3297240" y="6113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5" name="Line 25"/>
              <p:cNvSpPr/>
              <p:nvPr/>
            </p:nvSpPr>
            <p:spPr>
              <a:xfrm>
                <a:off x="2820960" y="6113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6" name="Line 26"/>
              <p:cNvSpPr/>
              <p:nvPr/>
            </p:nvSpPr>
            <p:spPr>
              <a:xfrm>
                <a:off x="2346480" y="6113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>
              <a:off x="6151680" y="61070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8" name="Line 28"/>
            <p:cNvSpPr/>
            <p:nvPr/>
          </p:nvSpPr>
          <p:spPr>
            <a:xfrm>
              <a:off x="6640560" y="61070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59" name="Line 29"/>
          <p:cNvSpPr/>
          <p:nvPr/>
        </p:nvSpPr>
        <p:spPr>
          <a:xfrm flipH="1">
            <a:off x="3719160" y="4152960"/>
            <a:ext cx="584280" cy="730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Line 30"/>
          <p:cNvSpPr/>
          <p:nvPr/>
        </p:nvSpPr>
        <p:spPr>
          <a:xfrm flipH="1">
            <a:off x="2195280" y="3454560"/>
            <a:ext cx="739800" cy="666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Line 31"/>
          <p:cNvSpPr/>
          <p:nvPr/>
        </p:nvSpPr>
        <p:spPr>
          <a:xfrm>
            <a:off x="1967040" y="2286000"/>
            <a:ext cx="0" cy="3873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62" name="Group 32"/>
          <p:cNvGrpSpPr/>
          <p:nvPr/>
        </p:nvGrpSpPr>
        <p:grpSpPr>
          <a:xfrm>
            <a:off x="1890720" y="2673360"/>
            <a:ext cx="139680" cy="3111480"/>
            <a:chOff x="1890720" y="2673360"/>
            <a:chExt cx="139680" cy="3111480"/>
          </a:xfrm>
        </p:grpSpPr>
        <p:sp>
          <p:nvSpPr>
            <p:cNvPr id="363" name="Line 33"/>
            <p:cNvSpPr/>
            <p:nvPr/>
          </p:nvSpPr>
          <p:spPr>
            <a:xfrm>
              <a:off x="1890720" y="2673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Line 34"/>
            <p:cNvSpPr/>
            <p:nvPr/>
          </p:nvSpPr>
          <p:spPr>
            <a:xfrm>
              <a:off x="1890720" y="31179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5" name="Line 35"/>
            <p:cNvSpPr/>
            <p:nvPr/>
          </p:nvSpPr>
          <p:spPr>
            <a:xfrm>
              <a:off x="1890720" y="3562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6" name="Line 36"/>
            <p:cNvSpPr/>
            <p:nvPr/>
          </p:nvSpPr>
          <p:spPr>
            <a:xfrm>
              <a:off x="1890720" y="400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7" name="Line 37"/>
            <p:cNvSpPr/>
            <p:nvPr/>
          </p:nvSpPr>
          <p:spPr>
            <a:xfrm>
              <a:off x="1890720" y="44514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8" name="Line 38"/>
            <p:cNvSpPr/>
            <p:nvPr/>
          </p:nvSpPr>
          <p:spPr>
            <a:xfrm>
              <a:off x="1890720" y="48960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9" name="Line 39"/>
            <p:cNvSpPr/>
            <p:nvPr/>
          </p:nvSpPr>
          <p:spPr>
            <a:xfrm>
              <a:off x="1890720" y="53406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0" name="Line 40"/>
            <p:cNvSpPr/>
            <p:nvPr/>
          </p:nvSpPr>
          <p:spPr>
            <a:xfrm>
              <a:off x="1890720" y="57848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0AAE-2BBC-4F1A-9BC1-B9296C6A779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Freeform 2"/>
          <p:cNvSpPr/>
          <p:nvPr/>
        </p:nvSpPr>
        <p:spPr>
          <a:xfrm>
            <a:off x="2057400" y="3022560"/>
            <a:ext cx="2743200" cy="278136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1696" h="1752">
                <a:moveTo>
                  <a:pt x="0" y="8"/>
                </a:moveTo>
                <a:lnTo>
                  <a:pt x="1448" y="960"/>
                </a:lnTo>
                <a:lnTo>
                  <a:pt x="1696" y="1224"/>
                </a:lnTo>
                <a:lnTo>
                  <a:pt x="1696" y="1752"/>
                </a:lnTo>
                <a:lnTo>
                  <a:pt x="0" y="1752"/>
                </a:lnTo>
                <a:lnTo>
                  <a:pt x="0" y="0"/>
                </a:lnTo>
              </a:path>
            </a:pathLst>
          </a:custGeom>
          <a:solidFill>
            <a:srgbClr val="5f5f5f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1:  Graphical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2781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Optimal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7062120" y="556092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2038320" y="5803920"/>
            <a:ext cx="486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Line 7"/>
          <p:cNvSpPr/>
          <p:nvPr/>
        </p:nvSpPr>
        <p:spPr>
          <a:xfrm>
            <a:off x="2044800" y="1936800"/>
            <a:ext cx="0" cy="3873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1649160" y="138744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2266920" y="3073320"/>
            <a:ext cx="3225960" cy="2235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3395520" y="1617840"/>
            <a:ext cx="3235680" cy="114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aximum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bjective Function Lin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7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= 4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Line 11"/>
          <p:cNvSpPr/>
          <p:nvPr/>
        </p:nvSpPr>
        <p:spPr>
          <a:xfrm flipH="1">
            <a:off x="2889360" y="2692440"/>
            <a:ext cx="583920" cy="730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Oval 12"/>
          <p:cNvSpPr/>
          <p:nvPr/>
        </p:nvSpPr>
        <p:spPr>
          <a:xfrm>
            <a:off x="4299120" y="448956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Line 13"/>
          <p:cNvSpPr/>
          <p:nvPr/>
        </p:nvSpPr>
        <p:spPr>
          <a:xfrm flipH="1">
            <a:off x="4328640" y="4578480"/>
            <a:ext cx="3240" cy="1212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Line 14"/>
          <p:cNvSpPr/>
          <p:nvPr/>
        </p:nvSpPr>
        <p:spPr>
          <a:xfrm flipH="1">
            <a:off x="2107800" y="4532400"/>
            <a:ext cx="2235240" cy="32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Line 15"/>
          <p:cNvSpPr/>
          <p:nvPr/>
        </p:nvSpPr>
        <p:spPr>
          <a:xfrm flipH="1">
            <a:off x="4451040" y="3727440"/>
            <a:ext cx="584280" cy="730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Rectangle 16"/>
          <p:cNvSpPr/>
          <p:nvPr/>
        </p:nvSpPr>
        <p:spPr>
          <a:xfrm>
            <a:off x="4983840" y="2938320"/>
            <a:ext cx="2385000" cy="8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ptimal Solut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= 5,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= 3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1652760" y="213048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2093400" y="588960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89" name="Group 19"/>
          <p:cNvGrpSpPr/>
          <p:nvPr/>
        </p:nvGrpSpPr>
        <p:grpSpPr>
          <a:xfrm>
            <a:off x="1968480" y="2311560"/>
            <a:ext cx="139680" cy="3111480"/>
            <a:chOff x="1968480" y="2311560"/>
            <a:chExt cx="139680" cy="3111480"/>
          </a:xfrm>
        </p:grpSpPr>
        <p:sp>
          <p:nvSpPr>
            <p:cNvPr id="390" name="Line 20"/>
            <p:cNvSpPr/>
            <p:nvPr/>
          </p:nvSpPr>
          <p:spPr>
            <a:xfrm>
              <a:off x="1968480" y="2311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1" name="Line 21"/>
            <p:cNvSpPr/>
            <p:nvPr/>
          </p:nvSpPr>
          <p:spPr>
            <a:xfrm>
              <a:off x="1968480" y="2756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2" name="Line 22"/>
            <p:cNvSpPr/>
            <p:nvPr/>
          </p:nvSpPr>
          <p:spPr>
            <a:xfrm>
              <a:off x="1968480" y="32007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3" name="Line 23"/>
            <p:cNvSpPr/>
            <p:nvPr/>
          </p:nvSpPr>
          <p:spPr>
            <a:xfrm>
              <a:off x="1968480" y="3645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4" name="Line 24"/>
            <p:cNvSpPr/>
            <p:nvPr/>
          </p:nvSpPr>
          <p:spPr>
            <a:xfrm>
              <a:off x="1968480" y="40896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5" name="Line 25"/>
            <p:cNvSpPr/>
            <p:nvPr/>
          </p:nvSpPr>
          <p:spPr>
            <a:xfrm>
              <a:off x="1968480" y="45342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6" name="Line 26"/>
            <p:cNvSpPr/>
            <p:nvPr/>
          </p:nvSpPr>
          <p:spPr>
            <a:xfrm>
              <a:off x="1968480" y="49788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7" name="Line 27"/>
            <p:cNvSpPr/>
            <p:nvPr/>
          </p:nvSpPr>
          <p:spPr>
            <a:xfrm>
              <a:off x="1968480" y="54230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98" name="Group 28"/>
          <p:cNvGrpSpPr/>
          <p:nvPr/>
        </p:nvGrpSpPr>
        <p:grpSpPr>
          <a:xfrm>
            <a:off x="2424240" y="5744520"/>
            <a:ext cx="4294080" cy="145440"/>
            <a:chOff x="2424240" y="5744520"/>
            <a:chExt cx="4294080" cy="145440"/>
          </a:xfrm>
        </p:grpSpPr>
        <p:grpSp>
          <p:nvGrpSpPr>
            <p:cNvPr id="399" name="Group 29"/>
            <p:cNvGrpSpPr/>
            <p:nvPr/>
          </p:nvGrpSpPr>
          <p:grpSpPr>
            <a:xfrm>
              <a:off x="2424240" y="5750640"/>
              <a:ext cx="3327480" cy="139320"/>
              <a:chOff x="2424240" y="5750640"/>
              <a:chExt cx="3327480" cy="139320"/>
            </a:xfrm>
          </p:grpSpPr>
          <p:sp>
            <p:nvSpPr>
              <p:cNvPr id="400" name="Line 30"/>
              <p:cNvSpPr/>
              <p:nvPr/>
            </p:nvSpPr>
            <p:spPr>
              <a:xfrm>
                <a:off x="5751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1" name="Line 31"/>
              <p:cNvSpPr/>
              <p:nvPr/>
            </p:nvSpPr>
            <p:spPr>
              <a:xfrm>
                <a:off x="527688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2" name="Line 32"/>
              <p:cNvSpPr/>
              <p:nvPr/>
            </p:nvSpPr>
            <p:spPr>
              <a:xfrm>
                <a:off x="48006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3" name="Line 33"/>
              <p:cNvSpPr/>
              <p:nvPr/>
            </p:nvSpPr>
            <p:spPr>
              <a:xfrm>
                <a:off x="43261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4" name="Line 34"/>
              <p:cNvSpPr/>
              <p:nvPr/>
            </p:nvSpPr>
            <p:spPr>
              <a:xfrm>
                <a:off x="38498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5" name="Line 35"/>
              <p:cNvSpPr/>
              <p:nvPr/>
            </p:nvSpPr>
            <p:spPr>
              <a:xfrm>
                <a:off x="33750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6" name="Line 36"/>
              <p:cNvSpPr/>
              <p:nvPr/>
            </p:nvSpPr>
            <p:spPr>
              <a:xfrm>
                <a:off x="2898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7" name="Line 37"/>
              <p:cNvSpPr/>
              <p:nvPr/>
            </p:nvSpPr>
            <p:spPr>
              <a:xfrm>
                <a:off x="24242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408" name="Line 38"/>
            <p:cNvSpPr/>
            <p:nvPr/>
          </p:nvSpPr>
          <p:spPr>
            <a:xfrm>
              <a:off x="622944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9" name="Line 39"/>
            <p:cNvSpPr/>
            <p:nvPr/>
          </p:nvSpPr>
          <p:spPr>
            <a:xfrm>
              <a:off x="671832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CCF5-7C92-4170-BEFB-55162B1B327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820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Summary of the Graphical Solution Procedure for Maximization Probl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795672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pare a graph of the feasible solutions for each of the constrai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termine the feasible region that satisfies all the constraints simultaneous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aw an objective function li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ve parallel objective function lines towar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larg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bjective function values without entirely leaving the feasible reg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y feasible solution on the objective function line with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large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value is an optimal solu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0222-3B5D-4AFF-8F2D-8291C3E5E131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Slack and Surplus Variab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linear program in which all the variables are non-negative and all the constraints are equalities is said to be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tandard for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form is attained by add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lack variab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o "less than or equal to" constraints, and by subtract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rplus variab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rom "greater than or equal to" constraint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ack and surplus variables represent the difference between the left and right sides of the constrai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ack and surplus variables have objective function coefficients equal to 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358A-C4E7-4631-AF67-A0FBC0C6AA2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1751040" y="2266920"/>
            <a:ext cx="5562720" cy="388620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1760400" y="2908080"/>
            <a:ext cx="553248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Max     5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+ 7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+ 0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+ 0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+ 0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.t.    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          +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  =   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+ 3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+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  =  1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+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+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=    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SimSun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 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609480" y="1600200"/>
            <a:ext cx="52135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xample 1 in Standard 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Slack Variables (for </a:t>
            </a:r>
            <a:r>
              <a:rPr b="1" lang="en-US" sz="4400" spc="-1" strike="noStrike" u="sng">
                <a:solidFill>
                  <a:srgbClr val="00ffcc"/>
                </a:solidFill>
                <a:uFillTx/>
                <a:latin typeface="Book Antiqua"/>
              </a:rPr>
              <a:t>&lt;</a:t>
            </a: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 constraints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303120" y="5772240"/>
            <a:ext cx="2826000" cy="137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, and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r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ck variab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250E-D6F9-4C37-BC93-9182A8CB17B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687240" y="1009800"/>
            <a:ext cx="3194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Optimal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Slack Variab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6935040" y="562464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1917720" y="2000160"/>
            <a:ext cx="0" cy="3873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1522080" y="144792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Freeform 7"/>
          <p:cNvSpPr/>
          <p:nvPr/>
        </p:nvSpPr>
        <p:spPr>
          <a:xfrm>
            <a:off x="1943280" y="2400480"/>
            <a:ext cx="3682800" cy="3479760"/>
          </a:xfrm>
          <a:custGeom>
            <a:avLst/>
            <a:gdLst/>
            <a:ahLst/>
            <a:rect l="l" t="t" r="r" b="b"/>
            <a:pathLst>
              <a:path w="2296" h="2200">
                <a:moveTo>
                  <a:pt x="0" y="0"/>
                </a:moveTo>
                <a:lnTo>
                  <a:pt x="2296" y="22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Freeform 8"/>
          <p:cNvSpPr/>
          <p:nvPr/>
        </p:nvSpPr>
        <p:spPr>
          <a:xfrm>
            <a:off x="1924200" y="3124080"/>
            <a:ext cx="4413240" cy="2743200"/>
          </a:xfrm>
          <a:custGeom>
            <a:avLst/>
            <a:gdLst/>
            <a:ahLst/>
            <a:rect l="l" t="t" r="r" b="b"/>
            <a:pathLst>
              <a:path w="2732" h="1736">
                <a:moveTo>
                  <a:pt x="0" y="0"/>
                </a:moveTo>
                <a:lnTo>
                  <a:pt x="2732" y="173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Freeform 9"/>
          <p:cNvSpPr/>
          <p:nvPr/>
        </p:nvSpPr>
        <p:spPr>
          <a:xfrm>
            <a:off x="1917720" y="3117960"/>
            <a:ext cx="2754360" cy="2755800"/>
          </a:xfrm>
          <a:custGeom>
            <a:avLst/>
            <a:gdLst>
              <a:gd name="textAreaLeft" fmla="*/ 0 w 2754360"/>
              <a:gd name="textAreaRight" fmla="*/ 2754720 w 2754360"/>
              <a:gd name="textAreaTop" fmla="*/ 0 h 2755800"/>
              <a:gd name="textAreaBottom" fmla="*/ 2756160 h 2755800"/>
            </a:gdLst>
            <a:ahLst/>
            <a:rect l="textAreaLeft" t="textAreaTop" r="textAreaRight" b="textAreaBottom"/>
            <a:pathLst>
              <a:path w="1735" h="1736">
                <a:moveTo>
                  <a:pt x="0" y="20"/>
                </a:moveTo>
                <a:lnTo>
                  <a:pt x="1452" y="907"/>
                </a:lnTo>
                <a:lnTo>
                  <a:pt x="1735" y="1177"/>
                </a:lnTo>
                <a:lnTo>
                  <a:pt x="1732" y="1732"/>
                </a:lnTo>
                <a:lnTo>
                  <a:pt x="16" y="1736"/>
                </a:lnTo>
                <a:lnTo>
                  <a:pt x="8" y="0"/>
                </a:lnTo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1525680" y="218124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1966320" y="595296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5850000" y="3735360"/>
            <a:ext cx="196524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Secon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Constraint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+ 3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 = 19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Line 13"/>
          <p:cNvSpPr/>
          <p:nvPr/>
        </p:nvSpPr>
        <p:spPr>
          <a:xfrm flipH="1">
            <a:off x="2317680" y="2400480"/>
            <a:ext cx="279360" cy="311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Line 14"/>
          <p:cNvSpPr/>
          <p:nvPr/>
        </p:nvSpPr>
        <p:spPr>
          <a:xfrm flipH="1">
            <a:off x="4730400" y="26668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Line 15"/>
          <p:cNvSpPr/>
          <p:nvPr/>
        </p:nvSpPr>
        <p:spPr>
          <a:xfrm flipH="1">
            <a:off x="5250960" y="4762440"/>
            <a:ext cx="584280" cy="349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2570760" y="1465200"/>
            <a:ext cx="162612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nstraint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=  8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5056920" y="1852560"/>
            <a:ext cx="162612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Firs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Constraint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=  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39" name="Group 18"/>
          <p:cNvGrpSpPr/>
          <p:nvPr/>
        </p:nvGrpSpPr>
        <p:grpSpPr>
          <a:xfrm>
            <a:off x="1841400" y="2362320"/>
            <a:ext cx="139680" cy="3111480"/>
            <a:chOff x="1841400" y="2362320"/>
            <a:chExt cx="139680" cy="3111480"/>
          </a:xfrm>
        </p:grpSpPr>
        <p:sp>
          <p:nvSpPr>
            <p:cNvPr id="440" name="Line 19"/>
            <p:cNvSpPr/>
            <p:nvPr/>
          </p:nvSpPr>
          <p:spPr>
            <a:xfrm>
              <a:off x="1841400" y="236232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1" name="Line 20"/>
            <p:cNvSpPr/>
            <p:nvPr/>
          </p:nvSpPr>
          <p:spPr>
            <a:xfrm>
              <a:off x="1841400" y="280692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2" name="Line 21"/>
            <p:cNvSpPr/>
            <p:nvPr/>
          </p:nvSpPr>
          <p:spPr>
            <a:xfrm>
              <a:off x="1841400" y="325152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3" name="Line 22"/>
            <p:cNvSpPr/>
            <p:nvPr/>
          </p:nvSpPr>
          <p:spPr>
            <a:xfrm>
              <a:off x="1841400" y="369612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4" name="Line 23"/>
            <p:cNvSpPr/>
            <p:nvPr/>
          </p:nvSpPr>
          <p:spPr>
            <a:xfrm>
              <a:off x="1841400" y="4140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5" name="Line 24"/>
            <p:cNvSpPr/>
            <p:nvPr/>
          </p:nvSpPr>
          <p:spPr>
            <a:xfrm>
              <a:off x="1841400" y="45849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6" name="Line 25"/>
            <p:cNvSpPr/>
            <p:nvPr/>
          </p:nvSpPr>
          <p:spPr>
            <a:xfrm>
              <a:off x="1841400" y="5029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7" name="Line 26"/>
            <p:cNvSpPr/>
            <p:nvPr/>
          </p:nvSpPr>
          <p:spPr>
            <a:xfrm>
              <a:off x="1841400" y="54738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48" name="Line 27"/>
          <p:cNvSpPr/>
          <p:nvPr/>
        </p:nvSpPr>
        <p:spPr>
          <a:xfrm>
            <a:off x="1911240" y="5867280"/>
            <a:ext cx="486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2297160" y="5808600"/>
            <a:ext cx="4294080" cy="146160"/>
            <a:chOff x="2297160" y="5808600"/>
            <a:chExt cx="4294080" cy="146160"/>
          </a:xfrm>
        </p:grpSpPr>
        <p:grpSp>
          <p:nvGrpSpPr>
            <p:cNvPr id="450" name="Group 29"/>
            <p:cNvGrpSpPr/>
            <p:nvPr/>
          </p:nvGrpSpPr>
          <p:grpSpPr>
            <a:xfrm>
              <a:off x="2297160" y="5815080"/>
              <a:ext cx="3327480" cy="139680"/>
              <a:chOff x="2297160" y="5815080"/>
              <a:chExt cx="3327480" cy="139680"/>
            </a:xfrm>
          </p:grpSpPr>
          <p:sp>
            <p:nvSpPr>
              <p:cNvPr id="451" name="Line 30"/>
              <p:cNvSpPr/>
              <p:nvPr/>
            </p:nvSpPr>
            <p:spPr>
              <a:xfrm>
                <a:off x="5624640" y="581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2" name="Line 31"/>
              <p:cNvSpPr/>
              <p:nvPr/>
            </p:nvSpPr>
            <p:spPr>
              <a:xfrm>
                <a:off x="5149800" y="581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3" name="Line 32"/>
              <p:cNvSpPr/>
              <p:nvPr/>
            </p:nvSpPr>
            <p:spPr>
              <a:xfrm>
                <a:off x="4673520" y="581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4" name="Line 33"/>
              <p:cNvSpPr/>
              <p:nvPr/>
            </p:nvSpPr>
            <p:spPr>
              <a:xfrm>
                <a:off x="4199040" y="581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5" name="Line 34"/>
              <p:cNvSpPr/>
              <p:nvPr/>
            </p:nvSpPr>
            <p:spPr>
              <a:xfrm>
                <a:off x="3722760" y="581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6" name="Line 35"/>
              <p:cNvSpPr/>
              <p:nvPr/>
            </p:nvSpPr>
            <p:spPr>
              <a:xfrm>
                <a:off x="3247920" y="581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7" name="Line 36"/>
              <p:cNvSpPr/>
              <p:nvPr/>
            </p:nvSpPr>
            <p:spPr>
              <a:xfrm>
                <a:off x="2771640" y="581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8" name="Line 37"/>
              <p:cNvSpPr/>
              <p:nvPr/>
            </p:nvSpPr>
            <p:spPr>
              <a:xfrm>
                <a:off x="2297160" y="581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459" name="Line 38"/>
            <p:cNvSpPr/>
            <p:nvPr/>
          </p:nvSpPr>
          <p:spPr>
            <a:xfrm>
              <a:off x="6102360" y="58086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0" name="Line 39"/>
            <p:cNvSpPr/>
            <p:nvPr/>
          </p:nvSpPr>
          <p:spPr>
            <a:xfrm>
              <a:off x="6591240" y="58086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61" name="Line 40"/>
          <p:cNvSpPr/>
          <p:nvPr/>
        </p:nvSpPr>
        <p:spPr>
          <a:xfrm flipV="1">
            <a:off x="4667400" y="1968120"/>
            <a:ext cx="0" cy="3886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Oval 41"/>
          <p:cNvSpPr/>
          <p:nvPr/>
        </p:nvSpPr>
        <p:spPr>
          <a:xfrm>
            <a:off x="4172040" y="45147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Rectangle 42"/>
          <p:cNvSpPr/>
          <p:nvPr/>
        </p:nvSpPr>
        <p:spPr>
          <a:xfrm>
            <a:off x="2211120" y="4589640"/>
            <a:ext cx="1883880" cy="114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ptim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lut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= 5,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= 3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Line 43"/>
          <p:cNvSpPr/>
          <p:nvPr/>
        </p:nvSpPr>
        <p:spPr>
          <a:xfrm flipV="1">
            <a:off x="3727440" y="4603680"/>
            <a:ext cx="419040" cy="146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AutoShape 44"/>
          <p:cNvSpPr/>
          <p:nvPr/>
        </p:nvSpPr>
        <p:spPr>
          <a:xfrm>
            <a:off x="5384880" y="2892240"/>
            <a:ext cx="1000080" cy="52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= 1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AutoShape 45"/>
          <p:cNvSpPr/>
          <p:nvPr/>
        </p:nvSpPr>
        <p:spPr>
          <a:xfrm>
            <a:off x="6350040" y="4911480"/>
            <a:ext cx="1000080" cy="52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AutoShape 46"/>
          <p:cNvSpPr/>
          <p:nvPr/>
        </p:nvSpPr>
        <p:spPr>
          <a:xfrm>
            <a:off x="2895480" y="2498400"/>
            <a:ext cx="1000080" cy="52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24E1-1CA3-44FE-95E6-835B457011F8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treme Points and the Optimal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rners or vertices of the feasible region are referred to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treme poi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optimal solution to an LP problem can be found at an extreme point of the feasible reg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looking for the optimal solution, you do not have to evaluate all feasible solution poi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have to consider only the extreme points of the feasible reg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6E79-04ED-45F0-9489-CA9D8058E5A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Linear Programm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87240" y="1009800"/>
            <a:ext cx="8020080" cy="29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Linear programming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has nothing to do with computer programm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The use of the word “programming” here means “choosing a course of action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Linear programming involves choosing a course of action when the mathematical model of the problem contains only linear func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DEEB-2D6A-43BA-B9AA-C65F1EB04CE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1:  Extreme Poi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6949440" y="582444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2027160" y="6067440"/>
            <a:ext cx="486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Freeform 5"/>
          <p:cNvSpPr/>
          <p:nvPr/>
        </p:nvSpPr>
        <p:spPr>
          <a:xfrm>
            <a:off x="1957320" y="3324240"/>
            <a:ext cx="2832120" cy="2743200"/>
          </a:xfrm>
          <a:custGeom>
            <a:avLst/>
            <a:gdLst/>
            <a:ahLst/>
            <a:rect l="l" t="t" r="r" b="b"/>
            <a:pathLst>
              <a:path w="1784" h="1728">
                <a:moveTo>
                  <a:pt x="8" y="8"/>
                </a:moveTo>
                <a:lnTo>
                  <a:pt x="1466" y="936"/>
                </a:lnTo>
                <a:lnTo>
                  <a:pt x="1784" y="1232"/>
                </a:lnTo>
                <a:lnTo>
                  <a:pt x="1784" y="1728"/>
                </a:lnTo>
                <a:lnTo>
                  <a:pt x="0" y="1728"/>
                </a:lnTo>
                <a:lnTo>
                  <a:pt x="8" y="0"/>
                </a:lnTo>
              </a:path>
            </a:pathLst>
          </a:custGeom>
          <a:solidFill>
            <a:srgbClr val="5f5f5f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2710800" y="4800600"/>
            <a:ext cx="12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easibl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g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Oval 7"/>
          <p:cNvSpPr/>
          <p:nvPr/>
        </p:nvSpPr>
        <p:spPr>
          <a:xfrm>
            <a:off x="4268880" y="479124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Oval 8"/>
          <p:cNvSpPr/>
          <p:nvPr/>
        </p:nvSpPr>
        <p:spPr>
          <a:xfrm>
            <a:off x="4751280" y="524196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Oval 9"/>
          <p:cNvSpPr/>
          <p:nvPr/>
        </p:nvSpPr>
        <p:spPr>
          <a:xfrm>
            <a:off x="2077920" y="5610240"/>
            <a:ext cx="362160" cy="361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SimSu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Oval 10"/>
          <p:cNvSpPr/>
          <p:nvPr/>
        </p:nvSpPr>
        <p:spPr>
          <a:xfrm>
            <a:off x="4903920" y="5597640"/>
            <a:ext cx="361800" cy="361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SimSu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Oval 11"/>
          <p:cNvSpPr/>
          <p:nvPr/>
        </p:nvSpPr>
        <p:spPr>
          <a:xfrm>
            <a:off x="4903920" y="4943520"/>
            <a:ext cx="361800" cy="361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SimSun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Oval 12"/>
          <p:cNvSpPr/>
          <p:nvPr/>
        </p:nvSpPr>
        <p:spPr>
          <a:xfrm>
            <a:off x="4357800" y="4410000"/>
            <a:ext cx="361800" cy="3621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SimSun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Oval 13"/>
          <p:cNvSpPr/>
          <p:nvPr/>
        </p:nvSpPr>
        <p:spPr>
          <a:xfrm>
            <a:off x="2065320" y="3006720"/>
            <a:ext cx="361800" cy="361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SimSun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1599840" y="160020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1552680" y="243216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2069640" y="617868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87" name="Group 17"/>
          <p:cNvGrpSpPr/>
          <p:nvPr/>
        </p:nvGrpSpPr>
        <p:grpSpPr>
          <a:xfrm>
            <a:off x="2400480" y="6008040"/>
            <a:ext cx="4294080" cy="145440"/>
            <a:chOff x="2400480" y="6008040"/>
            <a:chExt cx="4294080" cy="145440"/>
          </a:xfrm>
        </p:grpSpPr>
        <p:grpSp>
          <p:nvGrpSpPr>
            <p:cNvPr id="488" name="Group 18"/>
            <p:cNvGrpSpPr/>
            <p:nvPr/>
          </p:nvGrpSpPr>
          <p:grpSpPr>
            <a:xfrm>
              <a:off x="2400480" y="6014160"/>
              <a:ext cx="3327480" cy="139320"/>
              <a:chOff x="2400480" y="6014160"/>
              <a:chExt cx="3327480" cy="139320"/>
            </a:xfrm>
          </p:grpSpPr>
          <p:sp>
            <p:nvSpPr>
              <p:cNvPr id="489" name="Line 19"/>
              <p:cNvSpPr/>
              <p:nvPr/>
            </p:nvSpPr>
            <p:spPr>
              <a:xfrm>
                <a:off x="5727960" y="601416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0" name="Line 20"/>
              <p:cNvSpPr/>
              <p:nvPr/>
            </p:nvSpPr>
            <p:spPr>
              <a:xfrm>
                <a:off x="5253120" y="601416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1" name="Line 21"/>
              <p:cNvSpPr/>
              <p:nvPr/>
            </p:nvSpPr>
            <p:spPr>
              <a:xfrm>
                <a:off x="4776840" y="601416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2" name="Line 22"/>
              <p:cNvSpPr/>
              <p:nvPr/>
            </p:nvSpPr>
            <p:spPr>
              <a:xfrm>
                <a:off x="4302360" y="601416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3" name="Line 23"/>
              <p:cNvSpPr/>
              <p:nvPr/>
            </p:nvSpPr>
            <p:spPr>
              <a:xfrm>
                <a:off x="3826080" y="601416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4" name="Line 24"/>
              <p:cNvSpPr/>
              <p:nvPr/>
            </p:nvSpPr>
            <p:spPr>
              <a:xfrm>
                <a:off x="3351240" y="601416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5" name="Line 25"/>
              <p:cNvSpPr/>
              <p:nvPr/>
            </p:nvSpPr>
            <p:spPr>
              <a:xfrm>
                <a:off x="2874960" y="601416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6" name="Line 26"/>
              <p:cNvSpPr/>
              <p:nvPr/>
            </p:nvSpPr>
            <p:spPr>
              <a:xfrm>
                <a:off x="2400480" y="601416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>
              <a:off x="6205680" y="600804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8" name="Line 28"/>
            <p:cNvSpPr/>
            <p:nvPr/>
          </p:nvSpPr>
          <p:spPr>
            <a:xfrm>
              <a:off x="6694560" y="600804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99" name="Oval 29"/>
          <p:cNvSpPr/>
          <p:nvPr/>
        </p:nvSpPr>
        <p:spPr>
          <a:xfrm>
            <a:off x="4738680" y="6022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Line 30"/>
          <p:cNvSpPr/>
          <p:nvPr/>
        </p:nvSpPr>
        <p:spPr>
          <a:xfrm>
            <a:off x="1957320" y="2187720"/>
            <a:ext cx="0" cy="387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Oval 31"/>
          <p:cNvSpPr/>
          <p:nvPr/>
        </p:nvSpPr>
        <p:spPr>
          <a:xfrm>
            <a:off x="1919160" y="331164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Oval 32"/>
          <p:cNvSpPr/>
          <p:nvPr/>
        </p:nvSpPr>
        <p:spPr>
          <a:xfrm>
            <a:off x="1919160" y="6022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03" name="Group 33"/>
          <p:cNvGrpSpPr/>
          <p:nvPr/>
        </p:nvGrpSpPr>
        <p:grpSpPr>
          <a:xfrm>
            <a:off x="1881360" y="2612880"/>
            <a:ext cx="139680" cy="3111480"/>
            <a:chOff x="1881360" y="2612880"/>
            <a:chExt cx="139680" cy="3111480"/>
          </a:xfrm>
        </p:grpSpPr>
        <p:sp>
          <p:nvSpPr>
            <p:cNvPr id="504" name="Line 34"/>
            <p:cNvSpPr/>
            <p:nvPr/>
          </p:nvSpPr>
          <p:spPr>
            <a:xfrm>
              <a:off x="1881360" y="26128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05" name="Line 35"/>
            <p:cNvSpPr/>
            <p:nvPr/>
          </p:nvSpPr>
          <p:spPr>
            <a:xfrm>
              <a:off x="1881360" y="30574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06" name="Line 36"/>
            <p:cNvSpPr/>
            <p:nvPr/>
          </p:nvSpPr>
          <p:spPr>
            <a:xfrm>
              <a:off x="1881360" y="35020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07" name="Line 37"/>
            <p:cNvSpPr/>
            <p:nvPr/>
          </p:nvSpPr>
          <p:spPr>
            <a:xfrm>
              <a:off x="1881360" y="39466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08" name="Line 38"/>
            <p:cNvSpPr/>
            <p:nvPr/>
          </p:nvSpPr>
          <p:spPr>
            <a:xfrm>
              <a:off x="1881360" y="439092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09" name="Line 39"/>
            <p:cNvSpPr/>
            <p:nvPr/>
          </p:nvSpPr>
          <p:spPr>
            <a:xfrm>
              <a:off x="1881360" y="483552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0" name="Line 40"/>
            <p:cNvSpPr/>
            <p:nvPr/>
          </p:nvSpPr>
          <p:spPr>
            <a:xfrm>
              <a:off x="1881360" y="528012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1" name="Line 41"/>
            <p:cNvSpPr/>
            <p:nvPr/>
          </p:nvSpPr>
          <p:spPr>
            <a:xfrm>
              <a:off x="1881360" y="5724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12" name="Text Box 42"/>
          <p:cNvSpPr/>
          <p:nvPr/>
        </p:nvSpPr>
        <p:spPr>
          <a:xfrm>
            <a:off x="2428200" y="2978280"/>
            <a:ext cx="124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0, 6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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3" name="Text Box 43"/>
          <p:cNvSpPr/>
          <p:nvPr/>
        </p:nvSpPr>
        <p:spPr>
          <a:xfrm>
            <a:off x="4738680" y="436572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5, 3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AutoShape 44"/>
          <p:cNvSpPr/>
          <p:nvPr/>
        </p:nvSpPr>
        <p:spPr>
          <a:xfrm>
            <a:off x="2429640" y="5565600"/>
            <a:ext cx="862200" cy="475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0, 0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Text Box 45"/>
          <p:cNvSpPr/>
          <p:nvPr/>
        </p:nvSpPr>
        <p:spPr>
          <a:xfrm>
            <a:off x="5297760" y="491184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6, 2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Text Box 46"/>
          <p:cNvSpPr/>
          <p:nvPr/>
        </p:nvSpPr>
        <p:spPr>
          <a:xfrm>
            <a:off x="5259600" y="557208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6, 0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4DA6-1CEC-4C97-9971-BF195929641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Computer Sol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P problems involving 1000s of variables and 1000s of constraints are now routinely solved with computer packag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near programming solvers are now part of many spreadsheet packages, such as Microsoft Exc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ding commercial packages include CPLEX, LINGO, MOSEK, Xpress-MP, and Premium Solver for Exc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anagement Scientist, a package developed by the authors of your textbook, has an LP modu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D4AE-3F9D-4BD0-BC11-37DD4E1B1E3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Interpretation of Computer Outpu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is chapter we will discuss the following outpu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ective function val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lues of the decision vari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d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ack and surpl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next chapter we will discuss how an optimal solution is affected by a change 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efficient of the objective fun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ight-hand side value of a constrai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8F84-8AE3-42DC-BF1F-CDF33958995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1:  Spreadsheet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Partial Spreadsheet Showing Problem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029800" cy="21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289F-C84F-434F-9F78-9628FA4E165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1:  Spreadsheet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Partial Spreadsheet Showing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0892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C4EA-12C6-46EB-9838-88B73DAA53AA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990720" y="2895480"/>
            <a:ext cx="6286320" cy="379116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1:  Spreadsheet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  <a:ea typeface="SimSun"/>
              </a:rPr>
              <a:t>Interpretation of Computer Outp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We see from the previous slide that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Objective Function Value  =  4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Decision Variable #1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)   =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Decision Variable #2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)   =  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Slack in Constraint #1        =    6 –   5 =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Slack in Constraint #2        =  19 – 19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Slack in Constraint #3        =    8 –   8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D15A-0D82-4189-A809-85E8FD4BC85C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2806560" y="2330280"/>
            <a:ext cx="3530880" cy="287028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2:  A Simple Minimization 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301608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  <a:ea typeface="SimSun"/>
              </a:rPr>
              <a:t>LP Form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3011400" y="2457360"/>
            <a:ext cx="330840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Min      5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.t.        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5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378E-F7A0-4F3C-B144-25BE32C4B90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2:  Graphical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020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Graph th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Constraint 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 W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0, t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2; w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0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5.  Connect (5,0) and (0,2).  The "&gt;" side i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ove this li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Constraint 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 W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0, t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3.  But setting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0 will yiel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-12, which is not on the graph.  Thus, to get a second point on this line, s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y number larger than 3 and solve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 w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5, t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8.  Connect (3,0) and (5,8).  The "&gt;" side is to the righ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Constraint 3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 W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0, t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4; w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0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4.  Connect (4,0) and (0,4).  The "&gt;" side i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ove this li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2AC9-FB4C-401F-9D9D-AA26B0A4C8D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2:  Graphical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8769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Constraints Grap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Line 4"/>
          <p:cNvSpPr/>
          <p:nvPr/>
        </p:nvSpPr>
        <p:spPr>
          <a:xfrm>
            <a:off x="2082960" y="2427120"/>
            <a:ext cx="0" cy="3716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Line 5"/>
          <p:cNvSpPr/>
          <p:nvPr/>
        </p:nvSpPr>
        <p:spPr>
          <a:xfrm>
            <a:off x="2070000" y="3735360"/>
            <a:ext cx="2184480" cy="236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1850400" y="1830240"/>
            <a:ext cx="506160" cy="5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5593680" y="3232080"/>
            <a:ext cx="19569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1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5550120" y="4689360"/>
            <a:ext cx="211104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1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Rectangle 9"/>
          <p:cNvSpPr/>
          <p:nvPr/>
        </p:nvSpPr>
        <p:spPr>
          <a:xfrm>
            <a:off x="5861880" y="5856120"/>
            <a:ext cx="506160" cy="5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Rectangle 10"/>
          <p:cNvSpPr/>
          <p:nvPr/>
        </p:nvSpPr>
        <p:spPr>
          <a:xfrm>
            <a:off x="5357880" y="3979800"/>
            <a:ext cx="257040" cy="12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Freeform 11"/>
          <p:cNvSpPr/>
          <p:nvPr/>
        </p:nvSpPr>
        <p:spPr>
          <a:xfrm>
            <a:off x="3809880" y="2514600"/>
            <a:ext cx="1552680" cy="3600360"/>
          </a:xfrm>
          <a:custGeom>
            <a:avLst/>
            <a:gdLst>
              <a:gd name="textAreaLeft" fmla="*/ 0 w 1552680"/>
              <a:gd name="textAreaRight" fmla="*/ 1553040 w 155268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978" h="2268">
                <a:moveTo>
                  <a:pt x="0" y="1956"/>
                </a:moveTo>
                <a:lnTo>
                  <a:pt x="437" y="0"/>
                </a:lnTo>
                <a:lnTo>
                  <a:pt x="978" y="0"/>
                </a:lnTo>
                <a:lnTo>
                  <a:pt x="966" y="2268"/>
                </a:lnTo>
                <a:lnTo>
                  <a:pt x="609" y="2262"/>
                </a:lnTo>
                <a:lnTo>
                  <a:pt x="35" y="1998"/>
                </a:lnTo>
              </a:path>
            </a:pathLst>
          </a:custGeom>
          <a:gradFill rotWithShape="0">
            <a:gsLst>
              <a:gs pos="0">
                <a:srgbClr val="2c2c2c"/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4384800" y="3490920"/>
            <a:ext cx="1195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Line 13"/>
          <p:cNvSpPr/>
          <p:nvPr/>
        </p:nvSpPr>
        <p:spPr>
          <a:xfrm>
            <a:off x="2070000" y="6137280"/>
            <a:ext cx="3699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Line 14"/>
          <p:cNvSpPr/>
          <p:nvPr/>
        </p:nvSpPr>
        <p:spPr>
          <a:xfrm flipV="1">
            <a:off x="3710160" y="2527200"/>
            <a:ext cx="817560" cy="3587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Line 15"/>
          <p:cNvSpPr/>
          <p:nvPr/>
        </p:nvSpPr>
        <p:spPr>
          <a:xfrm>
            <a:off x="2089080" y="4930920"/>
            <a:ext cx="2727360" cy="1180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Line 16"/>
          <p:cNvSpPr/>
          <p:nvPr/>
        </p:nvSpPr>
        <p:spPr>
          <a:xfrm flipV="1">
            <a:off x="4478400" y="5030280"/>
            <a:ext cx="1130400" cy="871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Line 17"/>
          <p:cNvSpPr/>
          <p:nvPr/>
        </p:nvSpPr>
        <p:spPr>
          <a:xfrm flipV="1">
            <a:off x="3284640" y="4122720"/>
            <a:ext cx="2289240" cy="814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Line 18"/>
          <p:cNvSpPr/>
          <p:nvPr/>
        </p:nvSpPr>
        <p:spPr>
          <a:xfrm flipV="1">
            <a:off x="5022720" y="2736360"/>
            <a:ext cx="917640" cy="236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Rectangle 19"/>
          <p:cNvSpPr/>
          <p:nvPr/>
        </p:nvSpPr>
        <p:spPr>
          <a:xfrm>
            <a:off x="5874120" y="2509920"/>
            <a:ext cx="2235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easible Reg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2371320" y="6191280"/>
            <a:ext cx="36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4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1716120" y="2295360"/>
            <a:ext cx="326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64" name="Group 22"/>
          <p:cNvGrpSpPr/>
          <p:nvPr/>
        </p:nvGrpSpPr>
        <p:grpSpPr>
          <a:xfrm>
            <a:off x="2341440" y="6062760"/>
            <a:ext cx="3022560" cy="156960"/>
            <a:chOff x="2341440" y="6062760"/>
            <a:chExt cx="3022560" cy="156960"/>
          </a:xfrm>
        </p:grpSpPr>
        <p:sp>
          <p:nvSpPr>
            <p:cNvPr id="565" name="Line 23"/>
            <p:cNvSpPr/>
            <p:nvPr/>
          </p:nvSpPr>
          <p:spPr>
            <a:xfrm>
              <a:off x="481140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426060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371124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343656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9" name="Line 27"/>
            <p:cNvSpPr/>
            <p:nvPr/>
          </p:nvSpPr>
          <p:spPr>
            <a:xfrm>
              <a:off x="316224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0" name="Line 28"/>
            <p:cNvSpPr/>
            <p:nvPr/>
          </p:nvSpPr>
          <p:spPr>
            <a:xfrm>
              <a:off x="287964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1" name="Line 29"/>
            <p:cNvSpPr/>
            <p:nvPr/>
          </p:nvSpPr>
          <p:spPr>
            <a:xfrm>
              <a:off x="261612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2" name="Line 30"/>
            <p:cNvSpPr/>
            <p:nvPr/>
          </p:nvSpPr>
          <p:spPr>
            <a:xfrm>
              <a:off x="234144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3" name="Line 31"/>
            <p:cNvSpPr/>
            <p:nvPr/>
          </p:nvSpPr>
          <p:spPr>
            <a:xfrm>
              <a:off x="453384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4" name="Line 32"/>
            <p:cNvSpPr/>
            <p:nvPr/>
          </p:nvSpPr>
          <p:spPr>
            <a:xfrm>
              <a:off x="3987720" y="60721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5" name="Line 33"/>
            <p:cNvSpPr/>
            <p:nvPr/>
          </p:nvSpPr>
          <p:spPr>
            <a:xfrm>
              <a:off x="5087880" y="606276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6" name="Line 34"/>
            <p:cNvSpPr/>
            <p:nvPr/>
          </p:nvSpPr>
          <p:spPr>
            <a:xfrm>
              <a:off x="5364000" y="606276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577" name="Group 35"/>
          <p:cNvGrpSpPr/>
          <p:nvPr/>
        </p:nvGrpSpPr>
        <p:grpSpPr>
          <a:xfrm>
            <a:off x="2013120" y="2508120"/>
            <a:ext cx="118800" cy="3327480"/>
            <a:chOff x="2013120" y="2508120"/>
            <a:chExt cx="118800" cy="3327480"/>
          </a:xfrm>
        </p:grpSpPr>
        <p:sp>
          <p:nvSpPr>
            <p:cNvPr id="578" name="Line 36"/>
            <p:cNvSpPr/>
            <p:nvPr/>
          </p:nvSpPr>
          <p:spPr>
            <a:xfrm>
              <a:off x="2013120" y="31176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9" name="Line 37"/>
            <p:cNvSpPr/>
            <p:nvPr/>
          </p:nvSpPr>
          <p:spPr>
            <a:xfrm>
              <a:off x="2013120" y="37242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0" name="Line 38"/>
            <p:cNvSpPr/>
            <p:nvPr/>
          </p:nvSpPr>
          <p:spPr>
            <a:xfrm>
              <a:off x="2013120" y="43290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1" name="Line 39"/>
            <p:cNvSpPr/>
            <p:nvPr/>
          </p:nvSpPr>
          <p:spPr>
            <a:xfrm>
              <a:off x="2013120" y="463068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2" name="Line 40"/>
            <p:cNvSpPr/>
            <p:nvPr/>
          </p:nvSpPr>
          <p:spPr>
            <a:xfrm>
              <a:off x="2013120" y="493236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3" name="Line 41"/>
            <p:cNvSpPr/>
            <p:nvPr/>
          </p:nvSpPr>
          <p:spPr>
            <a:xfrm>
              <a:off x="2013120" y="52434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4" name="Line 42"/>
            <p:cNvSpPr/>
            <p:nvPr/>
          </p:nvSpPr>
          <p:spPr>
            <a:xfrm>
              <a:off x="2013120" y="553392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5" name="Line 43"/>
            <p:cNvSpPr/>
            <p:nvPr/>
          </p:nvSpPr>
          <p:spPr>
            <a:xfrm>
              <a:off x="2013120" y="58356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6" name="Line 44"/>
            <p:cNvSpPr/>
            <p:nvPr/>
          </p:nvSpPr>
          <p:spPr>
            <a:xfrm>
              <a:off x="2013120" y="342252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7" name="Line 45"/>
            <p:cNvSpPr/>
            <p:nvPr/>
          </p:nvSpPr>
          <p:spPr>
            <a:xfrm>
              <a:off x="2013120" y="402408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8" name="Line 46"/>
            <p:cNvSpPr/>
            <p:nvPr/>
          </p:nvSpPr>
          <p:spPr>
            <a:xfrm>
              <a:off x="2013120" y="250812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9" name="Line 47"/>
            <p:cNvSpPr/>
            <p:nvPr/>
          </p:nvSpPr>
          <p:spPr>
            <a:xfrm>
              <a:off x="2013120" y="281304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0" name="Rectangle 48"/>
          <p:cNvSpPr/>
          <p:nvPr/>
        </p:nvSpPr>
        <p:spPr>
          <a:xfrm>
            <a:off x="5590080" y="3851280"/>
            <a:ext cx="16311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3537-480F-4D6C-AE0C-1C3AD0E4ADC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2:  Graphical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Garamond"/>
                <a:ea typeface="SimSun"/>
              </a:rPr>
              <a:t>Graph the Objective Fun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Set the objective function equal to an arbitrary constant (say 20) and graph it.  For 5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+ 2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= 20, whe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= 0, the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= 10; whe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= 0, the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  <a:ea typeface="SimSu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 = 4.  Connect (4,0) and (0,10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Garamond"/>
                <a:ea typeface="SimSun"/>
              </a:rPr>
              <a:t>Move the Objective Function Line Toward Optim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SimSun"/>
              </a:rPr>
              <a:t>Move it in the direction which lowers its value (down), since we are minimizing, until it touches the last point of the feasible region, determined by the last two constrai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E210-AE57-4935-AD49-1F3A88C2441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Linear Programming (LP) 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aximiz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inimiz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some quantity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objectiv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all linear programming proble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LP problems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nstrai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at limit the degree to which the objective can be pursu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feasible solu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atisfies all the problem's constrai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optimal solu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 feasible solution that results in the largest possible objective function value when maximizing (or smallest when minimizing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graphical solution metho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n be used to solve a linear program with two variab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2D49-1D6B-470F-AA4C-4D1CD535D205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09480" y="380880"/>
            <a:ext cx="83059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Example 2:  Graphical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Line 3"/>
          <p:cNvSpPr/>
          <p:nvPr/>
        </p:nvSpPr>
        <p:spPr>
          <a:xfrm>
            <a:off x="2081160" y="2560680"/>
            <a:ext cx="0" cy="3716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Line 4"/>
          <p:cNvSpPr/>
          <p:nvPr/>
        </p:nvSpPr>
        <p:spPr>
          <a:xfrm>
            <a:off x="2087640" y="3849840"/>
            <a:ext cx="2171520" cy="242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1848600" y="1963800"/>
            <a:ext cx="506160" cy="5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5592240" y="3276720"/>
            <a:ext cx="19569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1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5548680" y="4822920"/>
            <a:ext cx="211104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1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5657040" y="6008760"/>
            <a:ext cx="506160" cy="5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5356080" y="4113360"/>
            <a:ext cx="257400" cy="12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Freeform 10"/>
          <p:cNvSpPr/>
          <p:nvPr/>
        </p:nvSpPr>
        <p:spPr>
          <a:xfrm>
            <a:off x="3827520" y="2657520"/>
            <a:ext cx="1555560" cy="3610080"/>
          </a:xfrm>
          <a:custGeom>
            <a:avLst/>
            <a:gdLst>
              <a:gd name="textAreaLeft" fmla="*/ 0 w 1555560"/>
              <a:gd name="textAreaRight" fmla="*/ 1555920 w 1555560"/>
              <a:gd name="textAreaTop" fmla="*/ 0 h 3610080"/>
              <a:gd name="textAreaBottom" fmla="*/ 3610440 h 3610080"/>
            </a:gdLst>
            <a:ahLst/>
            <a:rect l="textAreaLeft" t="textAreaTop" r="textAreaRight" b="textAreaBottom"/>
            <a:pathLst>
              <a:path w="980" h="2274">
                <a:moveTo>
                  <a:pt x="0" y="1962"/>
                </a:moveTo>
                <a:lnTo>
                  <a:pt x="439" y="0"/>
                </a:lnTo>
                <a:lnTo>
                  <a:pt x="980" y="0"/>
                </a:lnTo>
                <a:lnTo>
                  <a:pt x="968" y="2274"/>
                </a:lnTo>
                <a:lnTo>
                  <a:pt x="616" y="2274"/>
                </a:lnTo>
                <a:lnTo>
                  <a:pt x="56" y="2026"/>
                </a:lnTo>
              </a:path>
            </a:pathLst>
          </a:custGeom>
          <a:gradFill rotWithShape="0">
            <a:gsLst>
              <a:gs pos="0">
                <a:srgbClr val="2c2c2c"/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4" name="Line 11"/>
          <p:cNvSpPr/>
          <p:nvPr/>
        </p:nvSpPr>
        <p:spPr>
          <a:xfrm>
            <a:off x="4383000" y="3522600"/>
            <a:ext cx="1195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Line 12"/>
          <p:cNvSpPr/>
          <p:nvPr/>
        </p:nvSpPr>
        <p:spPr>
          <a:xfrm>
            <a:off x="2081160" y="6270480"/>
            <a:ext cx="3540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Line 13"/>
          <p:cNvSpPr/>
          <p:nvPr/>
        </p:nvSpPr>
        <p:spPr>
          <a:xfrm flipV="1">
            <a:off x="3708360" y="2660400"/>
            <a:ext cx="811080" cy="3606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Line 14"/>
          <p:cNvSpPr/>
          <p:nvPr/>
        </p:nvSpPr>
        <p:spPr>
          <a:xfrm>
            <a:off x="2081160" y="5070600"/>
            <a:ext cx="2727360" cy="1199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Line 15"/>
          <p:cNvSpPr/>
          <p:nvPr/>
        </p:nvSpPr>
        <p:spPr>
          <a:xfrm flipV="1">
            <a:off x="4572000" y="5164200"/>
            <a:ext cx="1035000" cy="922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Line 16"/>
          <p:cNvSpPr/>
          <p:nvPr/>
        </p:nvSpPr>
        <p:spPr>
          <a:xfrm flipV="1">
            <a:off x="3282840" y="4255560"/>
            <a:ext cx="2289240" cy="814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0" name="Line 17"/>
          <p:cNvSpPr/>
          <p:nvPr/>
        </p:nvSpPr>
        <p:spPr>
          <a:xfrm flipV="1">
            <a:off x="3103560" y="2437920"/>
            <a:ext cx="917640" cy="236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Text Box 18"/>
          <p:cNvSpPr/>
          <p:nvPr/>
        </p:nvSpPr>
        <p:spPr>
          <a:xfrm>
            <a:off x="2369880" y="6324480"/>
            <a:ext cx="36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4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Text Box 19"/>
          <p:cNvSpPr/>
          <p:nvPr/>
        </p:nvSpPr>
        <p:spPr>
          <a:xfrm>
            <a:off x="1714680" y="2428920"/>
            <a:ext cx="326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13" name="Group 20"/>
          <p:cNvGrpSpPr/>
          <p:nvPr/>
        </p:nvGrpSpPr>
        <p:grpSpPr>
          <a:xfrm>
            <a:off x="2340000" y="6195960"/>
            <a:ext cx="3022560" cy="156960"/>
            <a:chOff x="2340000" y="6195960"/>
            <a:chExt cx="3022560" cy="156960"/>
          </a:xfrm>
        </p:grpSpPr>
        <p:sp>
          <p:nvSpPr>
            <p:cNvPr id="614" name="Line 21"/>
            <p:cNvSpPr/>
            <p:nvPr/>
          </p:nvSpPr>
          <p:spPr>
            <a:xfrm>
              <a:off x="480996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5" name="Line 22"/>
            <p:cNvSpPr/>
            <p:nvPr/>
          </p:nvSpPr>
          <p:spPr>
            <a:xfrm>
              <a:off x="426060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6" name="Line 23"/>
            <p:cNvSpPr/>
            <p:nvPr/>
          </p:nvSpPr>
          <p:spPr>
            <a:xfrm>
              <a:off x="371160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7" name="Line 24"/>
            <p:cNvSpPr/>
            <p:nvPr/>
          </p:nvSpPr>
          <p:spPr>
            <a:xfrm>
              <a:off x="343512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8" name="Line 25"/>
            <p:cNvSpPr/>
            <p:nvPr/>
          </p:nvSpPr>
          <p:spPr>
            <a:xfrm>
              <a:off x="316224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9" name="Line 26"/>
            <p:cNvSpPr/>
            <p:nvPr/>
          </p:nvSpPr>
          <p:spPr>
            <a:xfrm>
              <a:off x="287964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0" name="Line 27"/>
            <p:cNvSpPr/>
            <p:nvPr/>
          </p:nvSpPr>
          <p:spPr>
            <a:xfrm>
              <a:off x="261612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1" name="Line 28"/>
            <p:cNvSpPr/>
            <p:nvPr/>
          </p:nvSpPr>
          <p:spPr>
            <a:xfrm>
              <a:off x="234000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2" name="Line 29"/>
            <p:cNvSpPr/>
            <p:nvPr/>
          </p:nvSpPr>
          <p:spPr>
            <a:xfrm>
              <a:off x="453384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3" name="Line 30"/>
            <p:cNvSpPr/>
            <p:nvPr/>
          </p:nvSpPr>
          <p:spPr>
            <a:xfrm>
              <a:off x="398772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4" name="Line 31"/>
            <p:cNvSpPr/>
            <p:nvPr/>
          </p:nvSpPr>
          <p:spPr>
            <a:xfrm>
              <a:off x="5086440" y="619596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5362560" y="619596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626" name="Group 33"/>
          <p:cNvGrpSpPr/>
          <p:nvPr/>
        </p:nvGrpSpPr>
        <p:grpSpPr>
          <a:xfrm>
            <a:off x="2011320" y="2641680"/>
            <a:ext cx="119160" cy="3327480"/>
            <a:chOff x="2011320" y="2641680"/>
            <a:chExt cx="119160" cy="3327480"/>
          </a:xfrm>
        </p:grpSpPr>
        <p:sp>
          <p:nvSpPr>
            <p:cNvPr id="627" name="Line 34"/>
            <p:cNvSpPr/>
            <p:nvPr/>
          </p:nvSpPr>
          <p:spPr>
            <a:xfrm>
              <a:off x="2011320" y="32511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2011320" y="38577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2011320" y="44625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2011320" y="476424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1" name="Line 38"/>
            <p:cNvSpPr/>
            <p:nvPr/>
          </p:nvSpPr>
          <p:spPr>
            <a:xfrm>
              <a:off x="2011320" y="506592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2" name="Line 39"/>
            <p:cNvSpPr/>
            <p:nvPr/>
          </p:nvSpPr>
          <p:spPr>
            <a:xfrm>
              <a:off x="2011320" y="53769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3" name="Line 40"/>
            <p:cNvSpPr/>
            <p:nvPr/>
          </p:nvSpPr>
          <p:spPr>
            <a:xfrm>
              <a:off x="2011320" y="56674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4" name="Line 41"/>
            <p:cNvSpPr/>
            <p:nvPr/>
          </p:nvSpPr>
          <p:spPr>
            <a:xfrm>
              <a:off x="2011320" y="59691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5" name="Line 42"/>
            <p:cNvSpPr/>
            <p:nvPr/>
          </p:nvSpPr>
          <p:spPr>
            <a:xfrm>
              <a:off x="2011320" y="35560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6" name="Line 43"/>
            <p:cNvSpPr/>
            <p:nvPr/>
          </p:nvSpPr>
          <p:spPr>
            <a:xfrm>
              <a:off x="2011320" y="415764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7" name="Line 44"/>
            <p:cNvSpPr/>
            <p:nvPr/>
          </p:nvSpPr>
          <p:spPr>
            <a:xfrm>
              <a:off x="2011320" y="26416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8" name="Line 45"/>
            <p:cNvSpPr/>
            <p:nvPr/>
          </p:nvSpPr>
          <p:spPr>
            <a:xfrm>
              <a:off x="2011320" y="29466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39" name="Rectangle 46"/>
          <p:cNvSpPr/>
          <p:nvPr/>
        </p:nvSpPr>
        <p:spPr>
          <a:xfrm>
            <a:off x="5588640" y="3984480"/>
            <a:ext cx="16311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Rectangle 47"/>
          <p:cNvSpPr/>
          <p:nvPr/>
        </p:nvSpPr>
        <p:spPr>
          <a:xfrm>
            <a:off x="685800" y="1523880"/>
            <a:ext cx="5048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Objective Function Grap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41" name="Group 48"/>
          <p:cNvGrpSpPr/>
          <p:nvPr/>
        </p:nvGrpSpPr>
        <p:grpSpPr>
          <a:xfrm>
            <a:off x="2406600" y="2313000"/>
            <a:ext cx="2061720" cy="4280040"/>
            <a:chOff x="2406600" y="2313000"/>
            <a:chExt cx="2061720" cy="4280040"/>
          </a:xfrm>
        </p:grpSpPr>
        <p:sp>
          <p:nvSpPr>
            <p:cNvPr id="642" name="Line 49"/>
            <p:cNvSpPr/>
            <p:nvPr/>
          </p:nvSpPr>
          <p:spPr>
            <a:xfrm flipH="1">
              <a:off x="4009320" y="6394680"/>
              <a:ext cx="43668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3" name="Line 50"/>
            <p:cNvSpPr/>
            <p:nvPr/>
          </p:nvSpPr>
          <p:spPr>
            <a:xfrm flipH="1">
              <a:off x="2406600" y="2319480"/>
              <a:ext cx="43488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4" name="Line 51"/>
            <p:cNvSpPr/>
            <p:nvPr/>
          </p:nvSpPr>
          <p:spPr>
            <a:xfrm flipH="1" flipV="1">
              <a:off x="2829960" y="2313000"/>
              <a:ext cx="1638360" cy="4081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45" name="Rectangle 52"/>
          <p:cNvSpPr/>
          <p:nvPr/>
        </p:nvSpPr>
        <p:spPr>
          <a:xfrm>
            <a:off x="4016160" y="2127240"/>
            <a:ext cx="198144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Min  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+ 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DD78-5A62-4DAF-A1F5-EEB827BF86F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1752480" y="5867280"/>
            <a:ext cx="5410440" cy="58428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2895480" y="4191120"/>
            <a:ext cx="3975120" cy="5839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3505320" y="2743200"/>
            <a:ext cx="1981080" cy="91440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1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Garamond"/>
              </a:rPr>
              <a:t>Solve for the Extreme Point at the Intersection of the Two Binding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1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 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ing these two equations giv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16  or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16/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stituting this in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4  gives: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4/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2:  Graphical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380880" y="5257800"/>
            <a:ext cx="802008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  <a:ea typeface="SimSun"/>
              </a:rPr>
              <a:t>Solve for the Optimal Value of the Objective Fu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= 5(16/5) + 2(4/5)  =   88/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2899-AC91-4DBD-9943-8F0362A8D800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380880" y="228600"/>
            <a:ext cx="85345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Example 2:  Graphical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Line 3"/>
          <p:cNvSpPr/>
          <p:nvPr/>
        </p:nvSpPr>
        <p:spPr>
          <a:xfrm>
            <a:off x="2004840" y="2560680"/>
            <a:ext cx="0" cy="3716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Line 4"/>
          <p:cNvSpPr/>
          <p:nvPr/>
        </p:nvSpPr>
        <p:spPr>
          <a:xfrm>
            <a:off x="1992240" y="3868560"/>
            <a:ext cx="2184480" cy="236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1772640" y="1963800"/>
            <a:ext cx="506160" cy="5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5515920" y="2743200"/>
            <a:ext cx="19569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1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5523120" y="5343480"/>
            <a:ext cx="211104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1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5625360" y="6002280"/>
            <a:ext cx="506160" cy="5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5280120" y="4113360"/>
            <a:ext cx="257040" cy="12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Freeform 10"/>
          <p:cNvSpPr/>
          <p:nvPr/>
        </p:nvSpPr>
        <p:spPr>
          <a:xfrm>
            <a:off x="3754440" y="2657520"/>
            <a:ext cx="1552680" cy="3603600"/>
          </a:xfrm>
          <a:custGeom>
            <a:avLst/>
            <a:gdLst>
              <a:gd name="textAreaLeft" fmla="*/ 0 w 1552680"/>
              <a:gd name="textAreaRight" fmla="*/ 1553040 w 1552680"/>
              <a:gd name="textAreaTop" fmla="*/ 0 h 3603600"/>
              <a:gd name="textAreaBottom" fmla="*/ 3603600 h 3603600"/>
            </a:gdLst>
            <a:ahLst/>
            <a:rect l="textAreaLeft" t="textAreaTop" r="textAreaRight" b="textAreaBottom"/>
            <a:pathLst>
              <a:path w="978" h="2270">
                <a:moveTo>
                  <a:pt x="0" y="1956"/>
                </a:moveTo>
                <a:lnTo>
                  <a:pt x="437" y="0"/>
                </a:lnTo>
                <a:lnTo>
                  <a:pt x="978" y="0"/>
                </a:lnTo>
                <a:lnTo>
                  <a:pt x="966" y="2270"/>
                </a:lnTo>
                <a:lnTo>
                  <a:pt x="618" y="2270"/>
                </a:lnTo>
                <a:lnTo>
                  <a:pt x="54" y="2022"/>
                </a:lnTo>
              </a:path>
            </a:pathLst>
          </a:custGeom>
          <a:gradFill rotWithShape="0">
            <a:gsLst>
              <a:gs pos="0">
                <a:srgbClr val="2c2c2c"/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Line 11"/>
          <p:cNvSpPr/>
          <p:nvPr/>
        </p:nvSpPr>
        <p:spPr>
          <a:xfrm>
            <a:off x="4446720" y="2976480"/>
            <a:ext cx="1068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Line 12"/>
          <p:cNvSpPr/>
          <p:nvPr/>
        </p:nvSpPr>
        <p:spPr>
          <a:xfrm>
            <a:off x="2004840" y="6270480"/>
            <a:ext cx="3552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Line 13"/>
          <p:cNvSpPr/>
          <p:nvPr/>
        </p:nvSpPr>
        <p:spPr>
          <a:xfrm flipV="1">
            <a:off x="3645000" y="2660400"/>
            <a:ext cx="804600" cy="36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Line 14"/>
          <p:cNvSpPr/>
          <p:nvPr/>
        </p:nvSpPr>
        <p:spPr>
          <a:xfrm>
            <a:off x="1998720" y="5070600"/>
            <a:ext cx="2739960" cy="1199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Line 15"/>
          <p:cNvSpPr/>
          <p:nvPr/>
        </p:nvSpPr>
        <p:spPr>
          <a:xfrm flipV="1">
            <a:off x="4514760" y="5595840"/>
            <a:ext cx="1041480" cy="465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Line 16"/>
          <p:cNvSpPr/>
          <p:nvPr/>
        </p:nvSpPr>
        <p:spPr>
          <a:xfrm flipV="1">
            <a:off x="2990880" y="3672000"/>
            <a:ext cx="2543040" cy="1157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3821040" y="4660560"/>
            <a:ext cx="1647720" cy="1042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2293560" y="6324480"/>
            <a:ext cx="36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4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638360" y="2428920"/>
            <a:ext cx="326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72" name="Group 20"/>
          <p:cNvGrpSpPr/>
          <p:nvPr/>
        </p:nvGrpSpPr>
        <p:grpSpPr>
          <a:xfrm>
            <a:off x="2263680" y="6195960"/>
            <a:ext cx="3022560" cy="156960"/>
            <a:chOff x="2263680" y="6195960"/>
            <a:chExt cx="3022560" cy="156960"/>
          </a:xfrm>
        </p:grpSpPr>
        <p:sp>
          <p:nvSpPr>
            <p:cNvPr id="673" name="Line 21"/>
            <p:cNvSpPr/>
            <p:nvPr/>
          </p:nvSpPr>
          <p:spPr>
            <a:xfrm>
              <a:off x="473364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4" name="Line 22"/>
            <p:cNvSpPr/>
            <p:nvPr/>
          </p:nvSpPr>
          <p:spPr>
            <a:xfrm>
              <a:off x="418428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5" name="Line 23"/>
            <p:cNvSpPr/>
            <p:nvPr/>
          </p:nvSpPr>
          <p:spPr>
            <a:xfrm>
              <a:off x="363528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6" name="Line 24"/>
            <p:cNvSpPr/>
            <p:nvPr/>
          </p:nvSpPr>
          <p:spPr>
            <a:xfrm>
              <a:off x="335880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7" name="Line 25"/>
            <p:cNvSpPr/>
            <p:nvPr/>
          </p:nvSpPr>
          <p:spPr>
            <a:xfrm>
              <a:off x="308592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8" name="Line 26"/>
            <p:cNvSpPr/>
            <p:nvPr/>
          </p:nvSpPr>
          <p:spPr>
            <a:xfrm>
              <a:off x="280332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9" name="Line 27"/>
            <p:cNvSpPr/>
            <p:nvPr/>
          </p:nvSpPr>
          <p:spPr>
            <a:xfrm>
              <a:off x="253980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0" name="Line 28"/>
            <p:cNvSpPr/>
            <p:nvPr/>
          </p:nvSpPr>
          <p:spPr>
            <a:xfrm>
              <a:off x="226368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1" name="Line 29"/>
            <p:cNvSpPr/>
            <p:nvPr/>
          </p:nvSpPr>
          <p:spPr>
            <a:xfrm>
              <a:off x="445752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2" name="Line 30"/>
            <p:cNvSpPr/>
            <p:nvPr/>
          </p:nvSpPr>
          <p:spPr>
            <a:xfrm>
              <a:off x="3911400" y="620532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3" name="Line 31"/>
            <p:cNvSpPr/>
            <p:nvPr/>
          </p:nvSpPr>
          <p:spPr>
            <a:xfrm>
              <a:off x="5010120" y="619596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4" name="Line 32"/>
            <p:cNvSpPr/>
            <p:nvPr/>
          </p:nvSpPr>
          <p:spPr>
            <a:xfrm>
              <a:off x="5286240" y="619596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685" name="Group 33"/>
          <p:cNvGrpSpPr/>
          <p:nvPr/>
        </p:nvGrpSpPr>
        <p:grpSpPr>
          <a:xfrm>
            <a:off x="1935000" y="2641680"/>
            <a:ext cx="119160" cy="3327480"/>
            <a:chOff x="1935000" y="2641680"/>
            <a:chExt cx="119160" cy="3327480"/>
          </a:xfrm>
        </p:grpSpPr>
        <p:sp>
          <p:nvSpPr>
            <p:cNvPr id="686" name="Line 34"/>
            <p:cNvSpPr/>
            <p:nvPr/>
          </p:nvSpPr>
          <p:spPr>
            <a:xfrm>
              <a:off x="1935000" y="32511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7" name="Line 35"/>
            <p:cNvSpPr/>
            <p:nvPr/>
          </p:nvSpPr>
          <p:spPr>
            <a:xfrm>
              <a:off x="1935000" y="38577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8" name="Line 36"/>
            <p:cNvSpPr/>
            <p:nvPr/>
          </p:nvSpPr>
          <p:spPr>
            <a:xfrm>
              <a:off x="1935000" y="44625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9" name="Line 37"/>
            <p:cNvSpPr/>
            <p:nvPr/>
          </p:nvSpPr>
          <p:spPr>
            <a:xfrm>
              <a:off x="1935000" y="476424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0" name="Line 38"/>
            <p:cNvSpPr/>
            <p:nvPr/>
          </p:nvSpPr>
          <p:spPr>
            <a:xfrm>
              <a:off x="1935000" y="506592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1" name="Line 39"/>
            <p:cNvSpPr/>
            <p:nvPr/>
          </p:nvSpPr>
          <p:spPr>
            <a:xfrm>
              <a:off x="1935000" y="53769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2" name="Line 40"/>
            <p:cNvSpPr/>
            <p:nvPr/>
          </p:nvSpPr>
          <p:spPr>
            <a:xfrm>
              <a:off x="1935000" y="56674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3" name="Line 41"/>
            <p:cNvSpPr/>
            <p:nvPr/>
          </p:nvSpPr>
          <p:spPr>
            <a:xfrm>
              <a:off x="1935000" y="59691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4" name="Line 42"/>
            <p:cNvSpPr/>
            <p:nvPr/>
          </p:nvSpPr>
          <p:spPr>
            <a:xfrm>
              <a:off x="1935000" y="35560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5" name="Line 43"/>
            <p:cNvSpPr/>
            <p:nvPr/>
          </p:nvSpPr>
          <p:spPr>
            <a:xfrm>
              <a:off x="1935000" y="415764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6" name="Line 44"/>
            <p:cNvSpPr/>
            <p:nvPr/>
          </p:nvSpPr>
          <p:spPr>
            <a:xfrm>
              <a:off x="1935000" y="26416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7" name="Line 45"/>
            <p:cNvSpPr/>
            <p:nvPr/>
          </p:nvSpPr>
          <p:spPr>
            <a:xfrm>
              <a:off x="1935000" y="29466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98" name="Rectangle 46"/>
          <p:cNvSpPr/>
          <p:nvPr/>
        </p:nvSpPr>
        <p:spPr>
          <a:xfrm>
            <a:off x="5550480" y="3375000"/>
            <a:ext cx="16311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Rectangle 47"/>
          <p:cNvSpPr/>
          <p:nvPr/>
        </p:nvSpPr>
        <p:spPr>
          <a:xfrm>
            <a:off x="609480" y="1523880"/>
            <a:ext cx="3194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Optimal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AutoShape 48"/>
          <p:cNvSpPr/>
          <p:nvPr/>
        </p:nvSpPr>
        <p:spPr>
          <a:xfrm>
            <a:off x="5454720" y="3946680"/>
            <a:ext cx="2938320" cy="145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Optimal Solution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= 16/5, 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= 4/5,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+ 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= 17.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Oval 49"/>
          <p:cNvSpPr/>
          <p:nvPr/>
        </p:nvSpPr>
        <p:spPr>
          <a:xfrm>
            <a:off x="3713040" y="5711760"/>
            <a:ext cx="7488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011B-8D58-4E77-A4D2-8AD70609FAD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Rectangle 2"/>
          <p:cNvSpPr/>
          <p:nvPr/>
        </p:nvSpPr>
        <p:spPr>
          <a:xfrm>
            <a:off x="533520" y="762120"/>
            <a:ext cx="80820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Summary of the Graphical Solution Procedure</a:t>
            </a:r>
            <a:br>
              <a:rPr sz="4400"/>
            </a:b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for Minimization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Rectangle 3"/>
          <p:cNvSpPr/>
          <p:nvPr/>
        </p:nvSpPr>
        <p:spPr>
          <a:xfrm>
            <a:off x="838080" y="2362320"/>
            <a:ext cx="775332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pare a graph of the feasible solutions for each of the constrai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termine the feasible region that satisfies all the constraints simultaneous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raw an objective function li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ve parallel objective function lines towar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malle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bjective function values without entirely leaving the feasible reg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y feasible solution on the objective function line with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malles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value is an optimal solu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4CC8-407C-4FEC-AF64-6A159B3530C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Rectangle 2"/>
          <p:cNvSpPr/>
          <p:nvPr/>
        </p:nvSpPr>
        <p:spPr>
          <a:xfrm>
            <a:off x="685800" y="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Surplus Variab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687240" y="1009800"/>
            <a:ext cx="52135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xample 2 in Standard 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Rectangle 4"/>
          <p:cNvSpPr/>
          <p:nvPr/>
        </p:nvSpPr>
        <p:spPr>
          <a:xfrm>
            <a:off x="1816200" y="1670040"/>
            <a:ext cx="5562360" cy="287028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Rectangle 5"/>
          <p:cNvSpPr/>
          <p:nvPr/>
        </p:nvSpPr>
        <p:spPr>
          <a:xfrm>
            <a:off x="1969920" y="1797120"/>
            <a:ext cx="549288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Min      5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0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0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0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.t.        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5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,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,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,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AutoShape 6"/>
          <p:cNvSpPr/>
          <p:nvPr/>
        </p:nvSpPr>
        <p:spPr>
          <a:xfrm>
            <a:off x="1033560" y="3962520"/>
            <a:ext cx="2736720" cy="97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, and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rplus variab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BA2F-7481-4B63-900E-D6E2B778E5B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2:  Spreadsheet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Partial Spreadsheet Showing Problem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14" name="Picture 4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1694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E505-2103-47E4-B180-1718065B538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2:  Spreadsheet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Partial Spreadsheet Showing Formul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18" name="Picture 4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169120" cy="34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DABC-C1BC-4BBC-B655-5D02DA2456A0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2:  Spreadsheet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Partial Spreadsheet Showing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22" name="Picture 4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8169480" cy="34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7058-17E1-45D9-8730-A498CF913395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4" name="Rectangle 2"/>
          <p:cNvSpPr/>
          <p:nvPr/>
        </p:nvSpPr>
        <p:spPr>
          <a:xfrm>
            <a:off x="1562040" y="3352680"/>
            <a:ext cx="6311880" cy="29527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152280" y="457200"/>
            <a:ext cx="88394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Example 2:  Spreadsheet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685800" y="2209680"/>
            <a:ext cx="802008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  <a:ea typeface="SimSun"/>
              </a:rPr>
              <a:t>Interpretation of Computer Outp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We see from the previous slide that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Objective Function Value  =  17.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Decision Variable #1 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)   =    3.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Decision Variable #2 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)   =    0.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urplus in Constraint #1    =  10.4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10 = 0.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urplus in Constraint #2    =  12.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12 = 0.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urplus in Constraint #3    =    4.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4 = 0.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167C-47F7-44F5-9F51-3DA55700934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Special Cas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685800" y="1905120"/>
            <a:ext cx="79437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Infeasibi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No solution to the LP problem satisfies all the constraints, including the non-negativity condi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Graphically, this means a feasible region does not exis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Causes includ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A formulation error has been mad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Management’s expectations are too hig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Too many restrictions have been placed on the problem (i.e. the problem is over-constraine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9102-5B6A-4917-81B9-D0C1186C260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Linear Programming (LP) 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If both the objective function and the constraints are linear, the problem is referred to a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SimSun"/>
              </a:rPr>
              <a:t>linear programming probl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SimSun"/>
              </a:rPr>
              <a:t>Linear function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are functions in which each variable appears in a separate term raised to the first power and is multiplied by a constant (which could be 0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SimSun"/>
              </a:rPr>
              <a:t>Linear constrai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are linear functions that are restricted to be "less than or equal to", "equal to", or "greater than or equal to" a consta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07B4-4652-4B48-B665-5FA41407410A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2819520" y="2743200"/>
            <a:ext cx="3657600" cy="25909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:  Infeasible 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44364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  <a:ea typeface="SimSun"/>
              </a:rPr>
              <a:t>Consider the following LP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2971800" y="2743200"/>
            <a:ext cx="324468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Max     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6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.t.        4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3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DC2D-B2DB-4CE1-84E0-F2235B69214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:  Infeasible 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no points that satisfy both constraints, so there is no feasible region (and no feasible solution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2618640" y="2316240"/>
            <a:ext cx="5061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9880"/>
                <a:tab algn="l" pos="3479760"/>
                <a:tab algn="l" pos="5219640"/>
                <a:tab algn="l" pos="6959520"/>
                <a:tab algn="l" pos="8699400"/>
                <a:tab algn="l" pos="1043928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6400080" y="5842080"/>
            <a:ext cx="5061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9880"/>
                <a:tab algn="l" pos="3479760"/>
                <a:tab algn="l" pos="5219640"/>
                <a:tab algn="l" pos="6959520"/>
                <a:tab algn="l" pos="8699400"/>
                <a:tab algn="l" pos="1043928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4430880" y="4468680"/>
            <a:ext cx="21110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9880"/>
                <a:tab algn="l" pos="3479760"/>
                <a:tab algn="l" pos="5219640"/>
                <a:tab algn="l" pos="6959520"/>
                <a:tab algn="l" pos="8699400"/>
                <a:tab algn="l" pos="10439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3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l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1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295520" y="3294000"/>
            <a:ext cx="1791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520" rIns="1285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9880"/>
                <a:tab algn="l" pos="3479760"/>
                <a:tab algn="l" pos="5219640"/>
                <a:tab algn="l" pos="6959520"/>
                <a:tab algn="l" pos="8699400"/>
                <a:tab algn="l" pos="10439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8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Line 8"/>
          <p:cNvSpPr/>
          <p:nvPr/>
        </p:nvSpPr>
        <p:spPr>
          <a:xfrm flipH="1">
            <a:off x="3428640" y="4795920"/>
            <a:ext cx="1065240" cy="72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Line 9"/>
          <p:cNvSpPr/>
          <p:nvPr/>
        </p:nvSpPr>
        <p:spPr>
          <a:xfrm flipH="1">
            <a:off x="3276720" y="3657600"/>
            <a:ext cx="1063440" cy="72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Line 10"/>
          <p:cNvSpPr/>
          <p:nvPr/>
        </p:nvSpPr>
        <p:spPr>
          <a:xfrm>
            <a:off x="2870280" y="2840040"/>
            <a:ext cx="0" cy="3271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Line 11"/>
          <p:cNvSpPr/>
          <p:nvPr/>
        </p:nvSpPr>
        <p:spPr>
          <a:xfrm>
            <a:off x="2867040" y="6110280"/>
            <a:ext cx="3502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Line 12"/>
          <p:cNvSpPr/>
          <p:nvPr/>
        </p:nvSpPr>
        <p:spPr>
          <a:xfrm>
            <a:off x="2876400" y="4902120"/>
            <a:ext cx="957240" cy="1192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Line 13"/>
          <p:cNvSpPr/>
          <p:nvPr/>
        </p:nvSpPr>
        <p:spPr>
          <a:xfrm>
            <a:off x="2876400" y="3691080"/>
            <a:ext cx="1311480" cy="2403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Rectangle 14"/>
          <p:cNvSpPr/>
          <p:nvPr/>
        </p:nvSpPr>
        <p:spPr>
          <a:xfrm>
            <a:off x="3261240" y="6181560"/>
            <a:ext cx="3256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 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 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6 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8      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Rectangle 15"/>
          <p:cNvSpPr/>
          <p:nvPr/>
        </p:nvSpPr>
        <p:spPr>
          <a:xfrm>
            <a:off x="2470680" y="469260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Rectangle 16"/>
          <p:cNvSpPr/>
          <p:nvPr/>
        </p:nvSpPr>
        <p:spPr>
          <a:xfrm>
            <a:off x="2470680" y="346068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51" name="Group 17"/>
          <p:cNvGrpSpPr/>
          <p:nvPr/>
        </p:nvGrpSpPr>
        <p:grpSpPr>
          <a:xfrm>
            <a:off x="2803680" y="3060720"/>
            <a:ext cx="118800" cy="2749320"/>
            <a:chOff x="2803680" y="3060720"/>
            <a:chExt cx="118800" cy="2749320"/>
          </a:xfrm>
        </p:grpSpPr>
        <p:sp>
          <p:nvSpPr>
            <p:cNvPr id="752" name="Line 18"/>
            <p:cNvSpPr/>
            <p:nvPr/>
          </p:nvSpPr>
          <p:spPr>
            <a:xfrm>
              <a:off x="2803680" y="306072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3" name="Line 19"/>
            <p:cNvSpPr/>
            <p:nvPr/>
          </p:nvSpPr>
          <p:spPr>
            <a:xfrm>
              <a:off x="2803680" y="367488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4" name="Line 20"/>
            <p:cNvSpPr/>
            <p:nvPr/>
          </p:nvSpPr>
          <p:spPr>
            <a:xfrm>
              <a:off x="2803680" y="428616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5" name="Line 21"/>
            <p:cNvSpPr/>
            <p:nvPr/>
          </p:nvSpPr>
          <p:spPr>
            <a:xfrm>
              <a:off x="2803680" y="459108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6" name="Line 22"/>
            <p:cNvSpPr/>
            <p:nvPr/>
          </p:nvSpPr>
          <p:spPr>
            <a:xfrm>
              <a:off x="2803680" y="489564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7" name="Line 23"/>
            <p:cNvSpPr/>
            <p:nvPr/>
          </p:nvSpPr>
          <p:spPr>
            <a:xfrm>
              <a:off x="2803680" y="521172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8" name="Line 24"/>
            <p:cNvSpPr/>
            <p:nvPr/>
          </p:nvSpPr>
          <p:spPr>
            <a:xfrm>
              <a:off x="2803680" y="550548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9" name="Line 25"/>
            <p:cNvSpPr/>
            <p:nvPr/>
          </p:nvSpPr>
          <p:spPr>
            <a:xfrm>
              <a:off x="2803680" y="581004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0" name="Line 26"/>
            <p:cNvSpPr/>
            <p:nvPr/>
          </p:nvSpPr>
          <p:spPr>
            <a:xfrm>
              <a:off x="2803680" y="336996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1" name="Line 27"/>
            <p:cNvSpPr/>
            <p:nvPr/>
          </p:nvSpPr>
          <p:spPr>
            <a:xfrm>
              <a:off x="2803680" y="3978000"/>
              <a:ext cx="11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62" name="Rectangle 28"/>
          <p:cNvSpPr/>
          <p:nvPr/>
        </p:nvSpPr>
        <p:spPr>
          <a:xfrm>
            <a:off x="2470680" y="529272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Rectangle 29"/>
          <p:cNvSpPr/>
          <p:nvPr/>
        </p:nvSpPr>
        <p:spPr>
          <a:xfrm>
            <a:off x="2470680" y="407052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64" name="Group 30"/>
          <p:cNvGrpSpPr/>
          <p:nvPr/>
        </p:nvGrpSpPr>
        <p:grpSpPr>
          <a:xfrm>
            <a:off x="3189240" y="6049800"/>
            <a:ext cx="2992320" cy="138240"/>
            <a:chOff x="3189240" y="6049800"/>
            <a:chExt cx="2992320" cy="138240"/>
          </a:xfrm>
        </p:grpSpPr>
        <p:sp>
          <p:nvSpPr>
            <p:cNvPr id="765" name="Line 31"/>
            <p:cNvSpPr/>
            <p:nvPr/>
          </p:nvSpPr>
          <p:spPr>
            <a:xfrm>
              <a:off x="618156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6" name="Line 32"/>
            <p:cNvSpPr/>
            <p:nvPr/>
          </p:nvSpPr>
          <p:spPr>
            <a:xfrm>
              <a:off x="551304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7" name="Line 33"/>
            <p:cNvSpPr/>
            <p:nvPr/>
          </p:nvSpPr>
          <p:spPr>
            <a:xfrm>
              <a:off x="484632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8" name="Line 34"/>
            <p:cNvSpPr/>
            <p:nvPr/>
          </p:nvSpPr>
          <p:spPr>
            <a:xfrm>
              <a:off x="451620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9" name="Line 35"/>
            <p:cNvSpPr/>
            <p:nvPr/>
          </p:nvSpPr>
          <p:spPr>
            <a:xfrm>
              <a:off x="418284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0" name="Line 36"/>
            <p:cNvSpPr/>
            <p:nvPr/>
          </p:nvSpPr>
          <p:spPr>
            <a:xfrm>
              <a:off x="383976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1" name="Line 37"/>
            <p:cNvSpPr/>
            <p:nvPr/>
          </p:nvSpPr>
          <p:spPr>
            <a:xfrm>
              <a:off x="352224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2" name="Line 38"/>
            <p:cNvSpPr/>
            <p:nvPr/>
          </p:nvSpPr>
          <p:spPr>
            <a:xfrm>
              <a:off x="318924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3" name="Line 39"/>
            <p:cNvSpPr/>
            <p:nvPr/>
          </p:nvSpPr>
          <p:spPr>
            <a:xfrm>
              <a:off x="584316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4" name="Line 40"/>
            <p:cNvSpPr/>
            <p:nvPr/>
          </p:nvSpPr>
          <p:spPr>
            <a:xfrm>
              <a:off x="5182920" y="604980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75" name="Rectangle 41"/>
          <p:cNvSpPr/>
          <p:nvPr/>
        </p:nvSpPr>
        <p:spPr>
          <a:xfrm>
            <a:off x="2318040" y="2851200"/>
            <a:ext cx="501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9443-C0EE-4678-BC83-2910C1BAEC4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7" name="Rectangle 2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Book Antiqua"/>
              </a:rPr>
              <a:t>Special Cas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687240" y="1009800"/>
            <a:ext cx="777888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Unboun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The solution to a maximization LP problem is unbounded if the value of the solution may be made indefinitely large without violating any of the constrai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For real problems, this is the result of improper formulation.  (Quite likely, a constraint has been inadvertently omitted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C42C-819B-4555-8EDF-D37E34D473E5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Rectangle 2"/>
          <p:cNvSpPr/>
          <p:nvPr/>
        </p:nvSpPr>
        <p:spPr>
          <a:xfrm>
            <a:off x="2895480" y="2743200"/>
            <a:ext cx="3353040" cy="25909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:  Unbounded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8440" cy="47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  <a:ea typeface="SimSun"/>
              </a:rPr>
              <a:t>Consider the following LP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3048120" y="2819520"/>
            <a:ext cx="3143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Max    4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5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ook Antiqua"/>
                <a:ea typeface="SimSu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.t.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DBF2-D8A1-4943-BE4B-9603FBC57FC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:  Unbounded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200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easible region is unbounded and the objective function line can be moved outward from the origin without bound, infinitely increasing the objective function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Rectangle 4"/>
          <p:cNvSpPr/>
          <p:nvPr/>
        </p:nvSpPr>
        <p:spPr>
          <a:xfrm>
            <a:off x="2973960" y="2514600"/>
            <a:ext cx="49392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0" rIns="122400" tIns="61920" bIns="61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2280"/>
                <a:tab algn="l" pos="3184560"/>
                <a:tab algn="l" pos="4776840"/>
                <a:tab algn="l" pos="6369120"/>
                <a:tab algn="l" pos="7961400"/>
                <a:tab algn="l" pos="955368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Rectangle 5"/>
          <p:cNvSpPr/>
          <p:nvPr/>
        </p:nvSpPr>
        <p:spPr>
          <a:xfrm>
            <a:off x="6752160" y="6010200"/>
            <a:ext cx="49392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0" rIns="122400" tIns="61920" bIns="61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2280"/>
                <a:tab algn="l" pos="3184560"/>
                <a:tab algn="l" pos="4776840"/>
                <a:tab algn="l" pos="6369120"/>
                <a:tab algn="l" pos="7961400"/>
                <a:tab algn="l" pos="955368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Freeform 6"/>
          <p:cNvSpPr/>
          <p:nvPr/>
        </p:nvSpPr>
        <p:spPr>
          <a:xfrm>
            <a:off x="3193920" y="3247920"/>
            <a:ext cx="3333960" cy="301644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3016440"/>
              <a:gd name="textAreaBottom" fmla="*/ 3016800 h 3016440"/>
            </a:gdLst>
            <a:ahLst/>
            <a:rect l="textAreaLeft" t="textAreaTop" r="textAreaRight" b="textAreaBottom"/>
            <a:pathLst>
              <a:path w="2100" h="1892">
                <a:moveTo>
                  <a:pt x="0" y="0"/>
                </a:moveTo>
                <a:lnTo>
                  <a:pt x="2100" y="0"/>
                </a:lnTo>
                <a:lnTo>
                  <a:pt x="2100" y="1889"/>
                </a:lnTo>
                <a:lnTo>
                  <a:pt x="1054" y="1892"/>
                </a:lnTo>
                <a:lnTo>
                  <a:pt x="316" y="1233"/>
                </a:lnTo>
                <a:lnTo>
                  <a:pt x="0" y="409"/>
                </a:lnTo>
                <a:lnTo>
                  <a:pt x="0" y="0"/>
                </a:lnTo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Line 7"/>
          <p:cNvSpPr/>
          <p:nvPr/>
        </p:nvSpPr>
        <p:spPr>
          <a:xfrm flipH="1">
            <a:off x="3494160" y="3681360"/>
            <a:ext cx="804960" cy="835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Rectangle 8"/>
          <p:cNvSpPr/>
          <p:nvPr/>
        </p:nvSpPr>
        <p:spPr>
          <a:xfrm>
            <a:off x="4203360" y="3322800"/>
            <a:ext cx="1779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0" rIns="122400" tIns="61920" bIns="61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2280"/>
                <a:tab algn="l" pos="3184560"/>
                <a:tab algn="l" pos="4776840"/>
                <a:tab algn="l" pos="6369120"/>
                <a:tab algn="l" pos="7961400"/>
                <a:tab algn="l" pos="95536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8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Rectangle 9"/>
          <p:cNvSpPr/>
          <p:nvPr/>
        </p:nvSpPr>
        <p:spPr>
          <a:xfrm>
            <a:off x="6086880" y="5060880"/>
            <a:ext cx="161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0" rIns="122400" tIns="61920" bIns="61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2280"/>
                <a:tab algn="l" pos="3184560"/>
                <a:tab algn="l" pos="4776840"/>
                <a:tab algn="l" pos="6369120"/>
                <a:tab algn="l" pos="7961400"/>
                <a:tab algn="l" pos="955368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5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Rectangle 10"/>
          <p:cNvSpPr/>
          <p:nvPr/>
        </p:nvSpPr>
        <p:spPr>
          <a:xfrm rot="2116200">
            <a:off x="3888000" y="4548600"/>
            <a:ext cx="2030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400" rIns="122400" tIns="61920" bIns="61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2280"/>
                <a:tab algn="l" pos="3184560"/>
                <a:tab algn="l" pos="4776840"/>
                <a:tab algn="l" pos="6369120"/>
                <a:tab algn="l" pos="7961400"/>
                <a:tab algn="l" pos="95536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ax  4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5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Line 11"/>
          <p:cNvSpPr/>
          <p:nvPr/>
        </p:nvSpPr>
        <p:spPr>
          <a:xfrm flipH="1">
            <a:off x="4762440" y="5419800"/>
            <a:ext cx="1332000" cy="658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Line 12"/>
          <p:cNvSpPr/>
          <p:nvPr/>
        </p:nvSpPr>
        <p:spPr>
          <a:xfrm>
            <a:off x="3193920" y="3073320"/>
            <a:ext cx="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6" name="Line 13"/>
          <p:cNvSpPr/>
          <p:nvPr/>
        </p:nvSpPr>
        <p:spPr>
          <a:xfrm>
            <a:off x="3200400" y="6269040"/>
            <a:ext cx="3473280" cy="9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Line 14"/>
          <p:cNvSpPr/>
          <p:nvPr/>
        </p:nvSpPr>
        <p:spPr>
          <a:xfrm>
            <a:off x="3191040" y="4773600"/>
            <a:ext cx="1665000" cy="1476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Line 15"/>
          <p:cNvSpPr/>
          <p:nvPr/>
        </p:nvSpPr>
        <p:spPr>
          <a:xfrm>
            <a:off x="3181320" y="3859200"/>
            <a:ext cx="905040" cy="24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2832840" y="427824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2832840" y="366876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01" name="Group 18"/>
          <p:cNvGrpSpPr/>
          <p:nvPr/>
        </p:nvGrpSpPr>
        <p:grpSpPr>
          <a:xfrm>
            <a:off x="3139920" y="3249720"/>
            <a:ext cx="119160" cy="2749320"/>
            <a:chOff x="3139920" y="3249720"/>
            <a:chExt cx="119160" cy="2749320"/>
          </a:xfrm>
        </p:grpSpPr>
        <p:sp>
          <p:nvSpPr>
            <p:cNvPr id="802" name="Line 19"/>
            <p:cNvSpPr/>
            <p:nvPr/>
          </p:nvSpPr>
          <p:spPr>
            <a:xfrm>
              <a:off x="3139920" y="324972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3" name="Line 20"/>
            <p:cNvSpPr/>
            <p:nvPr/>
          </p:nvSpPr>
          <p:spPr>
            <a:xfrm>
              <a:off x="3139920" y="38638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4" name="Line 21"/>
            <p:cNvSpPr/>
            <p:nvPr/>
          </p:nvSpPr>
          <p:spPr>
            <a:xfrm>
              <a:off x="3139920" y="44751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5" name="Line 22"/>
            <p:cNvSpPr/>
            <p:nvPr/>
          </p:nvSpPr>
          <p:spPr>
            <a:xfrm>
              <a:off x="3139920" y="47800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6" name="Line 23"/>
            <p:cNvSpPr/>
            <p:nvPr/>
          </p:nvSpPr>
          <p:spPr>
            <a:xfrm>
              <a:off x="3139920" y="508464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7" name="Line 24"/>
            <p:cNvSpPr/>
            <p:nvPr/>
          </p:nvSpPr>
          <p:spPr>
            <a:xfrm>
              <a:off x="3139920" y="540072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8" name="Line 25"/>
            <p:cNvSpPr/>
            <p:nvPr/>
          </p:nvSpPr>
          <p:spPr>
            <a:xfrm>
              <a:off x="3139920" y="56944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9" name="Line 26"/>
            <p:cNvSpPr/>
            <p:nvPr/>
          </p:nvSpPr>
          <p:spPr>
            <a:xfrm>
              <a:off x="3139920" y="599904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0" name="Line 27"/>
            <p:cNvSpPr/>
            <p:nvPr/>
          </p:nvSpPr>
          <p:spPr>
            <a:xfrm>
              <a:off x="3139920" y="355896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1" name="Line 28"/>
            <p:cNvSpPr/>
            <p:nvPr/>
          </p:nvSpPr>
          <p:spPr>
            <a:xfrm>
              <a:off x="3139920" y="416700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12" name="Rectangle 29"/>
          <p:cNvSpPr/>
          <p:nvPr/>
        </p:nvSpPr>
        <p:spPr>
          <a:xfrm>
            <a:off x="2683080" y="3046320"/>
            <a:ext cx="501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3603960" y="6284880"/>
            <a:ext cx="3256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 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 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6  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8      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14" name="Group 31"/>
          <p:cNvGrpSpPr/>
          <p:nvPr/>
        </p:nvGrpSpPr>
        <p:grpSpPr>
          <a:xfrm>
            <a:off x="3532320" y="6191280"/>
            <a:ext cx="2992320" cy="138240"/>
            <a:chOff x="3532320" y="6191280"/>
            <a:chExt cx="2992320" cy="138240"/>
          </a:xfrm>
        </p:grpSpPr>
        <p:sp>
          <p:nvSpPr>
            <p:cNvPr id="815" name="Line 32"/>
            <p:cNvSpPr/>
            <p:nvPr/>
          </p:nvSpPr>
          <p:spPr>
            <a:xfrm>
              <a:off x="652464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6" name="Line 33"/>
            <p:cNvSpPr/>
            <p:nvPr/>
          </p:nvSpPr>
          <p:spPr>
            <a:xfrm>
              <a:off x="585648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7" name="Line 34"/>
            <p:cNvSpPr/>
            <p:nvPr/>
          </p:nvSpPr>
          <p:spPr>
            <a:xfrm>
              <a:off x="519120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8" name="Line 35"/>
            <p:cNvSpPr/>
            <p:nvPr/>
          </p:nvSpPr>
          <p:spPr>
            <a:xfrm>
              <a:off x="485928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9" name="Line 36"/>
            <p:cNvSpPr/>
            <p:nvPr/>
          </p:nvSpPr>
          <p:spPr>
            <a:xfrm>
              <a:off x="452592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0" name="Line 37"/>
            <p:cNvSpPr/>
            <p:nvPr/>
          </p:nvSpPr>
          <p:spPr>
            <a:xfrm>
              <a:off x="418464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1" name="Line 38"/>
            <p:cNvSpPr/>
            <p:nvPr/>
          </p:nvSpPr>
          <p:spPr>
            <a:xfrm>
              <a:off x="386568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2" name="Line 39"/>
            <p:cNvSpPr/>
            <p:nvPr/>
          </p:nvSpPr>
          <p:spPr>
            <a:xfrm>
              <a:off x="353232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3" name="Line 40"/>
            <p:cNvSpPr/>
            <p:nvPr/>
          </p:nvSpPr>
          <p:spPr>
            <a:xfrm>
              <a:off x="618804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4" name="Line 41"/>
            <p:cNvSpPr/>
            <p:nvPr/>
          </p:nvSpPr>
          <p:spPr>
            <a:xfrm>
              <a:off x="5526000" y="619128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25" name="Rectangle 42"/>
          <p:cNvSpPr/>
          <p:nvPr/>
        </p:nvSpPr>
        <p:spPr>
          <a:xfrm>
            <a:off x="2832840" y="486900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2832840" y="547848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Line 44"/>
          <p:cNvSpPr/>
          <p:nvPr/>
        </p:nvSpPr>
        <p:spPr>
          <a:xfrm flipV="1">
            <a:off x="6513480" y="5873760"/>
            <a:ext cx="293760" cy="372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8" name="Line 45"/>
          <p:cNvSpPr/>
          <p:nvPr/>
        </p:nvSpPr>
        <p:spPr>
          <a:xfrm>
            <a:off x="3191040" y="3851280"/>
            <a:ext cx="3348000" cy="2425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Line 46"/>
          <p:cNvSpPr/>
          <p:nvPr/>
        </p:nvSpPr>
        <p:spPr>
          <a:xfrm flipV="1">
            <a:off x="3198960" y="3486240"/>
            <a:ext cx="293400" cy="372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C28E-364E-4B8C-8704-583B6F76626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Problem Formu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SimSun"/>
              </a:rPr>
              <a:t>Problem formulation or modelin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is the process of translating a verbal statement of a problem into a mathematical state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Formulating models is an art that can only be mastered with practice and experi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Every LP problems has some unique features, but most problems also have common feat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SimSun"/>
              </a:rPr>
              <a:t>General guideli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 for LP model formulation are illustrated on the slides that foll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8DD0-EC6E-4F97-8CC0-09D9883E391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Guidelines for Model Formu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erstand the problem thorough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cribe the object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cribe each constrai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 the decision variab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e the objective in terms of the decision variab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e the constraints in terms of the decision variab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D73A-1DFE-47EF-B109-6686C771FE3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884240" y="2414520"/>
            <a:ext cx="3905280" cy="294660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Book Antiqua"/>
              </a:rPr>
              <a:t>Example 1:  A Simple Maximization 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209680" y="2590920"/>
            <a:ext cx="333396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Max       5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7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s.t.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3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1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+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0  and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  <a:ea typeface="SimSu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6280560" y="2370240"/>
            <a:ext cx="1486440" cy="84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bjectiv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unct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6122160" y="3449520"/>
            <a:ext cx="1766880" cy="84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Regular”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Constraint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5971680" y="4516560"/>
            <a:ext cx="2192040" cy="84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Non-negativit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697280" y="2800440"/>
            <a:ext cx="16131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5307120" y="4946760"/>
            <a:ext cx="672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4" name="Group 11"/>
          <p:cNvGrpSpPr/>
          <p:nvPr/>
        </p:nvGrpSpPr>
        <p:grpSpPr>
          <a:xfrm>
            <a:off x="5408640" y="3219480"/>
            <a:ext cx="748800" cy="1320480"/>
            <a:chOff x="5408640" y="3219480"/>
            <a:chExt cx="748800" cy="1320480"/>
          </a:xfrm>
        </p:grpSpPr>
        <p:sp>
          <p:nvSpPr>
            <p:cNvPr id="135" name="AutoShape 12"/>
            <p:cNvSpPr/>
            <p:nvPr/>
          </p:nvSpPr>
          <p:spPr>
            <a:xfrm>
              <a:off x="5408640" y="3219480"/>
              <a:ext cx="342720" cy="132048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4200 h 1320480"/>
                <a:gd name="textAreaBottom" fmla="*/ 1286280 h 13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5725800" y="3879720"/>
              <a:ext cx="431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E8A5-E9B7-4162-A5EE-AE04CBFF6F20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2070000" y="1943280"/>
            <a:ext cx="2718000" cy="38480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915320" cy="82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Book Antiqua"/>
              </a:rPr>
              <a:t>Example 1:  Graphical Solu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554976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First Constraint Grap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649160" y="138420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7062120" y="556092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794120" y="1936800"/>
            <a:ext cx="0" cy="3873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8"/>
          <p:cNvSpPr/>
          <p:nvPr/>
        </p:nvSpPr>
        <p:spPr>
          <a:xfrm flipH="1">
            <a:off x="4908600" y="2793960"/>
            <a:ext cx="622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2044800" y="1924200"/>
            <a:ext cx="0" cy="387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5605200" y="2550960"/>
            <a:ext cx="948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 =  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5254560" y="491508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(6, 0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12"/>
          <p:cNvSpPr/>
          <p:nvPr/>
        </p:nvSpPr>
        <p:spPr>
          <a:xfrm flipH="1">
            <a:off x="4895640" y="5346720"/>
            <a:ext cx="361800" cy="361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652760" y="213048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2093400" y="588960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1968480" y="2311560"/>
            <a:ext cx="139680" cy="3111480"/>
            <a:chOff x="1968480" y="2311560"/>
            <a:chExt cx="139680" cy="3111480"/>
          </a:xfrm>
        </p:grpSpPr>
        <p:sp>
          <p:nvSpPr>
            <p:cNvPr id="152" name="Line 16"/>
            <p:cNvSpPr/>
            <p:nvPr/>
          </p:nvSpPr>
          <p:spPr>
            <a:xfrm>
              <a:off x="1968480" y="2311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Line 17"/>
            <p:cNvSpPr/>
            <p:nvPr/>
          </p:nvSpPr>
          <p:spPr>
            <a:xfrm>
              <a:off x="1968480" y="2756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Line 18"/>
            <p:cNvSpPr/>
            <p:nvPr/>
          </p:nvSpPr>
          <p:spPr>
            <a:xfrm>
              <a:off x="1968480" y="32007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Line 19"/>
            <p:cNvSpPr/>
            <p:nvPr/>
          </p:nvSpPr>
          <p:spPr>
            <a:xfrm>
              <a:off x="1968480" y="3645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>
              <a:off x="1968480" y="40896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Line 21"/>
            <p:cNvSpPr/>
            <p:nvPr/>
          </p:nvSpPr>
          <p:spPr>
            <a:xfrm>
              <a:off x="1968480" y="45342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Line 22"/>
            <p:cNvSpPr/>
            <p:nvPr/>
          </p:nvSpPr>
          <p:spPr>
            <a:xfrm>
              <a:off x="1968480" y="49788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Line 23"/>
            <p:cNvSpPr/>
            <p:nvPr/>
          </p:nvSpPr>
          <p:spPr>
            <a:xfrm>
              <a:off x="1968480" y="54230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0" name="Line 24"/>
          <p:cNvSpPr/>
          <p:nvPr/>
        </p:nvSpPr>
        <p:spPr>
          <a:xfrm>
            <a:off x="2038320" y="5803920"/>
            <a:ext cx="486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1" name="Group 25"/>
          <p:cNvGrpSpPr/>
          <p:nvPr/>
        </p:nvGrpSpPr>
        <p:grpSpPr>
          <a:xfrm>
            <a:off x="2424240" y="5744520"/>
            <a:ext cx="4294080" cy="145440"/>
            <a:chOff x="2424240" y="5744520"/>
            <a:chExt cx="4294080" cy="145440"/>
          </a:xfrm>
        </p:grpSpPr>
        <p:grpSp>
          <p:nvGrpSpPr>
            <p:cNvPr id="162" name="Group 26"/>
            <p:cNvGrpSpPr/>
            <p:nvPr/>
          </p:nvGrpSpPr>
          <p:grpSpPr>
            <a:xfrm>
              <a:off x="2424240" y="5750640"/>
              <a:ext cx="3327480" cy="139320"/>
              <a:chOff x="2424240" y="5750640"/>
              <a:chExt cx="3327480" cy="139320"/>
            </a:xfrm>
          </p:grpSpPr>
          <p:sp>
            <p:nvSpPr>
              <p:cNvPr id="163" name="Line 27"/>
              <p:cNvSpPr/>
              <p:nvPr/>
            </p:nvSpPr>
            <p:spPr>
              <a:xfrm>
                <a:off x="5751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4" name="Line 28"/>
              <p:cNvSpPr/>
              <p:nvPr/>
            </p:nvSpPr>
            <p:spPr>
              <a:xfrm>
                <a:off x="527688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5" name="Line 29"/>
              <p:cNvSpPr/>
              <p:nvPr/>
            </p:nvSpPr>
            <p:spPr>
              <a:xfrm>
                <a:off x="48006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6" name="Line 30"/>
              <p:cNvSpPr/>
              <p:nvPr/>
            </p:nvSpPr>
            <p:spPr>
              <a:xfrm>
                <a:off x="43261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7" name="Line 31"/>
              <p:cNvSpPr/>
              <p:nvPr/>
            </p:nvSpPr>
            <p:spPr>
              <a:xfrm>
                <a:off x="38498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8" name="Line 32"/>
              <p:cNvSpPr/>
              <p:nvPr/>
            </p:nvSpPr>
            <p:spPr>
              <a:xfrm>
                <a:off x="33750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9" name="Line 33"/>
              <p:cNvSpPr/>
              <p:nvPr/>
            </p:nvSpPr>
            <p:spPr>
              <a:xfrm>
                <a:off x="2898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0" name="Line 34"/>
              <p:cNvSpPr/>
              <p:nvPr/>
            </p:nvSpPr>
            <p:spPr>
              <a:xfrm>
                <a:off x="24242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71" name="Line 35"/>
            <p:cNvSpPr/>
            <p:nvPr/>
          </p:nvSpPr>
          <p:spPr>
            <a:xfrm>
              <a:off x="622944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Line 36"/>
            <p:cNvSpPr/>
            <p:nvPr/>
          </p:nvSpPr>
          <p:spPr>
            <a:xfrm>
              <a:off x="671832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3" name="Text Box 37"/>
          <p:cNvSpPr/>
          <p:nvPr/>
        </p:nvSpPr>
        <p:spPr>
          <a:xfrm>
            <a:off x="2218320" y="3124080"/>
            <a:ext cx="230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haded reg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ontains al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easible poi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r this constrai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05C9-F6A4-4842-9A48-4DD1CDCD51F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Freeform 2"/>
          <p:cNvSpPr/>
          <p:nvPr/>
        </p:nvSpPr>
        <p:spPr>
          <a:xfrm>
            <a:off x="2070000" y="3060720"/>
            <a:ext cx="4381560" cy="2730600"/>
          </a:xfrm>
          <a:custGeom>
            <a:avLst/>
            <a:gdLst>
              <a:gd name="textAreaLeft" fmla="*/ 0 w 4381560"/>
              <a:gd name="textAreaRight" fmla="*/ 4381920 w 4381560"/>
              <a:gd name="textAreaTop" fmla="*/ 0 h 2730600"/>
              <a:gd name="textAreaBottom" fmla="*/ 2730600 h 2730600"/>
            </a:gdLst>
            <a:ahLst/>
            <a:rect l="textAreaLeft" t="textAreaTop" r="textAreaRight" b="textAreaBottom"/>
            <a:pathLst>
              <a:path w="2736" h="1720">
                <a:moveTo>
                  <a:pt x="0" y="1720"/>
                </a:moveTo>
                <a:lnTo>
                  <a:pt x="0" y="0"/>
                </a:lnTo>
                <a:lnTo>
                  <a:pt x="2736" y="1720"/>
                </a:lnTo>
                <a:lnTo>
                  <a:pt x="0" y="17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915320" cy="82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Book Antiqua"/>
              </a:rPr>
              <a:t>Example 1:  Graphical Solu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7010280" cy="5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aramond"/>
              </a:rPr>
              <a:t>Second Constraint Grap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038320" y="3035160"/>
            <a:ext cx="4444920" cy="276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4662360" y="3303720"/>
            <a:ext cx="19400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+ 3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= 19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649160" y="1384200"/>
            <a:ext cx="588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062120" y="5560920"/>
            <a:ext cx="42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Line 9"/>
          <p:cNvSpPr/>
          <p:nvPr/>
        </p:nvSpPr>
        <p:spPr>
          <a:xfrm flipH="1">
            <a:off x="2178000" y="2597040"/>
            <a:ext cx="432000" cy="406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2044800" y="1924200"/>
            <a:ext cx="0" cy="387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2573280" y="219240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(0, 6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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Line 12"/>
          <p:cNvSpPr/>
          <p:nvPr/>
        </p:nvSpPr>
        <p:spPr>
          <a:xfrm flipH="1">
            <a:off x="4210200" y="3701880"/>
            <a:ext cx="520560" cy="58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Line 13"/>
          <p:cNvSpPr/>
          <p:nvPr/>
        </p:nvSpPr>
        <p:spPr>
          <a:xfrm flipH="1">
            <a:off x="6489360" y="5321160"/>
            <a:ext cx="431640" cy="406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840000" y="487836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(9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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SimSun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SimSun"/>
              </a:rPr>
              <a:t>0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1652760" y="2130480"/>
            <a:ext cx="3268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SimSu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2093400" y="5889600"/>
            <a:ext cx="50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8    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    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0" name="Group 17"/>
          <p:cNvGrpSpPr/>
          <p:nvPr/>
        </p:nvGrpSpPr>
        <p:grpSpPr>
          <a:xfrm>
            <a:off x="1968480" y="2311560"/>
            <a:ext cx="139680" cy="3111480"/>
            <a:chOff x="1968480" y="2311560"/>
            <a:chExt cx="139680" cy="3111480"/>
          </a:xfrm>
        </p:grpSpPr>
        <p:sp>
          <p:nvSpPr>
            <p:cNvPr id="191" name="Line 18"/>
            <p:cNvSpPr/>
            <p:nvPr/>
          </p:nvSpPr>
          <p:spPr>
            <a:xfrm>
              <a:off x="1968480" y="2311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1968480" y="2756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1968480" y="32007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1968480" y="3645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1968480" y="40896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1968480" y="45342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1968480" y="49788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>
              <a:off x="1968480" y="54230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9" name="Line 26"/>
          <p:cNvSpPr/>
          <p:nvPr/>
        </p:nvSpPr>
        <p:spPr>
          <a:xfrm>
            <a:off x="2038320" y="5803920"/>
            <a:ext cx="486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00" name="Group 27"/>
          <p:cNvGrpSpPr/>
          <p:nvPr/>
        </p:nvGrpSpPr>
        <p:grpSpPr>
          <a:xfrm>
            <a:off x="2424240" y="5744520"/>
            <a:ext cx="4294080" cy="145440"/>
            <a:chOff x="2424240" y="5744520"/>
            <a:chExt cx="4294080" cy="145440"/>
          </a:xfrm>
        </p:grpSpPr>
        <p:grpSp>
          <p:nvGrpSpPr>
            <p:cNvPr id="201" name="Group 28"/>
            <p:cNvGrpSpPr/>
            <p:nvPr/>
          </p:nvGrpSpPr>
          <p:grpSpPr>
            <a:xfrm>
              <a:off x="2424240" y="5750640"/>
              <a:ext cx="3327480" cy="139320"/>
              <a:chOff x="2424240" y="5750640"/>
              <a:chExt cx="3327480" cy="139320"/>
            </a:xfrm>
          </p:grpSpPr>
          <p:sp>
            <p:nvSpPr>
              <p:cNvPr id="202" name="Line 29"/>
              <p:cNvSpPr/>
              <p:nvPr/>
            </p:nvSpPr>
            <p:spPr>
              <a:xfrm>
                <a:off x="5751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3" name="Line 30"/>
              <p:cNvSpPr/>
              <p:nvPr/>
            </p:nvSpPr>
            <p:spPr>
              <a:xfrm>
                <a:off x="527688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4" name="Line 31"/>
              <p:cNvSpPr/>
              <p:nvPr/>
            </p:nvSpPr>
            <p:spPr>
              <a:xfrm>
                <a:off x="48006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5" name="Line 32"/>
              <p:cNvSpPr/>
              <p:nvPr/>
            </p:nvSpPr>
            <p:spPr>
              <a:xfrm>
                <a:off x="43261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6" name="Line 33"/>
              <p:cNvSpPr/>
              <p:nvPr/>
            </p:nvSpPr>
            <p:spPr>
              <a:xfrm>
                <a:off x="38498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7" name="Line 34"/>
              <p:cNvSpPr/>
              <p:nvPr/>
            </p:nvSpPr>
            <p:spPr>
              <a:xfrm>
                <a:off x="337500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8" name="Line 35"/>
              <p:cNvSpPr/>
              <p:nvPr/>
            </p:nvSpPr>
            <p:spPr>
              <a:xfrm>
                <a:off x="289872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9" name="Line 36"/>
              <p:cNvSpPr/>
              <p:nvPr/>
            </p:nvSpPr>
            <p:spPr>
              <a:xfrm>
                <a:off x="2424240" y="57506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10" name="Line 37"/>
            <p:cNvSpPr/>
            <p:nvPr/>
          </p:nvSpPr>
          <p:spPr>
            <a:xfrm>
              <a:off x="622944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Line 38"/>
            <p:cNvSpPr/>
            <p:nvPr/>
          </p:nvSpPr>
          <p:spPr>
            <a:xfrm>
              <a:off x="6718320" y="5744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2" name="Text Box 39"/>
          <p:cNvSpPr/>
          <p:nvPr/>
        </p:nvSpPr>
        <p:spPr>
          <a:xfrm>
            <a:off x="2293200" y="4200480"/>
            <a:ext cx="230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had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egion contai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ll feasible poi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r this constrai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7:47:19Z</dcterms:created>
  <dc:creator>MAx</dc:creator>
  <dc:description/>
  <dc:language>en-US</dc:language>
  <cp:lastModifiedBy>MAx</cp:lastModifiedBy>
  <dcterms:modified xsi:type="dcterms:W3CDTF">2015-01-02T16:36:03Z</dcterms:modified>
  <cp:revision>8</cp:revision>
  <dc:subject/>
  <dc:title>Introduction to Linear Programming</dc:title>
</cp:coreProperties>
</file>