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078-B107-41CE-9B0D-CB960EB02A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F5D9-BB08-41DF-AF34-D23462CAED0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B65-5525-401C-84EB-835AB8D23BE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D3AA-2D2E-423E-A316-27237FF0D95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09A7-3587-4E8A-8F13-2B3CB3CB0B4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B06-F48E-4D58-BFF1-7857DEF668E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B8B0-3229-49EF-BAB2-84C9B61F834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6FCC-EDF6-4BDD-8522-02F947C3B6F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D7DF-7E9B-4699-B312-E039DE35926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FAB-FA07-4D46-A69D-59C71483FC0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4A6-4EA6-4401-AFF6-EAE69870CDB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9F6-056D-4399-B2F9-DDEC95E8980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FF29-03AC-4962-B2C5-3D264D53DC5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4CB5-D1D0-4692-BD17-8E2B9493040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442E-0A6E-4BB3-A2E4-37C0C27B7BD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BE6A-FAEB-4632-A795-90A22A714D9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60A-F1A3-4283-9706-7B0FFB6ACC6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2DE6-EEB4-455A-81C9-39394A0519D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C54B-7875-4FCF-82C1-F82E102C85A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9EE-E82C-4CB5-A5DF-21E89DF8536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B3C9-9BFB-47AE-8EFA-CCBF9ADFFD9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75FB-CB8D-4BEE-85C2-A0708B1D547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F18-6820-4D69-8BC0-BEF0AE230C7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F35-14AC-473B-979C-E90D63BD7C6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4391-155A-4AFC-A7FE-4A5DB577A43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84F-86C0-477E-A7FD-9762B845659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295F-4488-4C76-BC23-6E7E6C1888B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DD7C-0BF4-4417-A9B6-026BA39545A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3D7-D755-4D0B-82D8-8BCF2C3651E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BB3-AB34-41F4-A903-15C5954DE03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6A08-E0E1-4817-A5D2-CE8512BBF37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EB80-1ACE-47B2-A91C-1D56F188F45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3A2-EC37-4DE5-BB60-78A72FD9367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941E-7373-4251-9DDD-19E6083457E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0D82-876A-4365-8F4E-DEF1AA5E273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9CA-EA25-4B28-8F6D-D3DBDB8237E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EDF3-45B8-430D-BECF-0EADF5239EF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6F97-FE6F-44EA-9C76-A15B2E65C59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1DC-D2A1-4DE7-8CDB-2DBA7AD3CE6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FFD0-9AC7-4334-9FEF-42D24E0AD1F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94C9-5CD0-46A6-A841-A71E099E461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C93-A096-454D-BC55-B65362A1620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9D7-4344-4AA8-A899-44784955697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E053-50FC-4E08-9EF4-6D5242AED3E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B8F0-3071-4ABC-95D7-AB7F00FB10E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36F8-68F0-4020-99B2-E86662E5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7CD0-95DE-40AE-88E9-F06DB949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EB4A-5F6F-412A-8D57-8ADCD45E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FA0C-D237-446D-AB87-7ADEBBC6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87F3-56D6-4A2C-BA13-2D9D3A9D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B63F-F2E6-4F1D-AD35-60E8BC8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E239-5ED9-425C-814B-1F8B48F9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800-FFD0-4A1F-A4C5-51E0880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7BAB-FB70-41DC-8F67-B1381BD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BF8-44E8-4C0B-93B5-0FD24C7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898-470A-439B-9559-75BCAFD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E679-5D9E-4A70-9B60-DFAE3506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956A-0300-4193-99DF-86336D7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0283-1B9A-40F8-97BC-2380D89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5E9-54A5-4620-82D2-9E679116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4A53-9E67-41B0-BF03-2F921ED5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B8EC-FF71-4C26-B8E4-2B846748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62B6-3B1E-4FD0-824C-3446102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4396-CB20-4A2E-9004-566F69B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0144-B86F-478F-A933-9B229180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99EC-7D7D-47DC-809E-B7C5C76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A542-66B3-49F1-B6FE-B5BC5AF8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D3A9-8FE8-49CC-A72C-8BD96ED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8C41-0988-458E-B023-A170FBD4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69C5-E8C9-4EC5-A22B-DC45ECD2F9C9}" type="datetime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5232-3EBB-43D2-8578-7462058A36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B8CB-C737-4063-9A03-C0FC59DC9B2D}" type="datetime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D44C-4A31-41CF-AF70-4410D73015F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A42-5143-4145-8CA0-B505B6E4872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0480" y="46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Introduction to Linear Programm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54000"/>
            <a:ext cx="7851600" cy="32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Programm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imple Maximization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phical Solution Proced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 Points and the Optimal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r 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imple Minimization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C5C-572C-438B-922A-C6F2801CEEA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1532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6693120" cy="4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Third Constraint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6"/>
          <p:cNvSpPr/>
          <p:nvPr/>
        </p:nvSpPr>
        <p:spPr>
          <a:xfrm flipH="1">
            <a:off x="3654360" y="3301920"/>
            <a:ext cx="39384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5810400" y="5437080"/>
            <a:ext cx="31752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040640" y="2933640"/>
            <a:ext cx="1554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Line 10"/>
          <p:cNvSpPr/>
          <p:nvPr/>
        </p:nvSpPr>
        <p:spPr>
          <a:xfrm flipH="1">
            <a:off x="2135160" y="1992240"/>
            <a:ext cx="31752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2497320" y="165744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8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104160" y="509256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8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Freeform 15"/>
          <p:cNvSpPr/>
          <p:nvPr/>
        </p:nvSpPr>
        <p:spPr>
          <a:xfrm>
            <a:off x="2057400" y="2362320"/>
            <a:ext cx="3657600" cy="34290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264" h="2160">
                <a:moveTo>
                  <a:pt x="0" y="2160"/>
                </a:moveTo>
                <a:lnTo>
                  <a:pt x="0" y="0"/>
                </a:lnTo>
                <a:lnTo>
                  <a:pt x="2264" y="2160"/>
                </a:lnTo>
                <a:lnTo>
                  <a:pt x="0" y="216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038320" y="2336760"/>
            <a:ext cx="3708360" cy="346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29" name="Group 17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230" name="Line 18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Line 20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Line 21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Line 22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Line 23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Line 24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Line 25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8" name="Line 2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9" name="Group 27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240" name="Group 28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241" name="Line 29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Line 30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Line 31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Line 32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Line 33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Line 34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Line 36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9" name="Line 37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Line 38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1" name="Text Box 39"/>
          <p:cNvSpPr/>
          <p:nvPr/>
        </p:nvSpPr>
        <p:spPr>
          <a:xfrm>
            <a:off x="2229480" y="4200480"/>
            <a:ext cx="230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a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on conta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feasible 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this constr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1363-BB81-42D1-848A-CD68DF220B3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Freeform 6"/>
          <p:cNvSpPr/>
          <p:nvPr/>
        </p:nvSpPr>
        <p:spPr>
          <a:xfrm>
            <a:off x="2070000" y="2336760"/>
            <a:ext cx="3683160" cy="3479760"/>
          </a:xfrm>
          <a:custGeom>
            <a:avLst/>
            <a:gdLst/>
            <a:ahLst/>
            <a:rect l="l" t="t" r="r" b="b"/>
            <a:pathLst>
              <a:path w="2296" h="2200">
                <a:moveTo>
                  <a:pt x="0" y="0"/>
                </a:moveTo>
                <a:lnTo>
                  <a:pt x="2296" y="22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Freeform 7"/>
          <p:cNvSpPr/>
          <p:nvPr/>
        </p:nvSpPr>
        <p:spPr>
          <a:xfrm>
            <a:off x="2050920" y="3060720"/>
            <a:ext cx="4413240" cy="2743200"/>
          </a:xfrm>
          <a:custGeom>
            <a:avLst/>
            <a:gdLst/>
            <a:ahLst/>
            <a:rect l="l" t="t" r="r" b="b"/>
            <a:pathLst>
              <a:path w="2732" h="1736">
                <a:moveTo>
                  <a:pt x="0" y="0"/>
                </a:moveTo>
                <a:lnTo>
                  <a:pt x="2732" y="173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Freeform 8"/>
          <p:cNvSpPr/>
          <p:nvPr/>
        </p:nvSpPr>
        <p:spPr>
          <a:xfrm>
            <a:off x="2044800" y="3054240"/>
            <a:ext cx="2754360" cy="275616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2756160"/>
              <a:gd name="textAreaBottom" fmla="*/ 2756520 h 2756160"/>
            </a:gdLst>
            <a:ahLst/>
            <a:rect l="textAreaLeft" t="textAreaTop" r="textAreaRight" b="textAreaBottom"/>
            <a:pathLst>
              <a:path w="1735" h="1736">
                <a:moveTo>
                  <a:pt x="0" y="20"/>
                </a:moveTo>
                <a:lnTo>
                  <a:pt x="1452" y="907"/>
                </a:lnTo>
                <a:lnTo>
                  <a:pt x="1735" y="1177"/>
                </a:lnTo>
                <a:lnTo>
                  <a:pt x="1732" y="1732"/>
                </a:lnTo>
                <a:lnTo>
                  <a:pt x="16" y="1736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5799240" y="4522680"/>
            <a:ext cx="1965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 = 1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12"/>
          <p:cNvSpPr/>
          <p:nvPr/>
        </p:nvSpPr>
        <p:spPr>
          <a:xfrm flipH="1">
            <a:off x="2444760" y="2336760"/>
            <a:ext cx="279360" cy="31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4857840" y="3137040"/>
            <a:ext cx="622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4"/>
          <p:cNvSpPr/>
          <p:nvPr/>
        </p:nvSpPr>
        <p:spPr>
          <a:xfrm flipH="1">
            <a:off x="5479920" y="4876920"/>
            <a:ext cx="31752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2713680" y="1973160"/>
            <a:ext cx="1554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5529240" y="2906640"/>
            <a:ext cx="948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 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0917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Combined-Constraint Graph Showing Feasible Reg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734560" y="461340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easib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g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271" name="Line 20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2" name="Line 21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3" name="Line 22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4" name="Line 23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5" name="Line 24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Line 25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Line 26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8" name="Line 27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9" name="Line 28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0" name="Group 29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281" name="Group 30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282" name="Line 31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3" name="Line 32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4" name="Line 33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5" name="Line 34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6" name="Line 35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7" name="Line 36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8" name="Line 37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9" name="Line 38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90" name="Line 39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Line 40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2" name="Line 41"/>
          <p:cNvSpPr/>
          <p:nvPr/>
        </p:nvSpPr>
        <p:spPr>
          <a:xfrm flipV="1">
            <a:off x="4794120" y="1816200"/>
            <a:ext cx="0" cy="397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DB1-129F-47C0-AA44-E6AFE53BA0E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2044800" y="3048120"/>
            <a:ext cx="2755800" cy="275580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1704" h="1736">
                <a:moveTo>
                  <a:pt x="0" y="0"/>
                </a:moveTo>
                <a:lnTo>
                  <a:pt x="1408" y="944"/>
                </a:lnTo>
                <a:lnTo>
                  <a:pt x="1704" y="1208"/>
                </a:lnTo>
                <a:lnTo>
                  <a:pt x="1704" y="1736"/>
                </a:lnTo>
                <a:lnTo>
                  <a:pt x="8" y="1736"/>
                </a:lnTo>
                <a:lnTo>
                  <a:pt x="8" y="56"/>
                </a:lnTo>
              </a:path>
            </a:pathLst>
          </a:custGeom>
          <a:solidFill>
            <a:srgbClr val="5f5f5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68580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Objective Function 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5678640" y="504180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7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10"/>
          <p:cNvSpPr/>
          <p:nvPr/>
        </p:nvSpPr>
        <p:spPr>
          <a:xfrm flipH="1">
            <a:off x="5378400" y="5429160"/>
            <a:ext cx="31752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2656080" y="273672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5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4101840" y="3090960"/>
            <a:ext cx="2615400" cy="8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Func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3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2025720" y="3638520"/>
            <a:ext cx="3263760" cy="215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3555720" y="3828960"/>
            <a:ext cx="584280" cy="730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2184480" y="3117960"/>
            <a:ext cx="48888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0" name="Group 18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311" name="Line 19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2" name="Line 20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3" name="Line 21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Line 22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5" name="Line 23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6" name="Line 24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Line 25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9" name="Group 27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320" name="Group 28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321" name="Line 29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Line 30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Line 32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5" name="Line 33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6" name="Line 34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7" name="Line 35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8" name="Line 36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29" name="Line 37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0" name="Line 38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618D-91C0-4217-9BB3-8D9F9387D12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Freeform 2"/>
          <p:cNvSpPr/>
          <p:nvPr/>
        </p:nvSpPr>
        <p:spPr>
          <a:xfrm>
            <a:off x="1967040" y="3395520"/>
            <a:ext cx="2755800" cy="277020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2770200"/>
              <a:gd name="textAreaBottom" fmla="*/ 2770200 h 2770200"/>
            </a:gdLst>
            <a:ahLst/>
            <a:rect l="textAreaLeft" t="textAreaTop" r="textAreaRight" b="textAreaBottom"/>
            <a:pathLst>
              <a:path w="1736" h="1745">
                <a:moveTo>
                  <a:pt x="0" y="9"/>
                </a:moveTo>
                <a:lnTo>
                  <a:pt x="1434" y="942"/>
                </a:lnTo>
                <a:lnTo>
                  <a:pt x="1735" y="1210"/>
                </a:lnTo>
                <a:lnTo>
                  <a:pt x="1736" y="1745"/>
                </a:lnTo>
                <a:lnTo>
                  <a:pt x="8" y="1745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85800" y="30492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1:  Graphical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09480" y="1371600"/>
            <a:ext cx="5378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elected Objective Func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984360" y="592308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1960560" y="6165720"/>
            <a:ext cx="4863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71400" y="174636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888640" y="3090960"/>
            <a:ext cx="1852200" cy="4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3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1986120" y="4013280"/>
            <a:ext cx="3200400" cy="214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1575000" y="24922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015640" y="62514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1960560" y="3720960"/>
            <a:ext cx="3581280" cy="24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708160" y="4637160"/>
            <a:ext cx="1852200" cy="4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4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4266720" y="3782880"/>
            <a:ext cx="1852200" cy="4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3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Line 15"/>
          <p:cNvSpPr/>
          <p:nvPr/>
        </p:nvSpPr>
        <p:spPr>
          <a:xfrm flipH="1">
            <a:off x="5148000" y="4984920"/>
            <a:ext cx="609480" cy="63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1973160" y="3530520"/>
            <a:ext cx="3924360" cy="261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47" name="Group 17"/>
          <p:cNvGrpSpPr/>
          <p:nvPr/>
        </p:nvGrpSpPr>
        <p:grpSpPr>
          <a:xfrm>
            <a:off x="2346480" y="6107040"/>
            <a:ext cx="4294080" cy="146160"/>
            <a:chOff x="2346480" y="6107040"/>
            <a:chExt cx="4294080" cy="146160"/>
          </a:xfrm>
        </p:grpSpPr>
        <p:grpSp>
          <p:nvGrpSpPr>
            <p:cNvPr id="348" name="Group 18"/>
            <p:cNvGrpSpPr/>
            <p:nvPr/>
          </p:nvGrpSpPr>
          <p:grpSpPr>
            <a:xfrm>
              <a:off x="2346480" y="6113520"/>
              <a:ext cx="3327480" cy="139680"/>
              <a:chOff x="2346480" y="6113520"/>
              <a:chExt cx="3327480" cy="139680"/>
            </a:xfrm>
          </p:grpSpPr>
          <p:sp>
            <p:nvSpPr>
              <p:cNvPr id="349" name="Line 19"/>
              <p:cNvSpPr/>
              <p:nvPr/>
            </p:nvSpPr>
            <p:spPr>
              <a:xfrm>
                <a:off x="567396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Line 20"/>
              <p:cNvSpPr/>
              <p:nvPr/>
            </p:nvSpPr>
            <p:spPr>
              <a:xfrm>
                <a:off x="519912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Line 21"/>
              <p:cNvSpPr/>
              <p:nvPr/>
            </p:nvSpPr>
            <p:spPr>
              <a:xfrm>
                <a:off x="472284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Line 22"/>
              <p:cNvSpPr/>
              <p:nvPr/>
            </p:nvSpPr>
            <p:spPr>
              <a:xfrm>
                <a:off x="424836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Line 23"/>
              <p:cNvSpPr/>
              <p:nvPr/>
            </p:nvSpPr>
            <p:spPr>
              <a:xfrm>
                <a:off x="377208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Line 24"/>
              <p:cNvSpPr/>
              <p:nvPr/>
            </p:nvSpPr>
            <p:spPr>
              <a:xfrm>
                <a:off x="329724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Line 25"/>
              <p:cNvSpPr/>
              <p:nvPr/>
            </p:nvSpPr>
            <p:spPr>
              <a:xfrm>
                <a:off x="282096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Line 26"/>
              <p:cNvSpPr/>
              <p:nvPr/>
            </p:nvSpPr>
            <p:spPr>
              <a:xfrm>
                <a:off x="234648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>
              <a:off x="6151680" y="6107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6640560" y="6107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59" name="Line 29"/>
          <p:cNvSpPr/>
          <p:nvPr/>
        </p:nvSpPr>
        <p:spPr>
          <a:xfrm flipH="1">
            <a:off x="3719160" y="4152960"/>
            <a:ext cx="584280" cy="73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Line 30"/>
          <p:cNvSpPr/>
          <p:nvPr/>
        </p:nvSpPr>
        <p:spPr>
          <a:xfrm flipH="1">
            <a:off x="2195280" y="3454560"/>
            <a:ext cx="739800" cy="66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Line 31"/>
          <p:cNvSpPr/>
          <p:nvPr/>
        </p:nvSpPr>
        <p:spPr>
          <a:xfrm>
            <a:off x="1967040" y="2286000"/>
            <a:ext cx="0" cy="387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2" name="Group 32"/>
          <p:cNvGrpSpPr/>
          <p:nvPr/>
        </p:nvGrpSpPr>
        <p:grpSpPr>
          <a:xfrm>
            <a:off x="1890720" y="2673360"/>
            <a:ext cx="139680" cy="3111480"/>
            <a:chOff x="1890720" y="2673360"/>
            <a:chExt cx="139680" cy="3111480"/>
          </a:xfrm>
        </p:grpSpPr>
        <p:sp>
          <p:nvSpPr>
            <p:cNvPr id="363" name="Line 33"/>
            <p:cNvSpPr/>
            <p:nvPr/>
          </p:nvSpPr>
          <p:spPr>
            <a:xfrm>
              <a:off x="1890720" y="2673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>
              <a:off x="1890720" y="31179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Line 35"/>
            <p:cNvSpPr/>
            <p:nvPr/>
          </p:nvSpPr>
          <p:spPr>
            <a:xfrm>
              <a:off x="1890720" y="3562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Line 36"/>
            <p:cNvSpPr/>
            <p:nvPr/>
          </p:nvSpPr>
          <p:spPr>
            <a:xfrm>
              <a:off x="1890720" y="400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Line 37"/>
            <p:cNvSpPr/>
            <p:nvPr/>
          </p:nvSpPr>
          <p:spPr>
            <a:xfrm>
              <a:off x="1890720" y="44514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Line 38"/>
            <p:cNvSpPr/>
            <p:nvPr/>
          </p:nvSpPr>
          <p:spPr>
            <a:xfrm>
              <a:off x="1890720" y="48960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>
              <a:off x="1890720" y="5340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>
              <a:off x="1890720" y="57848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F6BB-12E4-43C3-BD4F-4FA771EFF0A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Freeform 2"/>
          <p:cNvSpPr/>
          <p:nvPr/>
        </p:nvSpPr>
        <p:spPr>
          <a:xfrm>
            <a:off x="2057400" y="3022560"/>
            <a:ext cx="2743200" cy="278136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1696" h="1752">
                <a:moveTo>
                  <a:pt x="0" y="8"/>
                </a:moveTo>
                <a:lnTo>
                  <a:pt x="1448" y="960"/>
                </a:lnTo>
                <a:lnTo>
                  <a:pt x="1696" y="1224"/>
                </a:lnTo>
                <a:lnTo>
                  <a:pt x="1696" y="1752"/>
                </a:lnTo>
                <a:lnTo>
                  <a:pt x="0" y="1752"/>
                </a:lnTo>
                <a:lnTo>
                  <a:pt x="0" y="0"/>
                </a:lnTo>
              </a:path>
            </a:pathLst>
          </a:custGeom>
          <a:solidFill>
            <a:srgbClr val="5f5f5f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781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1649160" y="138744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266920" y="3073320"/>
            <a:ext cx="3225960" cy="2235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395520" y="1617840"/>
            <a:ext cx="3235680" cy="11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aximu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Function Lin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4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2889360" y="2692440"/>
            <a:ext cx="583920" cy="73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Oval 12"/>
          <p:cNvSpPr/>
          <p:nvPr/>
        </p:nvSpPr>
        <p:spPr>
          <a:xfrm>
            <a:off x="4299120" y="448956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Line 13"/>
          <p:cNvSpPr/>
          <p:nvPr/>
        </p:nvSpPr>
        <p:spPr>
          <a:xfrm flipH="1">
            <a:off x="4328640" y="4578480"/>
            <a:ext cx="3240" cy="1212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Line 14"/>
          <p:cNvSpPr/>
          <p:nvPr/>
        </p:nvSpPr>
        <p:spPr>
          <a:xfrm flipH="1">
            <a:off x="2107800" y="4532400"/>
            <a:ext cx="2235240" cy="3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Line 15"/>
          <p:cNvSpPr/>
          <p:nvPr/>
        </p:nvSpPr>
        <p:spPr>
          <a:xfrm flipH="1">
            <a:off x="4451040" y="3727440"/>
            <a:ext cx="584280" cy="730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16"/>
          <p:cNvSpPr/>
          <p:nvPr/>
        </p:nvSpPr>
        <p:spPr>
          <a:xfrm>
            <a:off x="4983840" y="2938320"/>
            <a:ext cx="2385000" cy="8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ptimal Solu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5,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3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89" name="Group 19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390" name="Line 20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Line 24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5" name="Line 25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Line 27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399" name="Group 29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400" name="Line 30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1" name="Line 31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2" name="Line 32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3" name="Line 33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4" name="Line 34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5" name="Line 35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6" name="Line 36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7" name="Line 37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08" name="Line 38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Line 39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E11-6922-4414-A7D7-34934260DAD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820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Summary of the Graphical Solution Procedure for Maximization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795672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 a graph of the feasible solutions for each of the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 the feasible region that satisfies all the constraints simultaneous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aw an objective function l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 parallel objective function lines tow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arg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bjective function values without entirely leaving the feasible reg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feasible solution on the objective function line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arge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value is an optimal solu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40F-2E52-49C9-8E99-5CD865A7CB8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Slack and Surplus Variab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inear program in which all the variables are non-negative and all the constraints are equalities is said to b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ndard for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form is attained by add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lack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"less than or equal to" constraints, and by subtract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rplus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rom "greater than or equal to" constraint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ck and surplus variables represent the difference between the left and right sides of the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ck and surplus variables have objective function coefficients equal to 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E97B-5EA4-43EB-8ECE-B74B95649E4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1751040" y="2266920"/>
            <a:ext cx="5562720" cy="38862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760400" y="2908080"/>
            <a:ext cx="553248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Max     5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+ 7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0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0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0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.t.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+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=   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+ 3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=  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+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=   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609480" y="1600200"/>
            <a:ext cx="5213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 1 in Standard 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Slack Variables (for </a:t>
            </a:r>
            <a:r>
              <a:rPr b="1" lang="en-US" sz="4400" spc="-1" strike="noStrike" u="sng">
                <a:solidFill>
                  <a:srgbClr val="00ffcc"/>
                </a:solidFill>
                <a:uFillTx/>
                <a:latin typeface="Book Antiqua"/>
              </a:rPr>
              <a:t>&lt;</a:t>
            </a: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 constraints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03120" y="5772240"/>
            <a:ext cx="2826000" cy="137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ck 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B3AE-D483-4E28-8598-C392F14FB50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687240" y="1009800"/>
            <a:ext cx="3194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Optimal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lack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6935040" y="562464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1917720" y="200016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522080" y="144792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1943280" y="2400480"/>
            <a:ext cx="3682800" cy="3479760"/>
          </a:xfrm>
          <a:custGeom>
            <a:avLst/>
            <a:gdLst/>
            <a:ahLst/>
            <a:rect l="l" t="t" r="r" b="b"/>
            <a:pathLst>
              <a:path w="2296" h="2200">
                <a:moveTo>
                  <a:pt x="0" y="0"/>
                </a:moveTo>
                <a:lnTo>
                  <a:pt x="2296" y="22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Freeform 8"/>
          <p:cNvSpPr/>
          <p:nvPr/>
        </p:nvSpPr>
        <p:spPr>
          <a:xfrm>
            <a:off x="1924200" y="3124080"/>
            <a:ext cx="4413240" cy="2743200"/>
          </a:xfrm>
          <a:custGeom>
            <a:avLst/>
            <a:gdLst/>
            <a:ahLst/>
            <a:rect l="l" t="t" r="r" b="b"/>
            <a:pathLst>
              <a:path w="2732" h="1736">
                <a:moveTo>
                  <a:pt x="0" y="0"/>
                </a:moveTo>
                <a:lnTo>
                  <a:pt x="2732" y="173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Freeform 9"/>
          <p:cNvSpPr/>
          <p:nvPr/>
        </p:nvSpPr>
        <p:spPr>
          <a:xfrm>
            <a:off x="1917720" y="3117960"/>
            <a:ext cx="2754360" cy="275580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1735" h="1736">
                <a:moveTo>
                  <a:pt x="0" y="20"/>
                </a:moveTo>
                <a:lnTo>
                  <a:pt x="1452" y="907"/>
                </a:lnTo>
                <a:lnTo>
                  <a:pt x="1735" y="1177"/>
                </a:lnTo>
                <a:lnTo>
                  <a:pt x="1732" y="1732"/>
                </a:lnTo>
                <a:lnTo>
                  <a:pt x="16" y="1736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525680" y="218124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1966320" y="595296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5850000" y="3735360"/>
            <a:ext cx="196524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Secon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Constra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 = 1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Line 13"/>
          <p:cNvSpPr/>
          <p:nvPr/>
        </p:nvSpPr>
        <p:spPr>
          <a:xfrm flipH="1">
            <a:off x="2317680" y="2400480"/>
            <a:ext cx="279360" cy="31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Line 14"/>
          <p:cNvSpPr/>
          <p:nvPr/>
        </p:nvSpPr>
        <p:spPr>
          <a:xfrm flipH="1">
            <a:off x="4730400" y="26668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Line 15"/>
          <p:cNvSpPr/>
          <p:nvPr/>
        </p:nvSpPr>
        <p:spPr>
          <a:xfrm flipH="1">
            <a:off x="5250960" y="4762440"/>
            <a:ext cx="584280" cy="349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2570760" y="1465200"/>
            <a:ext cx="16261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stra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5056920" y="1852560"/>
            <a:ext cx="16261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Firs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Constra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 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9" name="Group 18"/>
          <p:cNvGrpSpPr/>
          <p:nvPr/>
        </p:nvGrpSpPr>
        <p:grpSpPr>
          <a:xfrm>
            <a:off x="1841400" y="2362320"/>
            <a:ext cx="139680" cy="3111480"/>
            <a:chOff x="1841400" y="2362320"/>
            <a:chExt cx="139680" cy="3111480"/>
          </a:xfrm>
        </p:grpSpPr>
        <p:sp>
          <p:nvSpPr>
            <p:cNvPr id="440" name="Line 19"/>
            <p:cNvSpPr/>
            <p:nvPr/>
          </p:nvSpPr>
          <p:spPr>
            <a:xfrm>
              <a:off x="1841400" y="23623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1" name="Line 20"/>
            <p:cNvSpPr/>
            <p:nvPr/>
          </p:nvSpPr>
          <p:spPr>
            <a:xfrm>
              <a:off x="1841400" y="28069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2" name="Line 21"/>
            <p:cNvSpPr/>
            <p:nvPr/>
          </p:nvSpPr>
          <p:spPr>
            <a:xfrm>
              <a:off x="1841400" y="32515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3" name="Line 22"/>
            <p:cNvSpPr/>
            <p:nvPr/>
          </p:nvSpPr>
          <p:spPr>
            <a:xfrm>
              <a:off x="1841400" y="36961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4" name="Line 23"/>
            <p:cNvSpPr/>
            <p:nvPr/>
          </p:nvSpPr>
          <p:spPr>
            <a:xfrm>
              <a:off x="1841400" y="4140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5" name="Line 24"/>
            <p:cNvSpPr/>
            <p:nvPr/>
          </p:nvSpPr>
          <p:spPr>
            <a:xfrm>
              <a:off x="1841400" y="45849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6" name="Line 25"/>
            <p:cNvSpPr/>
            <p:nvPr/>
          </p:nvSpPr>
          <p:spPr>
            <a:xfrm>
              <a:off x="1841400" y="5029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7" name="Line 26"/>
            <p:cNvSpPr/>
            <p:nvPr/>
          </p:nvSpPr>
          <p:spPr>
            <a:xfrm>
              <a:off x="1841400" y="5473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48" name="Line 27"/>
          <p:cNvSpPr/>
          <p:nvPr/>
        </p:nvSpPr>
        <p:spPr>
          <a:xfrm>
            <a:off x="1911240" y="5867280"/>
            <a:ext cx="486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2297160" y="5808600"/>
            <a:ext cx="4294080" cy="146160"/>
            <a:chOff x="2297160" y="5808600"/>
            <a:chExt cx="4294080" cy="146160"/>
          </a:xfrm>
        </p:grpSpPr>
        <p:grpSp>
          <p:nvGrpSpPr>
            <p:cNvPr id="450" name="Group 29"/>
            <p:cNvGrpSpPr/>
            <p:nvPr/>
          </p:nvGrpSpPr>
          <p:grpSpPr>
            <a:xfrm>
              <a:off x="2297160" y="5815080"/>
              <a:ext cx="3327480" cy="139680"/>
              <a:chOff x="2297160" y="5815080"/>
              <a:chExt cx="3327480" cy="139680"/>
            </a:xfrm>
          </p:grpSpPr>
          <p:sp>
            <p:nvSpPr>
              <p:cNvPr id="451" name="Line 30"/>
              <p:cNvSpPr/>
              <p:nvPr/>
            </p:nvSpPr>
            <p:spPr>
              <a:xfrm>
                <a:off x="562464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2" name="Line 31"/>
              <p:cNvSpPr/>
              <p:nvPr/>
            </p:nvSpPr>
            <p:spPr>
              <a:xfrm>
                <a:off x="514980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3" name="Line 32"/>
              <p:cNvSpPr/>
              <p:nvPr/>
            </p:nvSpPr>
            <p:spPr>
              <a:xfrm>
                <a:off x="467352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4" name="Line 33"/>
              <p:cNvSpPr/>
              <p:nvPr/>
            </p:nvSpPr>
            <p:spPr>
              <a:xfrm>
                <a:off x="419904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5" name="Line 34"/>
              <p:cNvSpPr/>
              <p:nvPr/>
            </p:nvSpPr>
            <p:spPr>
              <a:xfrm>
                <a:off x="372276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6" name="Line 35"/>
              <p:cNvSpPr/>
              <p:nvPr/>
            </p:nvSpPr>
            <p:spPr>
              <a:xfrm>
                <a:off x="324792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7" name="Line 36"/>
              <p:cNvSpPr/>
              <p:nvPr/>
            </p:nvSpPr>
            <p:spPr>
              <a:xfrm>
                <a:off x="277164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8" name="Line 37"/>
              <p:cNvSpPr/>
              <p:nvPr/>
            </p:nvSpPr>
            <p:spPr>
              <a:xfrm>
                <a:off x="229716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59" name="Line 38"/>
            <p:cNvSpPr/>
            <p:nvPr/>
          </p:nvSpPr>
          <p:spPr>
            <a:xfrm>
              <a:off x="6102360" y="5808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0" name="Line 39"/>
            <p:cNvSpPr/>
            <p:nvPr/>
          </p:nvSpPr>
          <p:spPr>
            <a:xfrm>
              <a:off x="6591240" y="5808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61" name="Line 40"/>
          <p:cNvSpPr/>
          <p:nvPr/>
        </p:nvSpPr>
        <p:spPr>
          <a:xfrm flipV="1">
            <a:off x="4667400" y="1968120"/>
            <a:ext cx="0" cy="38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Oval 41"/>
          <p:cNvSpPr/>
          <p:nvPr/>
        </p:nvSpPr>
        <p:spPr>
          <a:xfrm>
            <a:off x="4172040" y="45147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Rectangle 42"/>
          <p:cNvSpPr/>
          <p:nvPr/>
        </p:nvSpPr>
        <p:spPr>
          <a:xfrm>
            <a:off x="2211120" y="4589640"/>
            <a:ext cx="1883880" cy="11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ptim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5,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3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Line 43"/>
          <p:cNvSpPr/>
          <p:nvPr/>
        </p:nvSpPr>
        <p:spPr>
          <a:xfrm flipV="1">
            <a:off x="3727440" y="4603680"/>
            <a:ext cx="419040" cy="146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AutoShape 44"/>
          <p:cNvSpPr/>
          <p:nvPr/>
        </p:nvSpPr>
        <p:spPr>
          <a:xfrm>
            <a:off x="5384880" y="2892240"/>
            <a:ext cx="1000080" cy="52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AutoShape 45"/>
          <p:cNvSpPr/>
          <p:nvPr/>
        </p:nvSpPr>
        <p:spPr>
          <a:xfrm>
            <a:off x="6350040" y="4911480"/>
            <a:ext cx="1000080" cy="52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AutoShape 46"/>
          <p:cNvSpPr/>
          <p:nvPr/>
        </p:nvSpPr>
        <p:spPr>
          <a:xfrm>
            <a:off x="2895480" y="2498400"/>
            <a:ext cx="1000080" cy="52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945-CB2A-4EC1-B545-69E0DDDAD5E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treme Points and the Optim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rners or vertices of the feasible region are referred to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treme poi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optimal solution to an LP problem can be found at an extreme point of the feasible reg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looking for the optimal solution, you do not have to evaluate all feasible solution poi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have to consider only the extreme points of the feasible reg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E2AD-625C-499F-B3A2-1B0C877DFB0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Linear Programm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7240" y="1009800"/>
            <a:ext cx="8020080" cy="29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Linear programming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has nothing to do with computer programm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The use of the word “programming” here means “choosing a course of ac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Linear programming involves choosing a course of action when the mathematical model of the problem contains only linear func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C70F-53F3-4226-A05E-A4B9C7974E6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Extreme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949440" y="582444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2027160" y="6067440"/>
            <a:ext cx="486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1957320" y="3324240"/>
            <a:ext cx="2832120" cy="2743200"/>
          </a:xfrm>
          <a:custGeom>
            <a:avLst/>
            <a:gdLst/>
            <a:ahLst/>
            <a:rect l="l" t="t" r="r" b="b"/>
            <a:pathLst>
              <a:path w="1784" h="1728">
                <a:moveTo>
                  <a:pt x="8" y="8"/>
                </a:moveTo>
                <a:lnTo>
                  <a:pt x="1466" y="936"/>
                </a:lnTo>
                <a:lnTo>
                  <a:pt x="1784" y="1232"/>
                </a:lnTo>
                <a:lnTo>
                  <a:pt x="1784" y="1728"/>
                </a:lnTo>
                <a:lnTo>
                  <a:pt x="0" y="1728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2710800" y="480060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easib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g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Oval 7"/>
          <p:cNvSpPr/>
          <p:nvPr/>
        </p:nvSpPr>
        <p:spPr>
          <a:xfrm>
            <a:off x="4268880" y="479124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4751280" y="524196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Oval 9"/>
          <p:cNvSpPr/>
          <p:nvPr/>
        </p:nvSpPr>
        <p:spPr>
          <a:xfrm>
            <a:off x="2077920" y="5610240"/>
            <a:ext cx="36216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Oval 10"/>
          <p:cNvSpPr/>
          <p:nvPr/>
        </p:nvSpPr>
        <p:spPr>
          <a:xfrm>
            <a:off x="4903920" y="5597640"/>
            <a:ext cx="36180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Oval 11"/>
          <p:cNvSpPr/>
          <p:nvPr/>
        </p:nvSpPr>
        <p:spPr>
          <a:xfrm>
            <a:off x="4903920" y="4943520"/>
            <a:ext cx="36180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Oval 12"/>
          <p:cNvSpPr/>
          <p:nvPr/>
        </p:nvSpPr>
        <p:spPr>
          <a:xfrm>
            <a:off x="4357800" y="4410000"/>
            <a:ext cx="361800" cy="3621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Oval 13"/>
          <p:cNvSpPr/>
          <p:nvPr/>
        </p:nvSpPr>
        <p:spPr>
          <a:xfrm>
            <a:off x="2065320" y="3006720"/>
            <a:ext cx="36180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1599840" y="1600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1552680" y="243216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69640" y="617868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87" name="Group 17"/>
          <p:cNvGrpSpPr/>
          <p:nvPr/>
        </p:nvGrpSpPr>
        <p:grpSpPr>
          <a:xfrm>
            <a:off x="2400480" y="6008040"/>
            <a:ext cx="4294080" cy="145440"/>
            <a:chOff x="2400480" y="6008040"/>
            <a:chExt cx="4294080" cy="145440"/>
          </a:xfrm>
        </p:grpSpPr>
        <p:grpSp>
          <p:nvGrpSpPr>
            <p:cNvPr id="488" name="Group 18"/>
            <p:cNvGrpSpPr/>
            <p:nvPr/>
          </p:nvGrpSpPr>
          <p:grpSpPr>
            <a:xfrm>
              <a:off x="2400480" y="6014160"/>
              <a:ext cx="3327480" cy="139320"/>
              <a:chOff x="2400480" y="6014160"/>
              <a:chExt cx="3327480" cy="139320"/>
            </a:xfrm>
          </p:grpSpPr>
          <p:sp>
            <p:nvSpPr>
              <p:cNvPr id="489" name="Line 19"/>
              <p:cNvSpPr/>
              <p:nvPr/>
            </p:nvSpPr>
            <p:spPr>
              <a:xfrm>
                <a:off x="572796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0" name="Line 20"/>
              <p:cNvSpPr/>
              <p:nvPr/>
            </p:nvSpPr>
            <p:spPr>
              <a:xfrm>
                <a:off x="525312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477684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>
                <a:off x="430236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3" name="Line 23"/>
              <p:cNvSpPr/>
              <p:nvPr/>
            </p:nvSpPr>
            <p:spPr>
              <a:xfrm>
                <a:off x="382608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4" name="Line 24"/>
              <p:cNvSpPr/>
              <p:nvPr/>
            </p:nvSpPr>
            <p:spPr>
              <a:xfrm>
                <a:off x="335124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5" name="Line 25"/>
              <p:cNvSpPr/>
              <p:nvPr/>
            </p:nvSpPr>
            <p:spPr>
              <a:xfrm>
                <a:off x="287496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6" name="Line 26"/>
              <p:cNvSpPr/>
              <p:nvPr/>
            </p:nvSpPr>
            <p:spPr>
              <a:xfrm>
                <a:off x="240048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>
              <a:off x="6205680" y="600804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694560" y="600804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99" name="Oval 29"/>
          <p:cNvSpPr/>
          <p:nvPr/>
        </p:nvSpPr>
        <p:spPr>
          <a:xfrm>
            <a:off x="4738680" y="6022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Line 30"/>
          <p:cNvSpPr/>
          <p:nvPr/>
        </p:nvSpPr>
        <p:spPr>
          <a:xfrm>
            <a:off x="1957320" y="2187720"/>
            <a:ext cx="0" cy="38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Oval 31"/>
          <p:cNvSpPr/>
          <p:nvPr/>
        </p:nvSpPr>
        <p:spPr>
          <a:xfrm>
            <a:off x="1919160" y="331164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1919160" y="6022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3" name="Group 33"/>
          <p:cNvGrpSpPr/>
          <p:nvPr/>
        </p:nvGrpSpPr>
        <p:grpSpPr>
          <a:xfrm>
            <a:off x="1881360" y="2612880"/>
            <a:ext cx="139680" cy="3111480"/>
            <a:chOff x="1881360" y="2612880"/>
            <a:chExt cx="139680" cy="3111480"/>
          </a:xfrm>
        </p:grpSpPr>
        <p:sp>
          <p:nvSpPr>
            <p:cNvPr id="504" name="Line 34"/>
            <p:cNvSpPr/>
            <p:nvPr/>
          </p:nvSpPr>
          <p:spPr>
            <a:xfrm>
              <a:off x="1881360" y="26128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1881360" y="30574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>
              <a:off x="1881360" y="35020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>
              <a:off x="1881360" y="39466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>
              <a:off x="1881360" y="43909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9" name="Line 39"/>
            <p:cNvSpPr/>
            <p:nvPr/>
          </p:nvSpPr>
          <p:spPr>
            <a:xfrm>
              <a:off x="1881360" y="48355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0" name="Line 40"/>
            <p:cNvSpPr/>
            <p:nvPr/>
          </p:nvSpPr>
          <p:spPr>
            <a:xfrm>
              <a:off x="1881360" y="52801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1" name="Line 41"/>
            <p:cNvSpPr/>
            <p:nvPr/>
          </p:nvSpPr>
          <p:spPr>
            <a:xfrm>
              <a:off x="1881360" y="5724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12" name="Text Box 42"/>
          <p:cNvSpPr/>
          <p:nvPr/>
        </p:nvSpPr>
        <p:spPr>
          <a:xfrm>
            <a:off x="2428200" y="2978280"/>
            <a:ext cx="12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6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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4738680" y="436572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5, 3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AutoShape 44"/>
          <p:cNvSpPr/>
          <p:nvPr/>
        </p:nvSpPr>
        <p:spPr>
          <a:xfrm>
            <a:off x="2429640" y="5565600"/>
            <a:ext cx="862200" cy="47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5297760" y="491184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6, 2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5259600" y="557208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6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51D-454C-466C-A043-E3E241FFD55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Computer Sol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P problems involving 1000s of variables and 1000s of constraints are now routinely solved with computer packag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ear programming solvers are now part of many spreadsheet packages, such as Microsoft Exc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ding commercial packages include CPLEX, LINGO, MOSEK, Xpress-MP, and Premium Solver for Exc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anagement Scientist, a package developed by the authors of your textbook, has an LP modu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D69-9E42-402B-B94F-9B3D8C1C062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Interpretation of Computer Outp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is chapter we will discuss the following outpu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ive function val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ues of the 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ck and surp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next chapter we will discuss how an optimal solution is affected by a change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efficient of the objective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ght-hand side value of a constra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5300-ACC2-4499-8C7A-0BDD673EE0A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Problem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2980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7D79-AB1C-4498-9C4F-EB670CF7CBE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08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B36-2452-44FF-9EFB-F1D4702A1A8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990720" y="2895480"/>
            <a:ext cx="6286320" cy="37911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Interpretation of Computer Outp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We see from the previous slide tha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Objective Function Value  =  4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ision Variable #1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)   =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ision Variable #2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)   =  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lack in Constraint #1        =    6 –   5 =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lack in Constraint #2        =  19 – 19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lack in Constraint #3        =    8 –   8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CE7-9622-424E-BE4D-CC7001984B7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2806560" y="2330280"/>
            <a:ext cx="3530880" cy="2870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A Simple Minimization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301608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LP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3011400" y="2457360"/>
            <a:ext cx="33084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in     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7E1C-942A-48F7-A892-0F8F558E36D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0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Graph th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nstraint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2;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5.  Connect (5,0) and (0,2).  The "&gt;" side i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ve this 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nstraint 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3.  But set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will yiel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-12, which is not on the graph.  Thus, to get a second point on this line,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y number larger than 3 and solve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5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8.  Connect (3,0) and (5,8).  The "&gt;" side is to the righ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nstraint 3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4;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4.  Connect (4,0) and (0,4).  The "&gt;" side i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ve this 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8F7E-C71C-4FF2-AA29-64ED7A2A4C1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8769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Constraints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2082960" y="2427120"/>
            <a:ext cx="0" cy="3716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Line 5"/>
          <p:cNvSpPr/>
          <p:nvPr/>
        </p:nvSpPr>
        <p:spPr>
          <a:xfrm>
            <a:off x="2070000" y="3735360"/>
            <a:ext cx="2184480" cy="236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1850400" y="183024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5593680" y="3232080"/>
            <a:ext cx="19569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5550120" y="4689360"/>
            <a:ext cx="21110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5861880" y="585612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5357880" y="3979800"/>
            <a:ext cx="257040" cy="1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Freeform 11"/>
          <p:cNvSpPr/>
          <p:nvPr/>
        </p:nvSpPr>
        <p:spPr>
          <a:xfrm>
            <a:off x="3809880" y="2514600"/>
            <a:ext cx="1552680" cy="360036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978" h="2268">
                <a:moveTo>
                  <a:pt x="0" y="1956"/>
                </a:moveTo>
                <a:lnTo>
                  <a:pt x="437" y="0"/>
                </a:lnTo>
                <a:lnTo>
                  <a:pt x="978" y="0"/>
                </a:lnTo>
                <a:lnTo>
                  <a:pt x="966" y="2268"/>
                </a:lnTo>
                <a:lnTo>
                  <a:pt x="609" y="2262"/>
                </a:lnTo>
                <a:lnTo>
                  <a:pt x="35" y="1998"/>
                </a:lnTo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4384800" y="3490920"/>
            <a:ext cx="1195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Line 13"/>
          <p:cNvSpPr/>
          <p:nvPr/>
        </p:nvSpPr>
        <p:spPr>
          <a:xfrm>
            <a:off x="2070000" y="6137280"/>
            <a:ext cx="3699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Line 14"/>
          <p:cNvSpPr/>
          <p:nvPr/>
        </p:nvSpPr>
        <p:spPr>
          <a:xfrm flipV="1">
            <a:off x="3710160" y="2527200"/>
            <a:ext cx="817560" cy="3587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2089080" y="4930920"/>
            <a:ext cx="2727360" cy="1180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Line 16"/>
          <p:cNvSpPr/>
          <p:nvPr/>
        </p:nvSpPr>
        <p:spPr>
          <a:xfrm flipV="1">
            <a:off x="4478400" y="5030280"/>
            <a:ext cx="1130400" cy="871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3284640" y="4122720"/>
            <a:ext cx="2289240" cy="814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Line 18"/>
          <p:cNvSpPr/>
          <p:nvPr/>
        </p:nvSpPr>
        <p:spPr>
          <a:xfrm flipV="1">
            <a:off x="5022720" y="2736360"/>
            <a:ext cx="917640" cy="236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5874120" y="2509920"/>
            <a:ext cx="2235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easible Reg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2371320" y="61912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4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1716120" y="2295360"/>
            <a:ext cx="32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64" name="Group 22"/>
          <p:cNvGrpSpPr/>
          <p:nvPr/>
        </p:nvGrpSpPr>
        <p:grpSpPr>
          <a:xfrm>
            <a:off x="2341440" y="6062760"/>
            <a:ext cx="3022560" cy="156960"/>
            <a:chOff x="2341440" y="6062760"/>
            <a:chExt cx="3022560" cy="156960"/>
          </a:xfrm>
        </p:grpSpPr>
        <p:sp>
          <p:nvSpPr>
            <p:cNvPr id="565" name="Line 23"/>
            <p:cNvSpPr/>
            <p:nvPr/>
          </p:nvSpPr>
          <p:spPr>
            <a:xfrm>
              <a:off x="481140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426060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37112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43656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Line 27"/>
            <p:cNvSpPr/>
            <p:nvPr/>
          </p:nvSpPr>
          <p:spPr>
            <a:xfrm>
              <a:off x="31622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Line 28"/>
            <p:cNvSpPr/>
            <p:nvPr/>
          </p:nvSpPr>
          <p:spPr>
            <a:xfrm>
              <a:off x="28796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Line 29"/>
            <p:cNvSpPr/>
            <p:nvPr/>
          </p:nvSpPr>
          <p:spPr>
            <a:xfrm>
              <a:off x="261612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Line 30"/>
            <p:cNvSpPr/>
            <p:nvPr/>
          </p:nvSpPr>
          <p:spPr>
            <a:xfrm>
              <a:off x="23414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Line 31"/>
            <p:cNvSpPr/>
            <p:nvPr/>
          </p:nvSpPr>
          <p:spPr>
            <a:xfrm>
              <a:off x="45338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>
              <a:off x="398772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Line 33"/>
            <p:cNvSpPr/>
            <p:nvPr/>
          </p:nvSpPr>
          <p:spPr>
            <a:xfrm>
              <a:off x="5087880" y="60627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Line 34"/>
            <p:cNvSpPr/>
            <p:nvPr/>
          </p:nvSpPr>
          <p:spPr>
            <a:xfrm>
              <a:off x="5364000" y="60627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577" name="Group 35"/>
          <p:cNvGrpSpPr/>
          <p:nvPr/>
        </p:nvGrpSpPr>
        <p:grpSpPr>
          <a:xfrm>
            <a:off x="2013120" y="2508120"/>
            <a:ext cx="118800" cy="3327480"/>
            <a:chOff x="2013120" y="2508120"/>
            <a:chExt cx="118800" cy="3327480"/>
          </a:xfrm>
        </p:grpSpPr>
        <p:sp>
          <p:nvSpPr>
            <p:cNvPr id="578" name="Line 36"/>
            <p:cNvSpPr/>
            <p:nvPr/>
          </p:nvSpPr>
          <p:spPr>
            <a:xfrm>
              <a:off x="2013120" y="31176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Line 37"/>
            <p:cNvSpPr/>
            <p:nvPr/>
          </p:nvSpPr>
          <p:spPr>
            <a:xfrm>
              <a:off x="2013120" y="37242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Line 38"/>
            <p:cNvSpPr/>
            <p:nvPr/>
          </p:nvSpPr>
          <p:spPr>
            <a:xfrm>
              <a:off x="2013120" y="4329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Line 39"/>
            <p:cNvSpPr/>
            <p:nvPr/>
          </p:nvSpPr>
          <p:spPr>
            <a:xfrm>
              <a:off x="2013120" y="46306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Line 40"/>
            <p:cNvSpPr/>
            <p:nvPr/>
          </p:nvSpPr>
          <p:spPr>
            <a:xfrm>
              <a:off x="2013120" y="49323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Line 41"/>
            <p:cNvSpPr/>
            <p:nvPr/>
          </p:nvSpPr>
          <p:spPr>
            <a:xfrm>
              <a:off x="2013120" y="52434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Line 42"/>
            <p:cNvSpPr/>
            <p:nvPr/>
          </p:nvSpPr>
          <p:spPr>
            <a:xfrm>
              <a:off x="2013120" y="55339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Line 43"/>
            <p:cNvSpPr/>
            <p:nvPr/>
          </p:nvSpPr>
          <p:spPr>
            <a:xfrm>
              <a:off x="2013120" y="58356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Line 44"/>
            <p:cNvSpPr/>
            <p:nvPr/>
          </p:nvSpPr>
          <p:spPr>
            <a:xfrm>
              <a:off x="2013120" y="34225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Line 45"/>
            <p:cNvSpPr/>
            <p:nvPr/>
          </p:nvSpPr>
          <p:spPr>
            <a:xfrm>
              <a:off x="2013120" y="40240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Line 46"/>
            <p:cNvSpPr/>
            <p:nvPr/>
          </p:nvSpPr>
          <p:spPr>
            <a:xfrm>
              <a:off x="2013120" y="25081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Line 47"/>
            <p:cNvSpPr/>
            <p:nvPr/>
          </p:nvSpPr>
          <p:spPr>
            <a:xfrm>
              <a:off x="2013120" y="281304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0" name="Rectangle 48"/>
          <p:cNvSpPr/>
          <p:nvPr/>
        </p:nvSpPr>
        <p:spPr>
          <a:xfrm>
            <a:off x="5590080" y="3851280"/>
            <a:ext cx="16311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D5B7-C39D-425A-BEF9-BA0E045FADA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Garamond"/>
                <a:ea typeface="SimSun"/>
              </a:rPr>
              <a:t>Graph the Objective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et the objective function equal to an arbitrary constant (say 20) and graph it.  For 5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+ 2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20, w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0, t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10; w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= 0, t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4.  Connect (4,0) and (0,10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Garamond"/>
                <a:ea typeface="SimSun"/>
              </a:rPr>
              <a:t>Move the Objective Function Line Toward Optim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Move it in the direction which lowers its value (down), since we are minimizing, until it touches the last point of the feasible region, determined by the last two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B63-8AAF-4182-B9E5-EAA9E959DDE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Linear Programming (LP)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aximiz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inimiz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some quantity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all linear programming proble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LP problem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at limit the degree to which the objective can be pursu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easible solu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atisfies all the problem's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ptimal solu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feasible solution that results in the largest possible objective function value when maximizing (or smallest when minimizing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raphical solution metho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be used to solve a linear program with two variab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8714-960F-4606-99DC-37CBBDFF055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09480" y="380880"/>
            <a:ext cx="83059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2:  Graphical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Line 3"/>
          <p:cNvSpPr/>
          <p:nvPr/>
        </p:nvSpPr>
        <p:spPr>
          <a:xfrm>
            <a:off x="2081160" y="2560680"/>
            <a:ext cx="0" cy="3716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Line 4"/>
          <p:cNvSpPr/>
          <p:nvPr/>
        </p:nvSpPr>
        <p:spPr>
          <a:xfrm>
            <a:off x="2087640" y="3849840"/>
            <a:ext cx="2171520" cy="24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1848600" y="196380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5592240" y="3276720"/>
            <a:ext cx="19569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5548680" y="4822920"/>
            <a:ext cx="21110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5657040" y="600876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5356080" y="4113360"/>
            <a:ext cx="257400" cy="12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Freeform 10"/>
          <p:cNvSpPr/>
          <p:nvPr/>
        </p:nvSpPr>
        <p:spPr>
          <a:xfrm>
            <a:off x="3827520" y="2657520"/>
            <a:ext cx="1555560" cy="3610080"/>
          </a:xfrm>
          <a:custGeom>
            <a:avLst/>
            <a:gdLst>
              <a:gd name="textAreaLeft" fmla="*/ 0 w 1555560"/>
              <a:gd name="textAreaRight" fmla="*/ 1555920 w 155556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980" h="2274">
                <a:moveTo>
                  <a:pt x="0" y="1962"/>
                </a:moveTo>
                <a:lnTo>
                  <a:pt x="439" y="0"/>
                </a:lnTo>
                <a:lnTo>
                  <a:pt x="980" y="0"/>
                </a:lnTo>
                <a:lnTo>
                  <a:pt x="968" y="2274"/>
                </a:lnTo>
                <a:lnTo>
                  <a:pt x="616" y="2274"/>
                </a:lnTo>
                <a:lnTo>
                  <a:pt x="56" y="2026"/>
                </a:lnTo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383000" y="3522600"/>
            <a:ext cx="1195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2081160" y="6270480"/>
            <a:ext cx="3540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Line 13"/>
          <p:cNvSpPr/>
          <p:nvPr/>
        </p:nvSpPr>
        <p:spPr>
          <a:xfrm flipV="1">
            <a:off x="3708360" y="2660400"/>
            <a:ext cx="811080" cy="3606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2081160" y="5070600"/>
            <a:ext cx="2727360" cy="1199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Line 15"/>
          <p:cNvSpPr/>
          <p:nvPr/>
        </p:nvSpPr>
        <p:spPr>
          <a:xfrm flipV="1">
            <a:off x="4572000" y="5164200"/>
            <a:ext cx="1035000" cy="922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Line 16"/>
          <p:cNvSpPr/>
          <p:nvPr/>
        </p:nvSpPr>
        <p:spPr>
          <a:xfrm flipV="1">
            <a:off x="3282840" y="4255560"/>
            <a:ext cx="2289240" cy="814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Line 17"/>
          <p:cNvSpPr/>
          <p:nvPr/>
        </p:nvSpPr>
        <p:spPr>
          <a:xfrm flipV="1">
            <a:off x="3103560" y="2437920"/>
            <a:ext cx="917640" cy="236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2369880" y="63244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4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Text Box 19"/>
          <p:cNvSpPr/>
          <p:nvPr/>
        </p:nvSpPr>
        <p:spPr>
          <a:xfrm>
            <a:off x="1714680" y="2428920"/>
            <a:ext cx="32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13" name="Group 20"/>
          <p:cNvGrpSpPr/>
          <p:nvPr/>
        </p:nvGrpSpPr>
        <p:grpSpPr>
          <a:xfrm>
            <a:off x="2340000" y="6195960"/>
            <a:ext cx="3022560" cy="156960"/>
            <a:chOff x="2340000" y="6195960"/>
            <a:chExt cx="3022560" cy="156960"/>
          </a:xfrm>
        </p:grpSpPr>
        <p:sp>
          <p:nvSpPr>
            <p:cNvPr id="614" name="Line 21"/>
            <p:cNvSpPr/>
            <p:nvPr/>
          </p:nvSpPr>
          <p:spPr>
            <a:xfrm>
              <a:off x="480996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5" name="Line 22"/>
            <p:cNvSpPr/>
            <p:nvPr/>
          </p:nvSpPr>
          <p:spPr>
            <a:xfrm>
              <a:off x="42606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6" name="Line 23"/>
            <p:cNvSpPr/>
            <p:nvPr/>
          </p:nvSpPr>
          <p:spPr>
            <a:xfrm>
              <a:off x="37116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7" name="Line 24"/>
            <p:cNvSpPr/>
            <p:nvPr/>
          </p:nvSpPr>
          <p:spPr>
            <a:xfrm>
              <a:off x="34351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8" name="Line 25"/>
            <p:cNvSpPr/>
            <p:nvPr/>
          </p:nvSpPr>
          <p:spPr>
            <a:xfrm>
              <a:off x="31622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9" name="Line 26"/>
            <p:cNvSpPr/>
            <p:nvPr/>
          </p:nvSpPr>
          <p:spPr>
            <a:xfrm>
              <a:off x="28796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0" name="Line 27"/>
            <p:cNvSpPr/>
            <p:nvPr/>
          </p:nvSpPr>
          <p:spPr>
            <a:xfrm>
              <a:off x="26161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1" name="Line 28"/>
            <p:cNvSpPr/>
            <p:nvPr/>
          </p:nvSpPr>
          <p:spPr>
            <a:xfrm>
              <a:off x="23400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2" name="Line 29"/>
            <p:cNvSpPr/>
            <p:nvPr/>
          </p:nvSpPr>
          <p:spPr>
            <a:xfrm>
              <a:off x="45338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3" name="Line 30"/>
            <p:cNvSpPr/>
            <p:nvPr/>
          </p:nvSpPr>
          <p:spPr>
            <a:xfrm>
              <a:off x="39877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4" name="Line 31"/>
            <p:cNvSpPr/>
            <p:nvPr/>
          </p:nvSpPr>
          <p:spPr>
            <a:xfrm>
              <a:off x="508644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536256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26" name="Group 33"/>
          <p:cNvGrpSpPr/>
          <p:nvPr/>
        </p:nvGrpSpPr>
        <p:grpSpPr>
          <a:xfrm>
            <a:off x="2011320" y="2641680"/>
            <a:ext cx="119160" cy="3327480"/>
            <a:chOff x="2011320" y="2641680"/>
            <a:chExt cx="119160" cy="3327480"/>
          </a:xfrm>
        </p:grpSpPr>
        <p:sp>
          <p:nvSpPr>
            <p:cNvPr id="627" name="Line 34"/>
            <p:cNvSpPr/>
            <p:nvPr/>
          </p:nvSpPr>
          <p:spPr>
            <a:xfrm>
              <a:off x="2011320" y="3251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2011320" y="38577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2011320" y="44625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2011320" y="47642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1" name="Line 38"/>
            <p:cNvSpPr/>
            <p:nvPr/>
          </p:nvSpPr>
          <p:spPr>
            <a:xfrm>
              <a:off x="2011320" y="50659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2" name="Line 39"/>
            <p:cNvSpPr/>
            <p:nvPr/>
          </p:nvSpPr>
          <p:spPr>
            <a:xfrm>
              <a:off x="2011320" y="5376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3" name="Line 40"/>
            <p:cNvSpPr/>
            <p:nvPr/>
          </p:nvSpPr>
          <p:spPr>
            <a:xfrm>
              <a:off x="2011320" y="56674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4" name="Line 41"/>
            <p:cNvSpPr/>
            <p:nvPr/>
          </p:nvSpPr>
          <p:spPr>
            <a:xfrm>
              <a:off x="2011320" y="5969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5" name="Line 42"/>
            <p:cNvSpPr/>
            <p:nvPr/>
          </p:nvSpPr>
          <p:spPr>
            <a:xfrm>
              <a:off x="2011320" y="35560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6" name="Line 43"/>
            <p:cNvSpPr/>
            <p:nvPr/>
          </p:nvSpPr>
          <p:spPr>
            <a:xfrm>
              <a:off x="2011320" y="41576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7" name="Line 44"/>
            <p:cNvSpPr/>
            <p:nvPr/>
          </p:nvSpPr>
          <p:spPr>
            <a:xfrm>
              <a:off x="2011320" y="26416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8" name="Line 45"/>
            <p:cNvSpPr/>
            <p:nvPr/>
          </p:nvSpPr>
          <p:spPr>
            <a:xfrm>
              <a:off x="2011320" y="29466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39" name="Rectangle 46"/>
          <p:cNvSpPr/>
          <p:nvPr/>
        </p:nvSpPr>
        <p:spPr>
          <a:xfrm>
            <a:off x="5588640" y="3984480"/>
            <a:ext cx="16311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85800" y="1523880"/>
            <a:ext cx="5048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Objective Function Grap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1" name="Group 48"/>
          <p:cNvGrpSpPr/>
          <p:nvPr/>
        </p:nvGrpSpPr>
        <p:grpSpPr>
          <a:xfrm>
            <a:off x="2406600" y="2313000"/>
            <a:ext cx="2061720" cy="4280040"/>
            <a:chOff x="2406600" y="2313000"/>
            <a:chExt cx="2061720" cy="4280040"/>
          </a:xfrm>
        </p:grpSpPr>
        <p:sp>
          <p:nvSpPr>
            <p:cNvPr id="642" name="Line 49"/>
            <p:cNvSpPr/>
            <p:nvPr/>
          </p:nvSpPr>
          <p:spPr>
            <a:xfrm flipH="1">
              <a:off x="4009320" y="6394680"/>
              <a:ext cx="43668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3" name="Line 50"/>
            <p:cNvSpPr/>
            <p:nvPr/>
          </p:nvSpPr>
          <p:spPr>
            <a:xfrm flipH="1">
              <a:off x="2406600" y="2319480"/>
              <a:ext cx="43488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4" name="Line 51"/>
            <p:cNvSpPr/>
            <p:nvPr/>
          </p:nvSpPr>
          <p:spPr>
            <a:xfrm flipH="1" flipV="1">
              <a:off x="2829960" y="2313000"/>
              <a:ext cx="1638360" cy="4081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5" name="Rectangle 52"/>
          <p:cNvSpPr/>
          <p:nvPr/>
        </p:nvSpPr>
        <p:spPr>
          <a:xfrm>
            <a:off x="4016160" y="2127240"/>
            <a:ext cx="19814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Min 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1F91-F636-488C-8DA1-5450870C8E9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1752480" y="5867280"/>
            <a:ext cx="5410440" cy="584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2895480" y="4191120"/>
            <a:ext cx="3975120" cy="583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3505320" y="2743200"/>
            <a:ext cx="1981080" cy="9144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1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Garamond"/>
              </a:rPr>
              <a:t>Solve for the Extreme Point at the Intersection of the Two Binding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 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ng these two equations giv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6  or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6/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stituting thi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4  gives: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4/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0880" y="5257800"/>
            <a:ext cx="802008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  <a:ea typeface="SimSun"/>
              </a:rPr>
              <a:t>Solve for the Optimal Value of the Objectiv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= 5(16/5) + 2(4/5)  =   88/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3F0B-3DD0-4948-996E-5382B757B8C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80880" y="228600"/>
            <a:ext cx="8534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2:  Graphical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2004840" y="2560680"/>
            <a:ext cx="0" cy="3716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Line 4"/>
          <p:cNvSpPr/>
          <p:nvPr/>
        </p:nvSpPr>
        <p:spPr>
          <a:xfrm>
            <a:off x="1992240" y="3868560"/>
            <a:ext cx="2184480" cy="236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1772640" y="196380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515920" y="2743200"/>
            <a:ext cx="19569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523120" y="5343480"/>
            <a:ext cx="21110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5625360" y="600228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5280120" y="4113360"/>
            <a:ext cx="257040" cy="12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Freeform 10"/>
          <p:cNvSpPr/>
          <p:nvPr/>
        </p:nvSpPr>
        <p:spPr>
          <a:xfrm>
            <a:off x="3754440" y="2657520"/>
            <a:ext cx="1552680" cy="360360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3603600"/>
              <a:gd name="textAreaBottom" fmla="*/ 3603600 h 3603600"/>
            </a:gdLst>
            <a:ahLst/>
            <a:rect l="textAreaLeft" t="textAreaTop" r="textAreaRight" b="textAreaBottom"/>
            <a:pathLst>
              <a:path w="978" h="2270">
                <a:moveTo>
                  <a:pt x="0" y="1956"/>
                </a:moveTo>
                <a:lnTo>
                  <a:pt x="437" y="0"/>
                </a:lnTo>
                <a:lnTo>
                  <a:pt x="978" y="0"/>
                </a:lnTo>
                <a:lnTo>
                  <a:pt x="966" y="2270"/>
                </a:lnTo>
                <a:lnTo>
                  <a:pt x="618" y="2270"/>
                </a:lnTo>
                <a:lnTo>
                  <a:pt x="54" y="2022"/>
                </a:lnTo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Line 11"/>
          <p:cNvSpPr/>
          <p:nvPr/>
        </p:nvSpPr>
        <p:spPr>
          <a:xfrm>
            <a:off x="4446720" y="2976480"/>
            <a:ext cx="1068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2004840" y="6270480"/>
            <a:ext cx="3552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Line 13"/>
          <p:cNvSpPr/>
          <p:nvPr/>
        </p:nvSpPr>
        <p:spPr>
          <a:xfrm flipV="1">
            <a:off x="3645000" y="2660400"/>
            <a:ext cx="804600" cy="36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98720" y="5070600"/>
            <a:ext cx="2739960" cy="1199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4514760" y="5595840"/>
            <a:ext cx="1041480" cy="465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2990880" y="3672000"/>
            <a:ext cx="2543040" cy="1157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821040" y="4660560"/>
            <a:ext cx="1647720" cy="1042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293560" y="63244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4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638360" y="2428920"/>
            <a:ext cx="32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72" name="Group 20"/>
          <p:cNvGrpSpPr/>
          <p:nvPr/>
        </p:nvGrpSpPr>
        <p:grpSpPr>
          <a:xfrm>
            <a:off x="2263680" y="6195960"/>
            <a:ext cx="3022560" cy="156960"/>
            <a:chOff x="2263680" y="6195960"/>
            <a:chExt cx="3022560" cy="156960"/>
          </a:xfrm>
        </p:grpSpPr>
        <p:sp>
          <p:nvSpPr>
            <p:cNvPr id="673" name="Line 21"/>
            <p:cNvSpPr/>
            <p:nvPr/>
          </p:nvSpPr>
          <p:spPr>
            <a:xfrm>
              <a:off x="47336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4" name="Line 22"/>
            <p:cNvSpPr/>
            <p:nvPr/>
          </p:nvSpPr>
          <p:spPr>
            <a:xfrm>
              <a:off x="418428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5" name="Line 23"/>
            <p:cNvSpPr/>
            <p:nvPr/>
          </p:nvSpPr>
          <p:spPr>
            <a:xfrm>
              <a:off x="363528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Line 24"/>
            <p:cNvSpPr/>
            <p:nvPr/>
          </p:nvSpPr>
          <p:spPr>
            <a:xfrm>
              <a:off x="33588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7" name="Line 25"/>
            <p:cNvSpPr/>
            <p:nvPr/>
          </p:nvSpPr>
          <p:spPr>
            <a:xfrm>
              <a:off x="30859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8" name="Line 26"/>
            <p:cNvSpPr/>
            <p:nvPr/>
          </p:nvSpPr>
          <p:spPr>
            <a:xfrm>
              <a:off x="28033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9" name="Line 27"/>
            <p:cNvSpPr/>
            <p:nvPr/>
          </p:nvSpPr>
          <p:spPr>
            <a:xfrm>
              <a:off x="25398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>
              <a:off x="226368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44575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2" name="Line 30"/>
            <p:cNvSpPr/>
            <p:nvPr/>
          </p:nvSpPr>
          <p:spPr>
            <a:xfrm>
              <a:off x="39114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Line 31"/>
            <p:cNvSpPr/>
            <p:nvPr/>
          </p:nvSpPr>
          <p:spPr>
            <a:xfrm>
              <a:off x="501012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Line 32"/>
            <p:cNvSpPr/>
            <p:nvPr/>
          </p:nvSpPr>
          <p:spPr>
            <a:xfrm>
              <a:off x="528624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5" name="Group 33"/>
          <p:cNvGrpSpPr/>
          <p:nvPr/>
        </p:nvGrpSpPr>
        <p:grpSpPr>
          <a:xfrm>
            <a:off x="1935000" y="2641680"/>
            <a:ext cx="119160" cy="3327480"/>
            <a:chOff x="1935000" y="2641680"/>
            <a:chExt cx="119160" cy="3327480"/>
          </a:xfrm>
        </p:grpSpPr>
        <p:sp>
          <p:nvSpPr>
            <p:cNvPr id="686" name="Line 34"/>
            <p:cNvSpPr/>
            <p:nvPr/>
          </p:nvSpPr>
          <p:spPr>
            <a:xfrm>
              <a:off x="1935000" y="3251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7" name="Line 35"/>
            <p:cNvSpPr/>
            <p:nvPr/>
          </p:nvSpPr>
          <p:spPr>
            <a:xfrm>
              <a:off x="1935000" y="38577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8" name="Line 36"/>
            <p:cNvSpPr/>
            <p:nvPr/>
          </p:nvSpPr>
          <p:spPr>
            <a:xfrm>
              <a:off x="1935000" y="44625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9" name="Line 37"/>
            <p:cNvSpPr/>
            <p:nvPr/>
          </p:nvSpPr>
          <p:spPr>
            <a:xfrm>
              <a:off x="1935000" y="47642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0" name="Line 38"/>
            <p:cNvSpPr/>
            <p:nvPr/>
          </p:nvSpPr>
          <p:spPr>
            <a:xfrm>
              <a:off x="1935000" y="50659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1" name="Line 39"/>
            <p:cNvSpPr/>
            <p:nvPr/>
          </p:nvSpPr>
          <p:spPr>
            <a:xfrm>
              <a:off x="1935000" y="5376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2" name="Line 40"/>
            <p:cNvSpPr/>
            <p:nvPr/>
          </p:nvSpPr>
          <p:spPr>
            <a:xfrm>
              <a:off x="1935000" y="56674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3" name="Line 41"/>
            <p:cNvSpPr/>
            <p:nvPr/>
          </p:nvSpPr>
          <p:spPr>
            <a:xfrm>
              <a:off x="1935000" y="5969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4" name="Line 42"/>
            <p:cNvSpPr/>
            <p:nvPr/>
          </p:nvSpPr>
          <p:spPr>
            <a:xfrm>
              <a:off x="1935000" y="35560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5" name="Line 43"/>
            <p:cNvSpPr/>
            <p:nvPr/>
          </p:nvSpPr>
          <p:spPr>
            <a:xfrm>
              <a:off x="1935000" y="41576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6" name="Line 44"/>
            <p:cNvSpPr/>
            <p:nvPr/>
          </p:nvSpPr>
          <p:spPr>
            <a:xfrm>
              <a:off x="1935000" y="26416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7" name="Line 45"/>
            <p:cNvSpPr/>
            <p:nvPr/>
          </p:nvSpPr>
          <p:spPr>
            <a:xfrm>
              <a:off x="1935000" y="29466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98" name="Rectangle 46"/>
          <p:cNvSpPr/>
          <p:nvPr/>
        </p:nvSpPr>
        <p:spPr>
          <a:xfrm>
            <a:off x="5550480" y="3375000"/>
            <a:ext cx="16311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Rectangle 47"/>
          <p:cNvSpPr/>
          <p:nvPr/>
        </p:nvSpPr>
        <p:spPr>
          <a:xfrm>
            <a:off x="609480" y="1523880"/>
            <a:ext cx="3194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Optimal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AutoShape 48"/>
          <p:cNvSpPr/>
          <p:nvPr/>
        </p:nvSpPr>
        <p:spPr>
          <a:xfrm>
            <a:off x="5454720" y="3946680"/>
            <a:ext cx="2938320" cy="145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Optimal Solu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16/5,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4/5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17.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Oval 49"/>
          <p:cNvSpPr/>
          <p:nvPr/>
        </p:nvSpPr>
        <p:spPr>
          <a:xfrm>
            <a:off x="3713040" y="5711760"/>
            <a:ext cx="7488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F418-4C0E-4254-B1B7-822FD8EC139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Rectangle 2"/>
          <p:cNvSpPr/>
          <p:nvPr/>
        </p:nvSpPr>
        <p:spPr>
          <a:xfrm>
            <a:off x="533520" y="762120"/>
            <a:ext cx="8082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ummary of the Graphical Solution Procedure</a:t>
            </a:r>
            <a:br>
              <a:rPr sz="4400"/>
            </a:b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for Minimization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838080" y="2362320"/>
            <a:ext cx="775332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pare a graph of the feasible solutions for each of the constrai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rmine the feasible region that satisfies all the constraints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w an objective function 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ve parallel objective function lines towa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mall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bjective function values without entirely leaving the feasible reg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y feasible solution on the objective function line wit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malle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 is an optimal solu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D5E-CE62-4629-8713-1855724A01E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685800" y="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urplus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687240" y="1009800"/>
            <a:ext cx="5213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 2 in Standard 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1816200" y="1670040"/>
            <a:ext cx="5562360" cy="2870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1969920" y="1797120"/>
            <a:ext cx="54928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in     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1033560" y="3962520"/>
            <a:ext cx="2736720" cy="97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rplus 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F612-1294-43AE-BC10-D89B11EC09D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Problem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4" name="Picture 4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1694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228-0C84-4545-AD2F-2DF0E28922F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Formul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6912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F8E-90B0-4202-A014-FB7FB3EAAF2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2" name="Picture 4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16948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A26-FFC7-463C-95FD-5AB2FA51B3E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1562040" y="3352680"/>
            <a:ext cx="6311880" cy="29527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152280" y="457200"/>
            <a:ext cx="88394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2:  Spreadsheet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685800" y="2209680"/>
            <a:ext cx="8020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  <a:ea typeface="SimSun"/>
              </a:rPr>
              <a:t>Interpretation of Computer Out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We see from the previous slide tha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Objective Function Value  =  17.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Decision Variable #1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)   =    3.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Decision Variable #2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)   =    0.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urplus in Constraint #1    =  10.4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10 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urplus in Constraint #2    =  12.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12 = 0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urplus in Constraint #3    =    4.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4 = 0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D5CA-426A-450C-B962-F25CC25DE57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pecial Cas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685800" y="1905120"/>
            <a:ext cx="79437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Infeasi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No solution to the LP problem satisfies all the constraints, including the non-negativity condi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Graphically, this means a feasible region does not exi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Causes includ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A formulation error has been m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Management’s expectations are too hig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Too many restrictions have been placed on the problem (i.e. the problem is over-constraine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DCD4-28A9-49AF-B4DA-64B86A75B95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Linear Programming (LP)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If both the objective function and the constraints are linear, the problem is referred to 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linear programm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Linear functio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are functions in which each variable appears in a separate term raised to the first power and is multiplied by a constant (which could be 0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Linear constrai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are linear functions that are restricted to be "less than or equal to", "equal to", or "greater than or equal to" a cons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8B1E-E1A3-4FCC-82AD-289B4C0096E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2819520" y="2743200"/>
            <a:ext cx="3657600" cy="2590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Infeasible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43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Consider the following LP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2971800" y="2743200"/>
            <a:ext cx="324468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ax    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6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14B7-9BA7-42DA-B8D6-0DA1D5F1B12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Infeasible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no points that satisfy both constraints, so there is no feasible region (and no feasible solution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2618640" y="2316240"/>
            <a:ext cx="5061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6400080" y="5842080"/>
            <a:ext cx="5061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4430880" y="4468680"/>
            <a:ext cx="21110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295520" y="3294000"/>
            <a:ext cx="1791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Line 8"/>
          <p:cNvSpPr/>
          <p:nvPr/>
        </p:nvSpPr>
        <p:spPr>
          <a:xfrm flipH="1">
            <a:off x="3428640" y="4795920"/>
            <a:ext cx="1065240" cy="72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Line 9"/>
          <p:cNvSpPr/>
          <p:nvPr/>
        </p:nvSpPr>
        <p:spPr>
          <a:xfrm flipH="1">
            <a:off x="3276720" y="3657600"/>
            <a:ext cx="1063440" cy="72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Line 10"/>
          <p:cNvSpPr/>
          <p:nvPr/>
        </p:nvSpPr>
        <p:spPr>
          <a:xfrm>
            <a:off x="2870280" y="2840040"/>
            <a:ext cx="0" cy="3271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Line 11"/>
          <p:cNvSpPr/>
          <p:nvPr/>
        </p:nvSpPr>
        <p:spPr>
          <a:xfrm>
            <a:off x="2867040" y="6110280"/>
            <a:ext cx="3502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Line 12"/>
          <p:cNvSpPr/>
          <p:nvPr/>
        </p:nvSpPr>
        <p:spPr>
          <a:xfrm>
            <a:off x="2876400" y="4902120"/>
            <a:ext cx="957240" cy="1192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Line 13"/>
          <p:cNvSpPr/>
          <p:nvPr/>
        </p:nvSpPr>
        <p:spPr>
          <a:xfrm>
            <a:off x="2876400" y="3691080"/>
            <a:ext cx="1311480" cy="2403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Rectangle 14"/>
          <p:cNvSpPr/>
          <p:nvPr/>
        </p:nvSpPr>
        <p:spPr>
          <a:xfrm>
            <a:off x="3261240" y="6181560"/>
            <a:ext cx="3256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6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8      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2470680" y="469260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2470680" y="346068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51" name="Group 17"/>
          <p:cNvGrpSpPr/>
          <p:nvPr/>
        </p:nvGrpSpPr>
        <p:grpSpPr>
          <a:xfrm>
            <a:off x="2803680" y="3060720"/>
            <a:ext cx="118800" cy="2749320"/>
            <a:chOff x="2803680" y="3060720"/>
            <a:chExt cx="118800" cy="2749320"/>
          </a:xfrm>
        </p:grpSpPr>
        <p:sp>
          <p:nvSpPr>
            <p:cNvPr id="752" name="Line 18"/>
            <p:cNvSpPr/>
            <p:nvPr/>
          </p:nvSpPr>
          <p:spPr>
            <a:xfrm>
              <a:off x="2803680" y="30607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3" name="Line 19"/>
            <p:cNvSpPr/>
            <p:nvPr/>
          </p:nvSpPr>
          <p:spPr>
            <a:xfrm>
              <a:off x="2803680" y="36748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4" name="Line 20"/>
            <p:cNvSpPr/>
            <p:nvPr/>
          </p:nvSpPr>
          <p:spPr>
            <a:xfrm>
              <a:off x="2803680" y="42861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5" name="Line 21"/>
            <p:cNvSpPr/>
            <p:nvPr/>
          </p:nvSpPr>
          <p:spPr>
            <a:xfrm>
              <a:off x="2803680" y="45910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6" name="Line 22"/>
            <p:cNvSpPr/>
            <p:nvPr/>
          </p:nvSpPr>
          <p:spPr>
            <a:xfrm>
              <a:off x="2803680" y="489564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7" name="Line 23"/>
            <p:cNvSpPr/>
            <p:nvPr/>
          </p:nvSpPr>
          <p:spPr>
            <a:xfrm>
              <a:off x="2803680" y="52117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8" name="Line 24"/>
            <p:cNvSpPr/>
            <p:nvPr/>
          </p:nvSpPr>
          <p:spPr>
            <a:xfrm>
              <a:off x="2803680" y="55054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9" name="Line 25"/>
            <p:cNvSpPr/>
            <p:nvPr/>
          </p:nvSpPr>
          <p:spPr>
            <a:xfrm>
              <a:off x="2803680" y="581004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0" name="Line 26"/>
            <p:cNvSpPr/>
            <p:nvPr/>
          </p:nvSpPr>
          <p:spPr>
            <a:xfrm>
              <a:off x="2803680" y="33699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1" name="Line 27"/>
            <p:cNvSpPr/>
            <p:nvPr/>
          </p:nvSpPr>
          <p:spPr>
            <a:xfrm>
              <a:off x="2803680" y="3978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62" name="Rectangle 28"/>
          <p:cNvSpPr/>
          <p:nvPr/>
        </p:nvSpPr>
        <p:spPr>
          <a:xfrm>
            <a:off x="2470680" y="529272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Rectangle 29"/>
          <p:cNvSpPr/>
          <p:nvPr/>
        </p:nvSpPr>
        <p:spPr>
          <a:xfrm>
            <a:off x="2470680" y="407052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64" name="Group 30"/>
          <p:cNvGrpSpPr/>
          <p:nvPr/>
        </p:nvGrpSpPr>
        <p:grpSpPr>
          <a:xfrm>
            <a:off x="3189240" y="6049800"/>
            <a:ext cx="2992320" cy="138240"/>
            <a:chOff x="3189240" y="6049800"/>
            <a:chExt cx="2992320" cy="138240"/>
          </a:xfrm>
        </p:grpSpPr>
        <p:sp>
          <p:nvSpPr>
            <p:cNvPr id="765" name="Line 31"/>
            <p:cNvSpPr/>
            <p:nvPr/>
          </p:nvSpPr>
          <p:spPr>
            <a:xfrm>
              <a:off x="618156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Line 32"/>
            <p:cNvSpPr/>
            <p:nvPr/>
          </p:nvSpPr>
          <p:spPr>
            <a:xfrm>
              <a:off x="55130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7" name="Line 33"/>
            <p:cNvSpPr/>
            <p:nvPr/>
          </p:nvSpPr>
          <p:spPr>
            <a:xfrm>
              <a:off x="484632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8" name="Line 34"/>
            <p:cNvSpPr/>
            <p:nvPr/>
          </p:nvSpPr>
          <p:spPr>
            <a:xfrm>
              <a:off x="451620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Line 35"/>
            <p:cNvSpPr/>
            <p:nvPr/>
          </p:nvSpPr>
          <p:spPr>
            <a:xfrm>
              <a:off x="41828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0" name="Line 36"/>
            <p:cNvSpPr/>
            <p:nvPr/>
          </p:nvSpPr>
          <p:spPr>
            <a:xfrm>
              <a:off x="383976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1" name="Line 37"/>
            <p:cNvSpPr/>
            <p:nvPr/>
          </p:nvSpPr>
          <p:spPr>
            <a:xfrm>
              <a:off x="35222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Line 38"/>
            <p:cNvSpPr/>
            <p:nvPr/>
          </p:nvSpPr>
          <p:spPr>
            <a:xfrm>
              <a:off x="31892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3" name="Line 39"/>
            <p:cNvSpPr/>
            <p:nvPr/>
          </p:nvSpPr>
          <p:spPr>
            <a:xfrm>
              <a:off x="584316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4" name="Line 40"/>
            <p:cNvSpPr/>
            <p:nvPr/>
          </p:nvSpPr>
          <p:spPr>
            <a:xfrm>
              <a:off x="518292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5" name="Rectangle 41"/>
          <p:cNvSpPr/>
          <p:nvPr/>
        </p:nvSpPr>
        <p:spPr>
          <a:xfrm>
            <a:off x="2318040" y="2851200"/>
            <a:ext cx="5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41CB-CC2A-49EE-AC59-D049D1DDD23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pecial Cas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687240" y="1009800"/>
            <a:ext cx="77788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Unboun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The solution to a maximization LP problem is unbounded if the value of the solution may be made indefinitely large without violating any of the constrai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For real problems, this is the result of improper formulation.  (Quite likely, a constraint has been inadvertently omitted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B4AF-7342-45AC-8EFC-003CC778DFE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2895480" y="2743200"/>
            <a:ext cx="3353040" cy="2590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Unbounded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8440" cy="47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Consider the following LP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3048120" y="2819520"/>
            <a:ext cx="3143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ax    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4431-1C13-41A1-9DC2-3405A632766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Unbounded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20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easible region is unbounded and the objective function line can be moved outward from the origin without bound, infinitely increasing the objective function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2973960" y="2514600"/>
            <a:ext cx="4939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6752160" y="6010200"/>
            <a:ext cx="4939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Freeform 6"/>
          <p:cNvSpPr/>
          <p:nvPr/>
        </p:nvSpPr>
        <p:spPr>
          <a:xfrm>
            <a:off x="3193920" y="3247920"/>
            <a:ext cx="3333960" cy="301644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3016440"/>
              <a:gd name="textAreaBottom" fmla="*/ 3016800 h 3016440"/>
            </a:gdLst>
            <a:ahLst/>
            <a:rect l="textAreaLeft" t="textAreaTop" r="textAreaRight" b="textAreaBottom"/>
            <a:pathLst>
              <a:path w="2100" h="1892">
                <a:moveTo>
                  <a:pt x="0" y="0"/>
                </a:moveTo>
                <a:lnTo>
                  <a:pt x="2100" y="0"/>
                </a:lnTo>
                <a:lnTo>
                  <a:pt x="2100" y="1889"/>
                </a:lnTo>
                <a:lnTo>
                  <a:pt x="1054" y="1892"/>
                </a:lnTo>
                <a:lnTo>
                  <a:pt x="316" y="1233"/>
                </a:lnTo>
                <a:lnTo>
                  <a:pt x="0" y="409"/>
                </a:lnTo>
                <a:lnTo>
                  <a:pt x="0" y="0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Line 7"/>
          <p:cNvSpPr/>
          <p:nvPr/>
        </p:nvSpPr>
        <p:spPr>
          <a:xfrm flipH="1">
            <a:off x="3494160" y="3681360"/>
            <a:ext cx="804960" cy="83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Rectangle 8"/>
          <p:cNvSpPr/>
          <p:nvPr/>
        </p:nvSpPr>
        <p:spPr>
          <a:xfrm>
            <a:off x="4203360" y="3322800"/>
            <a:ext cx="177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6086880" y="5060880"/>
            <a:ext cx="16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Rectangle 10"/>
          <p:cNvSpPr/>
          <p:nvPr/>
        </p:nvSpPr>
        <p:spPr>
          <a:xfrm rot="2116200">
            <a:off x="3888000" y="4548600"/>
            <a:ext cx="203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ax  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Line 11"/>
          <p:cNvSpPr/>
          <p:nvPr/>
        </p:nvSpPr>
        <p:spPr>
          <a:xfrm flipH="1">
            <a:off x="4762440" y="5419800"/>
            <a:ext cx="1332000" cy="65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Line 12"/>
          <p:cNvSpPr/>
          <p:nvPr/>
        </p:nvSpPr>
        <p:spPr>
          <a:xfrm>
            <a:off x="3193920" y="3073320"/>
            <a:ext cx="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Line 13"/>
          <p:cNvSpPr/>
          <p:nvPr/>
        </p:nvSpPr>
        <p:spPr>
          <a:xfrm>
            <a:off x="3200400" y="6269040"/>
            <a:ext cx="347328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Line 14"/>
          <p:cNvSpPr/>
          <p:nvPr/>
        </p:nvSpPr>
        <p:spPr>
          <a:xfrm>
            <a:off x="3191040" y="4773600"/>
            <a:ext cx="1665000" cy="147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3181320" y="3859200"/>
            <a:ext cx="905040" cy="24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2832840" y="427824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2832840" y="366876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01" name="Group 18"/>
          <p:cNvGrpSpPr/>
          <p:nvPr/>
        </p:nvGrpSpPr>
        <p:grpSpPr>
          <a:xfrm>
            <a:off x="3139920" y="3249720"/>
            <a:ext cx="119160" cy="2749320"/>
            <a:chOff x="3139920" y="3249720"/>
            <a:chExt cx="119160" cy="2749320"/>
          </a:xfrm>
        </p:grpSpPr>
        <p:sp>
          <p:nvSpPr>
            <p:cNvPr id="802" name="Line 19"/>
            <p:cNvSpPr/>
            <p:nvPr/>
          </p:nvSpPr>
          <p:spPr>
            <a:xfrm>
              <a:off x="3139920" y="32497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Line 20"/>
            <p:cNvSpPr/>
            <p:nvPr/>
          </p:nvSpPr>
          <p:spPr>
            <a:xfrm>
              <a:off x="3139920" y="38638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Line 21"/>
            <p:cNvSpPr/>
            <p:nvPr/>
          </p:nvSpPr>
          <p:spPr>
            <a:xfrm>
              <a:off x="3139920" y="4475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Line 22"/>
            <p:cNvSpPr/>
            <p:nvPr/>
          </p:nvSpPr>
          <p:spPr>
            <a:xfrm>
              <a:off x="3139920" y="47800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Line 23"/>
            <p:cNvSpPr/>
            <p:nvPr/>
          </p:nvSpPr>
          <p:spPr>
            <a:xfrm>
              <a:off x="3139920" y="50846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Line 24"/>
            <p:cNvSpPr/>
            <p:nvPr/>
          </p:nvSpPr>
          <p:spPr>
            <a:xfrm>
              <a:off x="3139920" y="54007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Line 25"/>
            <p:cNvSpPr/>
            <p:nvPr/>
          </p:nvSpPr>
          <p:spPr>
            <a:xfrm>
              <a:off x="3139920" y="56944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Line 26"/>
            <p:cNvSpPr/>
            <p:nvPr/>
          </p:nvSpPr>
          <p:spPr>
            <a:xfrm>
              <a:off x="3139920" y="59990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Line 27"/>
            <p:cNvSpPr/>
            <p:nvPr/>
          </p:nvSpPr>
          <p:spPr>
            <a:xfrm>
              <a:off x="3139920" y="3558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Line 28"/>
            <p:cNvSpPr/>
            <p:nvPr/>
          </p:nvSpPr>
          <p:spPr>
            <a:xfrm>
              <a:off x="3139920" y="4167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2" name="Rectangle 29"/>
          <p:cNvSpPr/>
          <p:nvPr/>
        </p:nvSpPr>
        <p:spPr>
          <a:xfrm>
            <a:off x="2683080" y="3046320"/>
            <a:ext cx="5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3603960" y="6284880"/>
            <a:ext cx="3256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6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8      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14" name="Group 31"/>
          <p:cNvGrpSpPr/>
          <p:nvPr/>
        </p:nvGrpSpPr>
        <p:grpSpPr>
          <a:xfrm>
            <a:off x="3532320" y="6191280"/>
            <a:ext cx="2992320" cy="138240"/>
            <a:chOff x="3532320" y="6191280"/>
            <a:chExt cx="2992320" cy="138240"/>
          </a:xfrm>
        </p:grpSpPr>
        <p:sp>
          <p:nvSpPr>
            <p:cNvPr id="815" name="Line 32"/>
            <p:cNvSpPr/>
            <p:nvPr/>
          </p:nvSpPr>
          <p:spPr>
            <a:xfrm>
              <a:off x="652464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6" name="Line 33"/>
            <p:cNvSpPr/>
            <p:nvPr/>
          </p:nvSpPr>
          <p:spPr>
            <a:xfrm>
              <a:off x="585648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Line 34"/>
            <p:cNvSpPr/>
            <p:nvPr/>
          </p:nvSpPr>
          <p:spPr>
            <a:xfrm>
              <a:off x="519120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Line 35"/>
            <p:cNvSpPr/>
            <p:nvPr/>
          </p:nvSpPr>
          <p:spPr>
            <a:xfrm>
              <a:off x="485928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Line 36"/>
            <p:cNvSpPr/>
            <p:nvPr/>
          </p:nvSpPr>
          <p:spPr>
            <a:xfrm>
              <a:off x="452592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Line 37"/>
            <p:cNvSpPr/>
            <p:nvPr/>
          </p:nvSpPr>
          <p:spPr>
            <a:xfrm>
              <a:off x="418464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1" name="Line 38"/>
            <p:cNvSpPr/>
            <p:nvPr/>
          </p:nvSpPr>
          <p:spPr>
            <a:xfrm>
              <a:off x="386568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2" name="Line 39"/>
            <p:cNvSpPr/>
            <p:nvPr/>
          </p:nvSpPr>
          <p:spPr>
            <a:xfrm>
              <a:off x="353232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3" name="Line 40"/>
            <p:cNvSpPr/>
            <p:nvPr/>
          </p:nvSpPr>
          <p:spPr>
            <a:xfrm>
              <a:off x="618804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4" name="Line 41"/>
            <p:cNvSpPr/>
            <p:nvPr/>
          </p:nvSpPr>
          <p:spPr>
            <a:xfrm>
              <a:off x="552600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5" name="Rectangle 42"/>
          <p:cNvSpPr/>
          <p:nvPr/>
        </p:nvSpPr>
        <p:spPr>
          <a:xfrm>
            <a:off x="2832840" y="486900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2832840" y="547848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Line 44"/>
          <p:cNvSpPr/>
          <p:nvPr/>
        </p:nvSpPr>
        <p:spPr>
          <a:xfrm flipV="1">
            <a:off x="6513480" y="5873760"/>
            <a:ext cx="293760" cy="37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Line 45"/>
          <p:cNvSpPr/>
          <p:nvPr/>
        </p:nvSpPr>
        <p:spPr>
          <a:xfrm>
            <a:off x="3191040" y="3851280"/>
            <a:ext cx="3348000" cy="2425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Line 46"/>
          <p:cNvSpPr/>
          <p:nvPr/>
        </p:nvSpPr>
        <p:spPr>
          <a:xfrm flipV="1">
            <a:off x="3198960" y="3486240"/>
            <a:ext cx="293400" cy="37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80A0-5B78-4CAF-AD64-29048AFA9BA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Problem Form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Problem formulation or model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is the process of translating a verbal statement of a problem into a mathematical stat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Formulating models is an art that can only be mastered with practice and experi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Every LP problems has some unique features, but most problems also have common fea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General guideli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for LP model formulation are illustrated on the slides that fol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18C4-FEC4-4BF9-9F94-627D37990DE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Guidelines for Model Form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 the problem thorough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obje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each constra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the decision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the objective in terms of the decision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the constraints in terms of the decision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800-F1A4-4CF9-A06C-D77F0EC48E3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884240" y="2414520"/>
            <a:ext cx="3905280" cy="29466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A Simple Maximization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09680" y="2590920"/>
            <a:ext cx="333396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ax      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7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0  and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6280560" y="2370240"/>
            <a:ext cx="1486440" cy="8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unc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6122160" y="3449520"/>
            <a:ext cx="1766880" cy="8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Regular”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Constraint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5971680" y="4516560"/>
            <a:ext cx="2192040" cy="8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n-negativ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697280" y="2800440"/>
            <a:ext cx="1613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307120" y="4946760"/>
            <a:ext cx="672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5408640" y="3219480"/>
            <a:ext cx="748800" cy="1320480"/>
            <a:chOff x="5408640" y="3219480"/>
            <a:chExt cx="748800" cy="1320480"/>
          </a:xfrm>
        </p:grpSpPr>
        <p:sp>
          <p:nvSpPr>
            <p:cNvPr id="135" name="AutoShape 12"/>
            <p:cNvSpPr/>
            <p:nvPr/>
          </p:nvSpPr>
          <p:spPr>
            <a:xfrm>
              <a:off x="5408640" y="3219480"/>
              <a:ext cx="342720" cy="132048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4200 h 1320480"/>
                <a:gd name="textAreaBottom" fmla="*/ 1286280 h 13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5725800" y="3879720"/>
              <a:ext cx="431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32B4-2239-493C-93A5-8DD56F1F127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070000" y="1943280"/>
            <a:ext cx="2718000" cy="3848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91532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55497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First Constraint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79412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4908600" y="2793960"/>
            <a:ext cx="622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044800" y="1924200"/>
            <a:ext cx="0" cy="38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605200" y="2550960"/>
            <a:ext cx="948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 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254560" y="491508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(6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4895640" y="5346720"/>
            <a:ext cx="361800" cy="36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152" name="Line 16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Line 22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Line 23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0" name="Line 24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Group 25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162" name="Group 26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163" name="Line 27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Line 28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Line 29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6" name="Line 30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7" name="Line 31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8" name="Line 32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9" name="Line 33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0" name="Line 34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71" name="Line 35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Line 36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Text Box 37"/>
          <p:cNvSpPr/>
          <p:nvPr/>
        </p:nvSpPr>
        <p:spPr>
          <a:xfrm>
            <a:off x="2218320" y="3124080"/>
            <a:ext cx="230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aded reg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ntains a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easible 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this constr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AD62-74CF-432E-9259-F10D25C89CB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Freeform 2"/>
          <p:cNvSpPr/>
          <p:nvPr/>
        </p:nvSpPr>
        <p:spPr>
          <a:xfrm>
            <a:off x="2070000" y="3060720"/>
            <a:ext cx="4381560" cy="273060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2730600"/>
              <a:gd name="textAreaBottom" fmla="*/ 2730600 h 2730600"/>
            </a:gdLst>
            <a:ahLst/>
            <a:rect l="textAreaLeft" t="textAreaTop" r="textAreaRight" b="textAreaBottom"/>
            <a:pathLst>
              <a:path w="2736" h="1720">
                <a:moveTo>
                  <a:pt x="0" y="1720"/>
                </a:moveTo>
                <a:lnTo>
                  <a:pt x="0" y="0"/>
                </a:lnTo>
                <a:lnTo>
                  <a:pt x="2736" y="1720"/>
                </a:lnTo>
                <a:lnTo>
                  <a:pt x="0" y="17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91532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010280" cy="5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Second Constraint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038320" y="3035160"/>
            <a:ext cx="4444920" cy="276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662360" y="3303720"/>
            <a:ext cx="19400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19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2178000" y="2597040"/>
            <a:ext cx="432000" cy="406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044800" y="1924200"/>
            <a:ext cx="0" cy="38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573280" y="219240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(0, 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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4210200" y="3701880"/>
            <a:ext cx="52056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13"/>
          <p:cNvSpPr/>
          <p:nvPr/>
        </p:nvSpPr>
        <p:spPr>
          <a:xfrm flipH="1">
            <a:off x="6489360" y="5321160"/>
            <a:ext cx="431640" cy="406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840000" y="487836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(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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191" name="Line 18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9" name="Line 2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201" name="Group 28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202" name="Line 29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3" name="Line 30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Line 31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5" name="Line 32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6" name="Line 33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7" name="Line 34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8" name="Line 35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9" name="Line 36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0" name="Line 37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2" name="Text Box 39"/>
          <p:cNvSpPr/>
          <p:nvPr/>
        </p:nvSpPr>
        <p:spPr>
          <a:xfrm>
            <a:off x="2293200" y="4200480"/>
            <a:ext cx="230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a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on conta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feasible 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this constr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7:47:19Z</dcterms:created>
  <dc:creator>MAx</dc:creator>
  <dc:description/>
  <dc:language>en-US</dc:language>
  <cp:lastModifiedBy>MAx</cp:lastModifiedBy>
  <dcterms:modified xsi:type="dcterms:W3CDTF">2015-01-02T16:36:03Z</dcterms:modified>
  <cp:revision>8</cp:revision>
  <dc:subject/>
  <dc:title>Introduction to Linear Programming</dc:title>
</cp:coreProperties>
</file>