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8.jpeg" ContentType="image/jpeg"/>
  <Override PartName="/ppt/media/image16.png" ContentType="image/png"/>
  <Override PartName="/ppt/media/image15.gif" ContentType="image/gif"/>
  <Override PartName="/ppt/media/image1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E76-AE56-4A02-A02B-6783FB31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A382-85A4-45DB-A222-47A1FD7C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0234-E2FE-4210-920B-1A1F3387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3090-D9D3-4CA1-B3C1-9C993E0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4446-642A-4671-889B-DA6C0452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4991-4FB2-4E1E-926C-A37EB549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DA39-FCC5-40B1-8630-9897942E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2F7-148A-4470-81CF-C72238F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EE6E-32FE-4EB5-AE79-EE80BF3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05F8-970E-4D51-A74F-A07796F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5B65-206E-4E5F-B5E5-E8776619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2F9-450C-497F-BC51-5532609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CC4-C98E-4845-B132-72ED132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9FF2-3F9F-4627-829B-5D2B59B8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253C-BFE2-497A-BA7E-014EA1F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4FA3-2332-41A8-B237-62A4EE8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EC7-9E15-48E4-B0F8-9B57517F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CE97-7A48-4AEC-85EC-79C7B757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EE42-52F1-4431-97CB-333C89DC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D3C8-03C6-4EED-B752-BF70D78A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85F7-B74B-49F3-B90A-BC512758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9558-7AF2-4C31-86D9-BDA8DB8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A26F-290B-4870-9A7A-3668CF36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DDCE-F778-4C48-9BC7-65E86EC5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5809-80F6-4791-A546-DF6DBC8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6057-F450-4C97-AB3E-FFD986C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61E0-A057-4666-B2D2-5303569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3C75-F9B3-4C0E-B69E-6142F69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A248-B311-4304-A4BC-938FD16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CA11-E0A2-4E26-80D4-082B14E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D3F9-565E-4B82-94B8-3BF1CBF8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D185-ECC6-4035-B314-C10794FE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59D5-3FCF-4CF4-8070-E99F0316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CFF6-A4C7-4484-B91E-6CFE2F9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C04C-0583-436C-8EA2-175FA03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3726-9069-4521-BBB4-D2F5A7C2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D13E-0F86-46EA-BEF0-1762D76A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4396-EA56-4F05-99C7-B121330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0857-3667-478A-88E8-645210B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A335-5C2A-4D97-A3A2-8A67E90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5971-88F6-46F4-907E-6FDEF1D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214E-93AF-4852-8E41-5CC7B49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A568-01E4-4CD6-BC2A-9301D222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F612-C0B5-4843-ABDF-BD0B9511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DA39-221D-4B10-9B31-A9BB109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A454-ABF4-4866-B81D-3E19F06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8BCB-A043-40CD-AFF5-01036D7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98A9-E1FD-4508-AEB0-6A76566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9597-F6E9-4C05-BF18-B1B158A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CDC7-1ECB-4D2B-9118-0595319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F0B-C7EB-46F8-A9F9-900F4118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8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0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8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0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465F-7454-4860-A510-8608A03C77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64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A81-7A72-4BBC-9C6C-D64F4E7E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D513-A6F9-4174-AA58-F6ED9ADF9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9" descr="t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019920" y="5257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Angelica Jurcz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Brack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94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Jokerman"/>
              </a:rPr>
              <a:t>Computer Viruses</a:t>
            </a:r>
            <a:endParaRPr b="0" lang="en-US" sz="1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80880" y="0"/>
            <a:ext cx="822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Doom spreads through emails and file-sharing software faster than any previous virus or wor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hackers to access the hard drive of the infected compu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stimated one million computers running Windows are affected by the fast-spreading Sasser computer 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m does not cause irreparable harm to computers or data, but it does slow computers and cause some to quit or reboot without expla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y of the first-ever malware trojan horse for Mac OS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rpig is a Trojan horse which affects Windows, turning off anti-virus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llows others to access the computer, modifies data, steals confidential information and installs malware on the victim's compu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cker infects anywhere from 9 to 15 million Microsoft server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air force, Royal Navy warships and submarines, Sheffield Hospital network, UK Ministry of Defence, German Bundeswehr and Norwegian Police were all affec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-360" y="-36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umber of Viruses by ye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5 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5 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7 3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9 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0 142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1 35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2 1,16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3 2,482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4 3,68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5 5,62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6 7,764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7 11,03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8 16,72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9 40,850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0 44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1 48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2 55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3 62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 2" descr="http://images.pcworld.com/hereshow/graphics/hh_101300_hiwvirusesb.gif"/>
          <p:cNvPicPr/>
          <p:nvPr/>
        </p:nvPicPr>
        <p:blipFill>
          <a:blip r:embed="rId1"/>
          <a:stretch/>
        </p:blipFill>
        <p:spPr>
          <a:xfrm>
            <a:off x="3276720" y="380880"/>
            <a:ext cx="5867280" cy="601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liss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virus that fired up the media was Melissa, a Word macro vir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people received the host Word document via email and opened it, the virus sent a copy of itself to the first 50 people in the victim's address boo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d after a topless dancer in Florida, the Melissa virus crashed the email servers of corporations and governments in different spot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uter Emergency Response Team, set up after Robert Morris mucked up the Internet with his worm in 1988, estimated that the virus hit 100,000 computers in its first weeken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L. Smith posted the infected file to an alt.sex usenet group using a stolen AOL account. Initially he entered a plea of innocence, but after being confronted with a maximum sentence of 40 years in prison, he eventually pled guilty and received a much-reduced sent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4" descr="j0424768"/>
          <p:cNvPicPr/>
          <p:nvPr/>
        </p:nvPicPr>
        <p:blipFill>
          <a:blip r:embed="rId1"/>
          <a:stretch/>
        </p:blipFill>
        <p:spPr>
          <a:xfrm>
            <a:off x="6553080" y="228600"/>
            <a:ext cx="1847880" cy="164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ve You, Love Bug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9977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almost any measure, the so-called Love Bug was the most damaging and costly virus ever. I don't know who comes up with these whack figures, but according to Reuters the bug cost the world $15 billion in lost productivity.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ove Bug spread far faster than Melissa. Unlike Melissa, it would mail itself to everyone in your Outlook address book -- most of whom would probably be delighted to read about how you love them -- not just the first fifty. Moreover, it would gobble up certain media files stored on your hard dri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Picture 4" descr="j0300520"/>
          <p:cNvPicPr/>
          <p:nvPr/>
        </p:nvPicPr>
        <p:blipFill>
          <a:blip r:embed="rId1"/>
          <a:stretch/>
        </p:blipFill>
        <p:spPr>
          <a:xfrm>
            <a:off x="2514600" y="4419720"/>
            <a:ext cx="3962520" cy="22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570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German newspaper tragically lost 2,000 pictures from its arch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rpetrator turned out to be a 23-year-old Filipino computer science student who more or less plagiarized all of his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ack of laws in the Philippines covering computer crimes, he pretty much got away with his crim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Picture 4" descr="ggh"/>
          <p:cNvPicPr/>
          <p:nvPr/>
        </p:nvPicPr>
        <p:blipFill>
          <a:blip r:embed="rId1"/>
          <a:stretch/>
        </p:blipFill>
        <p:spPr>
          <a:xfrm>
            <a:off x="5715000" y="20574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Prevention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load and use antiviru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e-mails and attachments you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updates on antivirus software reg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antivirus software is installed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Picture 4" descr="j0234347"/>
          <p:cNvPicPr/>
          <p:nvPr/>
        </p:nvPicPr>
        <p:blipFill>
          <a:blip r:embed="rId1"/>
          <a:stretch/>
        </p:blipFill>
        <p:spPr>
          <a:xfrm>
            <a:off x="5254560" y="2432160"/>
            <a:ext cx="3240000" cy="282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comic"/>
              </a:rPr>
              <a:t>Sources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772" name="Picture 4" descr="http://www.elwoodpc.net/images/computer-virus.jpg"/>
          <p:cNvPicPr/>
          <p:nvPr/>
        </p:nvPicPr>
        <p:blipFill>
          <a:blip r:embed="rId1"/>
          <a:stretch/>
        </p:blipFill>
        <p:spPr>
          <a:xfrm>
            <a:off x="3733920" y="3048120"/>
            <a:ext cx="5410080" cy="380988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4"/>
          <p:cNvSpPr/>
          <p:nvPr/>
        </p:nvSpPr>
        <p:spPr>
          <a:xfrm>
            <a:off x="0" y="91440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tech-faq.com/history-of-computer-viruses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pamlaws.com/histo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n.wikipedia.org/wiki/Computer_virus#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infoplease.com/ipa/A087284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protect.htm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types.htm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comtypes.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federal/index.s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typ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suggestafix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k,k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omputer Virus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50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er virus is a computer program that can copy itself and infect a computer without the permission or knowledge of the ow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first detected virus was the Creeper virus in the early 7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omputer networks became widespread, most viruses spread on removable media, particularly floppy d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Basic Computer Viruses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50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Ho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s as interesting program file but when installed it allows intruders to access and read you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that copies and multiplies itself 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using computer networks and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f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Vir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-mail messages to spread which allow it to automatically forward itself to thousands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6" descr="j0413668"/>
          <p:cNvPicPr/>
          <p:nvPr/>
        </p:nvPicPr>
        <p:blipFill>
          <a:blip r:embed="rId1"/>
          <a:stretch/>
        </p:blipFill>
        <p:spPr>
          <a:xfrm>
            <a:off x="6934320" y="3124080"/>
            <a:ext cx="1909800" cy="202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310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t Sector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s the boot or MBR of diskettes and hard drives through the sharing of infected disks and pirated softwar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your hard drive is infected all diskettes that you use in your computer will be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ctive when the program file (usually with extensions .BIN, .COM, .EXE, .OVL, .DRV) carrying the virus is op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then makes copies of itself and will infect other programs on th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artite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brid of a Boot Sector and Program vir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nfects program files and when the infected program is active it will affect the boot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310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th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guises itself to prevent from being detected by anti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ters its file size or conceals itself in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orphic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like a chameleon, changing its virus signature (binary pattern) every time it multiples and infects a new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d as a macro embedded in a document, usually found in Microsoft Word and Exc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it gets in to your computer, every document you produce will become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new type of virus and may slip by your antivirus software if you don't have the most recent version inst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Signs Your Computer is Infected</a:t>
            </a: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 slower than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s slowly and freezes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rts itself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uncommon error messages, distorted menus, and dialog 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applications fail to work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 to print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13" descr="bd06551_"/>
          <p:cNvPicPr/>
          <p:nvPr/>
        </p:nvPicPr>
        <p:blipFill>
          <a:blip r:embed="rId1"/>
          <a:stretch/>
        </p:blipFill>
        <p:spPr>
          <a:xfrm>
            <a:off x="684360" y="2505240"/>
            <a:ext cx="3375000" cy="27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http://computersafetytips.files.wordpress.com/2008/12/computer-virus-picturejpg.jpg"/>
          <p:cNvPicPr/>
          <p:nvPr/>
        </p:nvPicPr>
        <p:blipFill>
          <a:blip r:embed="rId1"/>
          <a:stretch/>
        </p:blipFill>
        <p:spPr>
          <a:xfrm>
            <a:off x="4172040" y="2133720"/>
            <a:ext cx="4971960" cy="37224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http://www.miriadz.com/blog/wp-images/computer-virus.gif"/>
          <p:cNvPicPr/>
          <p:nvPr/>
        </p:nvPicPr>
        <p:blipFill>
          <a:blip r:embed="rId2"/>
          <a:stretch/>
        </p:blipFill>
        <p:spPr>
          <a:xfrm>
            <a:off x="0" y="3124080"/>
            <a:ext cx="4114800" cy="3733920"/>
          </a:xfrm>
          <a:prstGeom prst="rect">
            <a:avLst/>
          </a:prstGeom>
          <a:ln w="0">
            <a:noFill/>
          </a:ln>
        </p:spPr>
      </p:pic>
      <p:pic>
        <p:nvPicPr>
          <p:cNvPr id="751" name="Rectangle 9" descr=""/>
          <p:cNvPicPr/>
          <p:nvPr/>
        </p:nvPicPr>
        <p:blipFill>
          <a:blip r:embed="rId3"/>
          <a:stretch/>
        </p:blipFill>
        <p:spPr>
          <a:xfrm>
            <a:off x="378000" y="-225360"/>
            <a:ext cx="7937280" cy="217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6" descr="http://tbn3.google.com/images?q=tbn:fMXPpp7ILlcC_M:http://www.freefoto.com/images/04/20/04_20_35---1-44mb-Floppy-Disk_web.jpg"/>
          <p:cNvPicPr/>
          <p:nvPr/>
        </p:nvPicPr>
        <p:blipFill>
          <a:blip r:embed="rId1"/>
          <a:stretch/>
        </p:blipFill>
        <p:spPr>
          <a:xfrm>
            <a:off x="6699240" y="987480"/>
            <a:ext cx="2073240" cy="13842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half of the 70'Late 60,s, early 70,s- "Rabbits" cloned themselves occupied system resources, slowing down the productivity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"The Creeper"  capable of entering a network by itself and transferring a copy of itself to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80,s-Increasing number of programs written by individuals not by software companies. Programs caused miner viruses called "Trojan horses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'Brain virus' - by Amjad and Basit Farooq Alvi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ead through floppy disks,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ed boot records and not computer hard dr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hore, Pakistani Brain, Brain-A and UIUC viru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ook over free space on the floppy disk and hid from detection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disguised itself by displaying the uninfected boot sector on the dis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7-Lehigh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he first memory resident file infector that attacked executable files and took control when a file was op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erusalem Vir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had bugs  that re-infected programs that were already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8: Robert Morris made a worm that invaded ARPANET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bled 6,000 computers on the network by overflowing their memory banks with copies of itse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rton Anti-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Melissa" vir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infected thousands of computers very fast by sending copies of itself to 50 names in the address book on Outlook e-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 to an estimated $80 million in damage and record sales of anti-virus produc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I Love You" vir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was sent by email and infected 10 % of computers in only one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reated by a young Filipino computer student who did not get punished because then the Philippines had no laws against hacking which led to the European Union's global Cybercrim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Nimda" virus (days after 9/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had 5 ways of infec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Picture 4" descr="http://www.fotosearch.com/comp/UNN/UNN103/computer-virus-concept_~u16871057.jpg"/>
          <p:cNvPicPr/>
          <p:nvPr/>
        </p:nvPicPr>
        <p:blipFill>
          <a:blip r:embed="rId1"/>
          <a:stretch/>
        </p:blipFill>
        <p:spPr>
          <a:xfrm>
            <a:off x="6095880" y="4491000"/>
            <a:ext cx="304812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57:31Z</dcterms:created>
  <dc:creator>Angelica</dc:creator>
  <dc:description/>
  <dc:language>en-US</dc:language>
  <cp:lastModifiedBy>Netiva</cp:lastModifiedBy>
  <dcterms:modified xsi:type="dcterms:W3CDTF">2009-04-03T22:10:34Z</dcterms:modified>
  <cp:revision>28</cp:revision>
  <dc:subject/>
  <dc:title>Basic Computer Viruses </dc:title>
</cp:coreProperties>
</file>