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8.jpeg" ContentType="image/jpeg"/>
  <Override PartName="/ppt/media/image16.png" ContentType="image/png"/>
  <Override PartName="/ppt/media/image15.gif" ContentType="image/gif"/>
  <Override PartName="/ppt/media/image1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FB9-C496-4C81-9C32-BC456F97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8DB5-A413-4F6E-B5F3-1E1BA7D2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2502-BDB0-4C2E-B38A-2653DDFF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7EC7-7FD8-4DDC-960F-7DFE3DE3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E2F6-3061-45E7-B213-9C73CB64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B577-04F7-4162-9278-B739460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80E-B8C7-43DD-9275-69957A8B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B23-E948-4DD2-9B02-F0C5E59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4A79-23BD-45F0-A364-F6B599D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8E07-7840-49C1-8884-1CD0EA47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D68B-95D0-40C5-B9F7-7D7B0D26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EBB1-6809-4A51-A9CF-9E36AF76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F457-CC80-478A-BC7B-AFD612D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0BD5-EB2D-4E61-9936-BC599E4B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875D-36D5-474A-8926-6D80181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25F-BE0C-4FDD-84BD-DC1D50C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7621-E176-4CB7-A5AC-F94DA117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E33D-1B2F-4E17-AE2D-CDB63B78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1CA5-5128-49F7-A55E-CF4A37FE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8F3E-9CCE-4BF4-B4EF-69BACC7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556B-333C-4760-81C4-B7084F13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B090-DF7D-422D-A18C-6E60AB0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C156-F7D8-4173-BCAD-AD252986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EBF7-59DC-41C6-BDBB-991D5284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D023-4CEA-4541-B22C-FE595CD0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A752-D109-4614-9615-8014382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78D2-3A86-44FE-B5FF-134F913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275A-2888-45D6-A9D4-FD37306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307D-6B97-4D03-8DBD-40C27E7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15B2-366D-4112-8F4A-47C84885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9FFC-64EE-4AE2-8719-A10A114E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01CA-E062-4E83-B6DC-5DDBCE47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800F-82F9-4AD1-8799-ED8C3C79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B75B-1E7C-4112-BA1E-CB5E2CD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A97F-7DA2-47A2-A025-612D74E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289F-8528-469C-9CD5-4E5E2C70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9EF1-B601-4E70-BAB7-A87D71B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8D7F-9571-43D0-82BE-7473028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5722-6D65-4D56-BAD2-541E869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AF64-B8B5-4F90-8BD4-330F4A2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C1B0-F140-4904-B7E5-C2382E1E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7499-5891-4DEC-828E-DF2DD8D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FA07-4597-4AF1-9272-BEFB696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1023-8397-418C-8A14-9E7B47C6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45BF-F0D6-4B55-A70B-B6D392F3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17B0-BEE5-47A5-A92B-6E73FF58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1714-8DBF-413B-B78D-2E9E729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FDDD-A888-4DDB-8062-6E391CA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C0B7-E52D-42E5-A297-BE55C209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33A-360F-449F-8E83-56A51DA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724-D716-4C5F-B008-26FBFBA7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8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0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8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0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4B1-DA6A-40CD-AAD6-8A32BF0B11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64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1CDF-6988-42C9-92AF-2C6C4F38C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14141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444444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46464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3d3d3d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3f3f3f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3636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63636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36363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7019-BFA8-4317-8E42-59828820D2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9" descr="t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019920" y="525780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Angelica Jurcz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Brack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94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Jokerman"/>
              </a:rPr>
              <a:t>Computer Viruses</a:t>
            </a:r>
            <a:endParaRPr b="0" lang="en-US" sz="1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80880" y="0"/>
            <a:ext cx="822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Doom spreads through emails and file-sharing software faster than any previous virus or wor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hackers to access the hard drive of the infected compu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stimated one million computers running Windows are affected by the fast-spreading Sasser computer 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m does not cause irreparable harm to computers or data, but it does slow computers and cause some to quit or reboot without expla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y of the first-ever malware trojan horse for Mac OS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rpig is a Trojan horse which affects Windows, turning off anti-virus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allows others to access the computer, modifies data, steals confidential information and installs malware on the victim's compu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6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cker infects anywhere from 9 to 15 million Microsoft server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air force, Royal Navy warships and submarines, Sheffield Hospital network, UK Ministry of Defence, German Bundeswehr and Norwegian Police were all affect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-360" y="-36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umber of Viruses by ye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5 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5 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7 3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89 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0 142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1 35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2 1,161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3 2,482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4 3,68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5 5,62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6 7,764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7 11,037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8 16,726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999 40,850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0 44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1 48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2 55,000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003 62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 2" descr="http://images.pcworld.com/hereshow/graphics/hh_101300_hiwvirusesb.gif"/>
          <p:cNvPicPr/>
          <p:nvPr/>
        </p:nvPicPr>
        <p:blipFill>
          <a:blip r:embed="rId1"/>
          <a:stretch/>
        </p:blipFill>
        <p:spPr>
          <a:xfrm>
            <a:off x="3276720" y="380880"/>
            <a:ext cx="5867280" cy="601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lissa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virus that fired up the media was Melissa, a Word macro vir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people received the host Word document via email and opened it, the virus sent a copy of itself to the first 50 people in the victim's address boo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d after a topless dancer in Florida, the Melissa virus crashed the email servers of corporations and governments in different spot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uter Emergency Response Team, set up after Robert Morris mucked up the Internet with his worm in 1988, estimated that the virus hit 100,000 computers in its first weeken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L. Smith posted the infected file to an alt.sex usenet group using a stolen AOL account. Initially he entered a plea of innocence, but after being confronted with a maximum sentence of 40 years in prison, he eventually pled guilty and received a much-reduced sent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4" descr="j0424768"/>
          <p:cNvPicPr/>
          <p:nvPr/>
        </p:nvPicPr>
        <p:blipFill>
          <a:blip r:embed="rId1"/>
          <a:stretch/>
        </p:blipFill>
        <p:spPr>
          <a:xfrm>
            <a:off x="6553080" y="228600"/>
            <a:ext cx="1847880" cy="164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ve You, Love Bug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9977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almost any measure, the so-called Love Bug was the most damaging and costly virus ever. I don't know who comes up with these whack figures, but according to Reuters the bug cost the world $15 billion in lost productivity.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ove Bug spread far faster than Melissa. Unlike Melissa, it would mail itself to everyone in your Outlook address book -- most of whom would probably be delighted to read about how you love them -- not just the first fifty. Moreover, it would gobble up certain media files stored on your hard dri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Picture 4" descr="j0300520"/>
          <p:cNvPicPr/>
          <p:nvPr/>
        </p:nvPicPr>
        <p:blipFill>
          <a:blip r:embed="rId1"/>
          <a:stretch/>
        </p:blipFill>
        <p:spPr>
          <a:xfrm>
            <a:off x="2514600" y="4419720"/>
            <a:ext cx="3962520" cy="22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570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German newspaper tragically lost 2,000 pictures from its arch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rpetrator turned out to be a 23-year-old Filipino computer science student who more or less plagiarized all of his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ack of laws in the Philippines covering computer crimes, he pretty much got away with his crim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Picture 4" descr="ggh"/>
          <p:cNvPicPr/>
          <p:nvPr/>
        </p:nvPicPr>
        <p:blipFill>
          <a:blip r:embed="rId1"/>
          <a:stretch/>
        </p:blipFill>
        <p:spPr>
          <a:xfrm>
            <a:off x="5715000" y="20574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Prevention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load and use antiviru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e-mails and attachments you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updates on antivirus software reg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antivirus software is installed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Picture 4" descr="j0234347"/>
          <p:cNvPicPr/>
          <p:nvPr/>
        </p:nvPicPr>
        <p:blipFill>
          <a:blip r:embed="rId1"/>
          <a:stretch/>
        </p:blipFill>
        <p:spPr>
          <a:xfrm>
            <a:off x="5254560" y="2432160"/>
            <a:ext cx="3240000" cy="282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comic"/>
              </a:rPr>
              <a:t>Sources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772" name="Picture 4" descr="http://www.elwoodpc.net/images/computer-virus.jpg"/>
          <p:cNvPicPr/>
          <p:nvPr/>
        </p:nvPicPr>
        <p:blipFill>
          <a:blip r:embed="rId1"/>
          <a:stretch/>
        </p:blipFill>
        <p:spPr>
          <a:xfrm>
            <a:off x="3733920" y="3048120"/>
            <a:ext cx="5410080" cy="380988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4"/>
          <p:cNvSpPr/>
          <p:nvPr/>
        </p:nvSpPr>
        <p:spPr>
          <a:xfrm>
            <a:off x="0" y="91440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tech-faq.com/history-of-computer-viruses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pamlaws.com/histo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en.wikipedia.org/wiki/Computer_virus#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infoplease.com/ipa/A087284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protect.htm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types.htm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comtypes.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federal/index.s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amlaws.com/virus-type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suggestafix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k,k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omputer Virus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50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er virus is a computer program that can copy itself and infect a computer without the permission or knowledge of the own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first detected virus was the Creeper virus in the early 70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omputer networks became widespread, most viruses spread on removable media, particularly floppy d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Basic Computer Viruses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50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Ho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s as interesting program file but when installed it allows intruders to access and read you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that copies and multiplies itself 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using computer networks and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f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Vir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-mail messages to spread which allow it to automatically forward itself to thousands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6" descr="j0413668"/>
          <p:cNvPicPr/>
          <p:nvPr/>
        </p:nvPicPr>
        <p:blipFill>
          <a:blip r:embed="rId1"/>
          <a:stretch/>
        </p:blipFill>
        <p:spPr>
          <a:xfrm>
            <a:off x="6934320" y="3124080"/>
            <a:ext cx="1909800" cy="202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310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t Sector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s the boot or MBR of diskettes and hard drives through the sharing of infected disks and pirated softwar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your hard drive is infected all diskettes that you use in your computer will be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ctive when the program file (usually with extensions .BIN, .COM, .EXE, .OVL, .DRV) carrying the virus is op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then makes copies of itself and will infect other programs on th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artite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brid of a Boot Sector and Program vir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nfects program files and when the infected program is active it will affect the boot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310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th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guises itself to prevent from being detected by anti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ters its file size or conceals itself in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orphic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like a chameleon, changing its virus signature (binary pattern) every time it multiples and infects a new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d as a macro embedded in a document, usually found in Microsoft Word and Exc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it gets in to your computer, every document you produce will become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new type of virus and may slip by your antivirus software if you don't have the most recent version inst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Signs Your Computer is Infected</a:t>
            </a: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 slower than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s slowly and freezes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rts itself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uncommon error messages, distorted menus, and dialog 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applications fail to work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 to print cor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13" descr="bd06551_"/>
          <p:cNvPicPr/>
          <p:nvPr/>
        </p:nvPicPr>
        <p:blipFill>
          <a:blip r:embed="rId1"/>
          <a:stretch/>
        </p:blipFill>
        <p:spPr>
          <a:xfrm>
            <a:off x="684360" y="2505240"/>
            <a:ext cx="3375000" cy="27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http://computersafetytips.files.wordpress.com/2008/12/computer-virus-picturejpg.jpg"/>
          <p:cNvPicPr/>
          <p:nvPr/>
        </p:nvPicPr>
        <p:blipFill>
          <a:blip r:embed="rId1"/>
          <a:stretch/>
        </p:blipFill>
        <p:spPr>
          <a:xfrm>
            <a:off x="4172040" y="2133720"/>
            <a:ext cx="4971960" cy="37224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6" descr="http://www.miriadz.com/blog/wp-images/computer-virus.gif"/>
          <p:cNvPicPr/>
          <p:nvPr/>
        </p:nvPicPr>
        <p:blipFill>
          <a:blip r:embed="rId2"/>
          <a:stretch/>
        </p:blipFill>
        <p:spPr>
          <a:xfrm>
            <a:off x="0" y="3124080"/>
            <a:ext cx="4114800" cy="3733920"/>
          </a:xfrm>
          <a:prstGeom prst="rect">
            <a:avLst/>
          </a:prstGeom>
          <a:ln w="0">
            <a:noFill/>
          </a:ln>
        </p:spPr>
      </p:pic>
      <p:pic>
        <p:nvPicPr>
          <p:cNvPr id="751" name="Rectangle 9" descr=""/>
          <p:cNvPicPr/>
          <p:nvPr/>
        </p:nvPicPr>
        <p:blipFill>
          <a:blip r:embed="rId3"/>
          <a:stretch/>
        </p:blipFill>
        <p:spPr>
          <a:xfrm>
            <a:off x="378000" y="-225360"/>
            <a:ext cx="7937280" cy="217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6" descr="http://tbn3.google.com/images?q=tbn:fMXPpp7ILlcC_M:http://www.freefoto.com/images/04/20/04_20_35---1-44mb-Floppy-Disk_web.jpg"/>
          <p:cNvPicPr/>
          <p:nvPr/>
        </p:nvPicPr>
        <p:blipFill>
          <a:blip r:embed="rId1"/>
          <a:stretch/>
        </p:blipFill>
        <p:spPr>
          <a:xfrm>
            <a:off x="6699240" y="987480"/>
            <a:ext cx="2073240" cy="13842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half of the 70'Late 60,s, early 70,s- "Rabbits" cloned themselves occupied system resources, slowing down the productivity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"The Creeper"  capable of entering a network by itself and transferring a copy of itself to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80,s-Increasing number of programs written by individuals not by software companies. Programs caused miner viruses called "Trojan horses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'Brain virus' - by Amjad and Basit Farooq Alvi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ead through floppy disks,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cted boot records and not computer hard dr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hore, Pakistani Brain, Brain-A and UIUC viru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took over free space on the floppy disk and hid from detection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disguised itself by displaying the uninfected boot sector on the dis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7-Lehigh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he first memory resident file infector that attacked executable files and took control when a file was ope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erusalem Vir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had bugs  that re-infected programs that were already inf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434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8: Robert Morris made a worm that invaded ARPANET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bled 6,000 computers on the network by overflowing their memory banks with copies of itse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rton Anti-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Melissa" vir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infected thousands of computers very fast by sending copies of itself to 50 names in the address book on Outlook e-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 to an estimated $80 million in damage and record sales of anti-virus produc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I Love You" vir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was sent by email and infected 10 % of computers in only one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reated by a young Filipino computer student who did not get punished because then the Philippines had no laws against hacking which led to the European Union's global Cybercrim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"Nimda" virus (days after 9/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had 5 ways of infec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c0c0c0"/>
              </a:buClr>
              <a:buSzPct val="11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Picture 4" descr="http://www.fotosearch.com/comp/UNN/UNN103/computer-virus-concept_~u16871057.jpg"/>
          <p:cNvPicPr/>
          <p:nvPr/>
        </p:nvPicPr>
        <p:blipFill>
          <a:blip r:embed="rId1"/>
          <a:stretch/>
        </p:blipFill>
        <p:spPr>
          <a:xfrm>
            <a:off x="6095880" y="4491000"/>
            <a:ext cx="304812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57:31Z</dcterms:created>
  <dc:creator>Angelica</dc:creator>
  <dc:description/>
  <dc:language>en-US</dc:language>
  <cp:lastModifiedBy>Netiva</cp:lastModifiedBy>
  <dcterms:modified xsi:type="dcterms:W3CDTF">2009-04-03T22:10:34Z</dcterms:modified>
  <cp:revision>28</cp:revision>
  <dc:subject/>
  <dc:title>Basic Computer Viruses </dc:title>
</cp:coreProperties>
</file>