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D77-971C-4972-B0D9-4299BA6F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ABA-85D4-428A-9006-3A20C432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C62-B86D-43CF-B1D5-FEF9458A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1C6-C5C4-47BC-80AC-54563C5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661-953A-4171-AB72-55A2A4F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425-8977-4404-937F-7B5D1A4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960-90F7-4FD8-8CD7-422DB3E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B13-2203-4868-B1A8-DDAB1B8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CC5-8A85-466F-A567-45B1C80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AC8-B7FB-4B25-AE73-FFA59DD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E85-EB51-4A79-95F8-F79A163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CCB-2404-4C65-A96B-0E6F4B5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A83-6B69-44F7-9BC1-9B978E30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96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Digital Compu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3295440" cy="52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939960"/>
            <a:ext cx="4496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imilar to PCs but with more memory and a high speed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intended to support network operating systems and network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in architectural design, video editing, anima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ver is one for which many PCs are conn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large capacity secondary storage and mor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ost, like workstations, network servers and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void duplicate installation of applications and all users will access to a common copy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38760" cy="621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q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fra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omputers both in terms of physical size as well as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upport huge numbers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to store and process huge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rganizations can offered to maintain one mainframe. Take service of one ven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87692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5181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scientific and engineering applications those handling huge data and do a great amount of com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fast in operation (@ 1 trillion operations/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, costliest and powerful computer availabl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involves, weather forecasting, military applications, electronic desig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638680" cy="4092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572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 – MIPS/B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uman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to check 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ho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 Printouts using Good Pr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from Hom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 and Micro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o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ducate necessary skills demanded by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ive a demo 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the purpose of Teach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ssages using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alyze large data acquired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complex floating point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software, mostly to automate the manu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necessary solution to clients’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s developed for the needs of networking, banking, business, retail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 – to watch and create – 200 Linux Machines in parallel to create visualization in Titanic, the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oons,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adays to promote theirs p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re, access and modify huge amoun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business called e-business is becoming popular with a small amount of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bills become easy and time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trics Attendance Monitor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Forecasting and milita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ayment of taxes, Insu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Messages to virtually unreachable places 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752480"/>
            <a:ext cx="243864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8954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2895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105520"/>
            <a:ext cx="1752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267080"/>
            <a:ext cx="1676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218120"/>
            <a:ext cx="1676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60958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, Secondary &amp; fixed, 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ever we see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structions written using a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Vs 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Vs Artifici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ity of an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– Solve a problem using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– Payroll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TP – Ticketing Reserv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ontrol Applications – Boiler Pressure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Educations Institutions and Organizations as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erform typical activities like documentation, playing games, surfing web to more complex activities as programming, design, DTP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743200" y="2514600"/>
            <a:ext cx="3809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PCs in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act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wer requirement, operated on battery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capacity compared to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and actually are costlier compared to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ft p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Network Interfac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are the information, work from anywher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– WAN – MAN –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ng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 and Micro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omputer is also called Personal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computers are in between mainframes and  Microcomputers. They are also called midrange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aintained by some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PDP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A – Personal Digit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Mini computer in a gener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than laptops (can be called Palmt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tore information used frequently wherever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adays work with smart cards which has all the information of a user and his/her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2:58:28Z</dcterms:created>
  <dc:creator>Administrator</dc:creator>
  <dc:description/>
  <dc:language>en-US</dc:language>
  <cp:lastModifiedBy>snk</cp:lastModifiedBy>
  <dcterms:modified xsi:type="dcterms:W3CDTF">2007-08-24T09:38:07Z</dcterms:modified>
  <cp:revision>9</cp:revision>
  <dc:subject/>
  <dc:title>Classification of Digital Computers &amp; Applications of Computers</dc:title>
</cp:coreProperties>
</file>