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5802-86AD-4436-A592-9616F247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276-F8CB-484D-AB21-BCB394C0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CF8-49B1-44DF-AA61-5D47DCFC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6CB4-A662-4333-BECA-DD5861B3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1910-1707-4EE3-9DC6-CAB47459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8B4F-61B1-46C1-9C59-15EA4170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1C4-D0E7-4FB3-9F46-79F53B7A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F5C-0626-471F-B57E-9E30560E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BA-3C99-4B10-96B5-5C6F338C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AB0-F94A-4D49-8C89-E85FA439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B1F-CD80-4E9F-8AD2-4DA639AC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CB68-E3DF-47F4-B58B-89192AE0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891C-9BD8-420E-A9AE-41C5EA9CD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696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Digital Computer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952560"/>
            <a:ext cx="3295440" cy="521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038480" y="939960"/>
            <a:ext cx="449604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similar to PCs but with more memory and a high speed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intended to support network operating systems and network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used in architectural design, video editing, animation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rver is one for which many PCs are conn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large capacity secondary storage and mor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host, like workstations, network servers and operat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void duplicate installation of applications and all users will access to a common copy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38760" cy="621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412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q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fra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omputers both in terms of physical size as well as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support huge numbers of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used to store and process huge amoun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rganizations can offered to maintain one mainframe. Take service of one ven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4876920" cy="371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581280" y="533520"/>
            <a:ext cx="51818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scientific and engineering applications those handling huge data and do a great amount of compu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ly fast in operation (@ 1 trillion operations/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st, costliest and powerful computer available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involves, weather forecasting, military applications, electronic desig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5638680" cy="40924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5720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391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ed – MIPS/B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iabilit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uman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result for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to check m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lve ho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 Printouts using Good Pr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from Hom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 and Micro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to Univer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ducate necessary skills demanded by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ive a demo or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r the purpose of Teaching 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nvey messages using Intern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alyze large data acquired over a perio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complex floating point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velop software, mostly to automate the manual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necessary solution to clients’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s developed for the needs of networking, banking, business, retail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es – to watch and create – 200 Linux Machines in parallel to create visualization in Titanic, the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oons, speci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adays to promote theirs pro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ore, access and modify huge amoun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business called e-business is becoming popular with a small amount of limi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ing bills become easy and time s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metrics Attendance Monitor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 Forecasting and milita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 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payment of taxes, Insu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Messages to virtually unreachable places a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ypical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1752480"/>
            <a:ext cx="243864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895480"/>
            <a:ext cx="18288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28954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5105520"/>
            <a:ext cx="17524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3276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267080"/>
            <a:ext cx="16765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4218120"/>
            <a:ext cx="1676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60958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ary, Secondary &amp; fixed, por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467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ware and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ever we see phys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instructions written using a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Vs 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Vs Artifici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ity of an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– Solve a problem using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– Payroll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TP – Ticketing Reserv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Control Applications – Boiler Pressure Contro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Educations Institutions and Organizations as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perform typical activities like documentation, playing games, surfing web to more complex activities as programming, design, DTP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743200" y="2514600"/>
            <a:ext cx="38098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PCs in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mpact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ower requirement, operated on battery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capacity compared to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and actually are costlier compared to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ft pr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ion of P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Network Interface 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hare the information, work from anywher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– WAN – MAN –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ng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 and Micro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omputer is also called Personal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computers are in between mainframes and  Microcomputers. They are also called midrange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maintained by some organ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PDP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A – Personal Digital Assi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Mini computer in a general 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r than laptops (can be called Palmt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tore information used frequently wherever you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adays work with smart cards which has all the information of a user and his/her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2:58:28Z</dcterms:created>
  <dc:creator>Administrator</dc:creator>
  <dc:description/>
  <dc:language>en-US</dc:language>
  <cp:lastModifiedBy>snk</cp:lastModifiedBy>
  <dcterms:modified xsi:type="dcterms:W3CDTF">2007-08-24T09:38:07Z</dcterms:modified>
  <cp:revision>9</cp:revision>
  <dc:subject/>
  <dc:title>Classification of Digital Computers &amp; Applications of Computers</dc:title>
</cp:coreProperties>
</file>