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25.png" ContentType="image/png"/>
  <Override PartName="/ppt/media/image10.wmf" ContentType="image/x-wmf"/>
  <Override PartName="/ppt/media/image7.wmf" ContentType="image/x-wmf"/>
  <Override PartName="/ppt/media/image12.png" ContentType="image/png"/>
  <Override PartName="/ppt/media/image13.png" ContentType="image/png"/>
  <Override PartName="/ppt/media/image8.wmf" ContentType="image/x-wmf"/>
  <Override PartName="/ppt/media/image9.wmf" ContentType="image/x-wmf"/>
  <Override PartName="/ppt/media/image31.png" ContentType="image/png"/>
  <Override PartName="/ppt/media/image14.wmf" ContentType="image/x-wmf"/>
  <Override PartName="/ppt/media/image32.png" ContentType="image/png"/>
  <Override PartName="/ppt/media/image11.png" ContentType="image/png"/>
  <Override PartName="/ppt/media/image6.wmf" ContentType="image/x-wmf"/>
  <Override PartName="/ppt/media/image35.png" ContentType="image/png"/>
  <Override PartName="/ppt/media/image36.png" ContentType="image/png"/>
  <Override PartName="/ppt/media/image5.wmf" ContentType="image/x-wmf"/>
  <Override PartName="/ppt/media/image37.jpeg" ContentType="image/jpeg"/>
  <Override PartName="/ppt/media/image28.wmf" ContentType="image/x-wmf"/>
  <Override PartName="/ppt/media/image17.wmf" ContentType="image/x-wmf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3.wmf" ContentType="image/x-wmf"/>
  <Override PartName="/ppt/media/image3.wmf" ContentType="image/x-wmf"/>
  <Override PartName="/ppt/media/image1.wmf" ContentType="image/x-wmf"/>
  <Override PartName="/ppt/media/image29.png" ContentType="image/png"/>
  <Override PartName="/ppt/media/image2.wmf" ContentType="image/x-wmf"/>
  <Override PartName="/ppt/media/image15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9230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9228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3000240" cy="468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921120" y="-1440"/>
            <a:ext cx="3000240" cy="468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8"/>
          </p:nvPr>
        </p:nvSpPr>
        <p:spPr>
          <a:xfrm>
            <a:off x="0" y="8916480"/>
            <a:ext cx="300024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9"/>
          </p:nvPr>
        </p:nvSpPr>
        <p:spPr>
          <a:xfrm>
            <a:off x="3921120" y="8916480"/>
            <a:ext cx="300024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09A05C8-D692-4F7B-A36B-80668C49E47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6720" cy="4221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Img"/>
          </p:nvPr>
        </p:nvSpPr>
        <p:spPr>
          <a:xfrm>
            <a:off x="1116000" y="706320"/>
            <a:ext cx="4687920" cy="351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16000" y="706320"/>
            <a:ext cx="4687920" cy="35164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6720" cy="4221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-level lang., ea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-level, h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8C000-BFA0-4BFE-B2CD-3D69A46A8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834CB-E121-437C-B748-1DF19A5B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B34B5-C156-47B4-8226-21439CA24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02A8A-14D6-42D5-BBE6-2011A3B06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0963-5FE9-4379-BC6D-083D2E658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1AE8-E9DA-4E8D-8D80-F8B875EF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BA12-8E7A-45EF-BFD0-6611024E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15D2-8EC1-40FA-B3AB-F959AC1D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8E8A-5B60-41C3-BA96-B45009D6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168D-3C3D-4204-A975-3F5AD0DD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DD6A-CBFA-4D4E-8DB7-7F75AA3E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FB407-92A9-4886-91B4-846F56E2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5076-4E44-484A-B5E6-3D9B0E8D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0D67-3F80-4289-9EF0-C01C847B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20DB-EBD0-4C24-A0B7-18647880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FFFF-5711-4BD7-A833-E551A9930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407C-54F2-4EF8-9FFD-7168FAEA9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B5566-DD12-4348-BD30-67BEB76B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0FF19-8843-4885-9517-F5D3C096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03742-3606-4442-91D6-12E9BE07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8A649-9D25-4B97-ABD5-C074088A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E3207-C851-4A1A-8421-A4A40083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6B83A-E67C-4CB7-93E1-74A5CE99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EEAF1-BBC5-43AD-9D3C-8A00B2ED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772400" y="6248160"/>
            <a:ext cx="1217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0290-0F55-489B-AC0A-CC57D29040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76320"/>
            <a:ext cx="2514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102 Prog. Fundamentals I: Software / Slide </a:t>
            </a:r>
            <a:fld id="{04A690D9-D3DE-4E74-AEF4-DD877E88BC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4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0B40-6467-4669-95DE-A32B794FD8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51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6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2.png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648320" y="4038480"/>
            <a:ext cx="44956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Arial"/>
                <a:ea typeface="宋体"/>
              </a:rPr>
              <a:t>Hardware  &amp; </a:t>
            </a:r>
            <a:r>
              <a:rPr b="0" lang="en-US" sz="4400" spc="-1" strike="noStrike">
                <a:solidFill>
                  <a:srgbClr val="ffccff"/>
                </a:solidFill>
                <a:latin typeface="Arial"/>
              </a:rPr>
              <a:t>Softw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cccc"/>
                </a:solidFill>
                <a:latin typeface="Times New Roman"/>
              </a:rPr>
              <a:t>Programming</a:t>
            </a:r>
            <a:endParaRPr b="0" lang="en-US" sz="72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14400" y="3459240"/>
            <a:ext cx="3429000" cy="33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cc"/>
                </a:solidFill>
                <a:latin typeface="Times New Roman"/>
              </a:rPr>
              <a:t>What is a (programming) language?</a:t>
            </a:r>
            <a:endParaRPr b="0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3809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rogram needs to be written in a 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many programming langu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-level, understandable by a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-level, needs a translato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++ is a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igh level programming 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15040" y="1676520"/>
            <a:ext cx="47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equence of instru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86120" y="2590920"/>
            <a:ext cx="42379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in computer languag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3040" y="2666880"/>
            <a:ext cx="3933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algorth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in human language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437920" y="2209680"/>
            <a:ext cx="381240" cy="381240"/>
          </a:xfrm>
          <a:prstGeom prst="line">
            <a:avLst/>
          </a:prstGeom>
          <a:ln w="1908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81280" y="3124080"/>
            <a:ext cx="990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binary language: unintellig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-level assembly languag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nemonic names for machine ope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licit manipulation of memory addr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-depen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level langu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-indepen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0" y="3045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Levels of programming languag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6477120" cy="4395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3121200" cy="3840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7543800" y="2362320"/>
            <a:ext cx="1446120" cy="24890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51560" y="1600200"/>
            <a:ext cx="321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chine binary langu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89320" y="1600200"/>
            <a:ext cx="26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w-level assembl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91520" y="1600200"/>
            <a:ext cx="14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-leve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 example: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to translat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5105520"/>
            <a:ext cx="784836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 of compile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Visual C++, Eclipse, g+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1828800"/>
            <a:ext cx="855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rogram written in high-level programming language (for example, C++ progra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39625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low-level (machine language) program that is understandable by a computer (for example, a P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90720" y="2895480"/>
            <a:ext cx="532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ILER (for example, Visual C++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2590920"/>
            <a:ext cx="0" cy="99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nslation System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of programs used to develop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s of translato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il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k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oft Visual C++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Eclip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+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315200" y="5105520"/>
            <a:ext cx="1481040" cy="1600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57200" y="5943600"/>
            <a:ext cx="3505320" cy="595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7253280" y="2590920"/>
            <a:ext cx="1585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ftware Developmen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jor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iting (writing the progra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iling (creates .obj f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king with compiled files (creates .exe f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 f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brary mod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ading and exec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ing the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038480" y="3352680"/>
          <a:ext cx="495324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352680"/>
                    <a:ext cx="49532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7543800" y="1828800"/>
            <a:ext cx="1438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cc"/>
                </a:solidFill>
                <a:latin typeface="Times New Roman"/>
              </a:rPr>
              <a:t>Integrated </a:t>
            </a:r>
            <a:br>
              <a:rPr sz="4000"/>
            </a:br>
            <a:r>
              <a:rPr b="0" lang="en-US" sz="4000" spc="-1" strike="noStrike">
                <a:solidFill>
                  <a:srgbClr val="00cccc"/>
                </a:solidFill>
                <a:latin typeface="Times New Roman"/>
              </a:rPr>
              <a:t>Development Environments</a:t>
            </a:r>
            <a:endParaRPr b="0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e all of the capabilities that a programmer would want while developing software (VC+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2008, Eclip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i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i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ug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34152" t="0" r="0" b="28895"/>
          <a:stretch/>
        </p:blipFill>
        <p:spPr>
          <a:xfrm>
            <a:off x="7620120" y="3733920"/>
            <a:ext cx="106668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First Program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81080" y="2971800"/>
            <a:ext cx="6096240" cy="1219320"/>
          </a:xfrm>
          <a:prstGeom prst="rect">
            <a:avLst/>
          </a:prstGeom>
          <a:solidFill>
            <a:srgbClr val="d6009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7400" y="1981080"/>
            <a:ext cx="6035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urier New"/>
              </a:rPr>
              <a:t>// a simple progr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2c1fe"/>
                </a:solidFill>
                <a:latin typeface="Courier New"/>
              </a:rPr>
              <a:t>#include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iostream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using namespace std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2c1fe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main(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ut &lt;&lt; "Hello world!" &lt;&lt; end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a2c1fe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3276720"/>
            <a:ext cx="762120" cy="1752480"/>
          </a:xfrm>
          <a:prstGeom prst="line">
            <a:avLst/>
          </a:prstGeom>
          <a:ln w="25560">
            <a:solidFill>
              <a:srgbClr val="ffff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75680" y="5183280"/>
            <a:ext cx="1302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95480" y="3581280"/>
            <a:ext cx="533520" cy="1676520"/>
          </a:xfrm>
          <a:prstGeom prst="line">
            <a:avLst/>
          </a:prstGeom>
          <a:ln w="25560">
            <a:solidFill>
              <a:srgbClr val="ffff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71600" y="5257800"/>
            <a:ext cx="2992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s exec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main() which ends progr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57800" y="2209680"/>
            <a:ext cx="533520" cy="228600"/>
          </a:xfrm>
          <a:prstGeom prst="line">
            <a:avLst/>
          </a:prstGeom>
          <a:ln w="25560">
            <a:solidFill>
              <a:srgbClr val="ffff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88800" y="2286000"/>
            <a:ext cx="1416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2971800"/>
            <a:ext cx="13892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nction named main() indicates start of progr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676160" y="2895480"/>
            <a:ext cx="990360" cy="533520"/>
          </a:xfrm>
          <a:prstGeom prst="line">
            <a:avLst/>
          </a:prstGeom>
          <a:ln w="25560">
            <a:solidFill>
              <a:srgbClr val="ffff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27135" t="0" r="9713" b="0"/>
          <a:stretch/>
        </p:blipFill>
        <p:spPr>
          <a:xfrm>
            <a:off x="7620120" y="4343400"/>
            <a:ext cx="1060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480" y="1905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components of a computer syste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U - central processing un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s decisions, performs computations, and delegates input/output reque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ory: Disk Drives, CD drives, Tape drives, USB flash dr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res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 devices: Keyboard, Mous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s information from the user to the comp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put devices: moni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s information from computer to the u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ardwa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943760" y="5638680"/>
            <a:ext cx="1200240" cy="1219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232840" y="1981080"/>
            <a:ext cx="911160" cy="1600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352680" y="4572000"/>
            <a:ext cx="1752840" cy="392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914400" y="485640"/>
            <a:ext cx="1600200" cy="14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ardwa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62040" y="2165400"/>
          <a:ext cx="59882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2165400"/>
                    <a:ext cx="59882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543800" y="2666880"/>
            <a:ext cx="1600200" cy="1249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410080" y="1447920"/>
            <a:ext cx="1135080" cy="1366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0" y="3276720"/>
            <a:ext cx="1600200" cy="1228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7682040" y="3962520"/>
            <a:ext cx="1461960" cy="1501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7"/>
          <a:stretch/>
        </p:blipFill>
        <p:spPr>
          <a:xfrm>
            <a:off x="5715000" y="5715000"/>
            <a:ext cx="101268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2514600" y="5549760"/>
          <a:ext cx="3168720" cy="1308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14600" y="5549760"/>
                    <a:ext cx="316872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0" y="2590920"/>
          <a:ext cx="2014560" cy="576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0" y="2590920"/>
                    <a:ext cx="201456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981080" y="2286000"/>
          <a:ext cx="53341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286000"/>
                    <a:ext cx="53341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-to-use programs designed to perform specific ta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s that support the execution and development of other 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major 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ting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lation systems (compilers &amp; linke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ftwa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34120" y="5105520"/>
            <a:ext cx="3047760" cy="506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181480" y="6095880"/>
            <a:ext cx="3505320" cy="5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913360" y="6486480"/>
            <a:ext cx="323028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Copyright © 2000 by Brooks/Cole Publishing Company 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 division of International Thomson Publishing Inc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uter Software Relationshi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4495680"/>
            <a:ext cx="1096920" cy="121932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99"/>
                </a:solidFill>
                <a:uFillTx/>
                <a:latin typeface="Arial"/>
              </a:rPr>
              <a:t>U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99"/>
                </a:solidFill>
                <a:uFillTx/>
                <a:latin typeface="Arial"/>
              </a:rPr>
              <a:t>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4495680"/>
            <a:ext cx="4800600" cy="1219320"/>
          </a:xfrm>
          <a:prstGeom prst="rect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99"/>
                </a:solidFill>
                <a:uFillTx/>
                <a:latin typeface="Arial"/>
              </a:rPr>
              <a:t>Basic Input and Output Services (BI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needed for a computer to boot u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3200400"/>
            <a:ext cx="1782720" cy="941400"/>
          </a:xfrm>
          <a:prstGeom prst="rect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99"/>
                </a:solidFill>
                <a:uFillTx/>
                <a:latin typeface="Arial"/>
              </a:rPr>
              <a:t>User 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3200400"/>
            <a:ext cx="3025800" cy="94140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99"/>
                </a:solidFill>
                <a:uFillTx/>
                <a:latin typeface="Arial"/>
              </a:rPr>
              <a:t>Operating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1905120"/>
            <a:ext cx="1782720" cy="941400"/>
          </a:xfrm>
          <a:prstGeom prst="rect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99"/>
                </a:solidFill>
                <a:uFillTx/>
                <a:latin typeface="Arial"/>
              </a:rPr>
              <a:t>User 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1905120"/>
            <a:ext cx="2949840" cy="941400"/>
          </a:xfrm>
          <a:prstGeom prst="rect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99"/>
                </a:solidFill>
                <a:uFillTx/>
                <a:latin typeface="Arial"/>
              </a:rPr>
              <a:t>Application Progra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1427400" cy="1782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324480" y="2819520"/>
            <a:ext cx="304920" cy="380880"/>
          </a:xfrm>
          <a:prstGeom prst="upDownArrow">
            <a:avLst>
              <a:gd name="adj1" fmla="val 50000"/>
              <a:gd name="adj2" fmla="val 24866"/>
            </a:avLst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62720" y="4038480"/>
            <a:ext cx="304560" cy="381240"/>
          </a:xfrm>
          <a:prstGeom prst="upDownArrow">
            <a:avLst>
              <a:gd name="adj1" fmla="val 50000"/>
              <a:gd name="adj2" fmla="val 24919"/>
            </a:avLst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3800" y="4038480"/>
            <a:ext cx="304920" cy="1981440"/>
          </a:xfrm>
          <a:prstGeom prst="upDownArrow">
            <a:avLst>
              <a:gd name="adj1" fmla="val 50000"/>
              <a:gd name="adj2" fmla="val 129363"/>
            </a:avLst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3429000"/>
            <a:ext cx="304560" cy="1295280"/>
          </a:xfrm>
          <a:prstGeom prst="upDownArrow">
            <a:avLst>
              <a:gd name="adj1" fmla="val 50000"/>
              <a:gd name="adj2" fmla="val 8466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7856000">
            <a:off x="2516040" y="2898360"/>
            <a:ext cx="457200" cy="1063800"/>
          </a:xfrm>
          <a:prstGeom prst="upDownArrow">
            <a:avLst>
              <a:gd name="adj1" fmla="val 28722"/>
              <a:gd name="adj2" fmla="val 66399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3603000">
            <a:off x="2503080" y="1739880"/>
            <a:ext cx="304920" cy="1413000"/>
          </a:xfrm>
          <a:prstGeom prst="upDownArrow">
            <a:avLst>
              <a:gd name="adj1" fmla="val 50000"/>
              <a:gd name="adj2" fmla="val 92251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6095880"/>
            <a:ext cx="7391520" cy="5335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99"/>
                </a:solidFill>
                <a:uFillTx/>
                <a:latin typeface="Arial"/>
              </a:rPr>
              <a:t>Computer Hardwar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15000" y="5715000"/>
            <a:ext cx="304920" cy="380880"/>
          </a:xfrm>
          <a:prstGeom prst="upDownArrow">
            <a:avLst>
              <a:gd name="adj1" fmla="val 50000"/>
              <a:gd name="adj2" fmla="val 24866"/>
            </a:avLst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pplication Softwa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 software makes computer popular and easy to u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n application softw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80000"/>
              <a:buFont typeface="Wingdings" charset="2"/>
              <a:buChar char=""/>
              <a:tabLst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Word, WordPerf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80000"/>
              <a:buFont typeface="Wingdings" charset="2"/>
              <a:buChar char=""/>
              <a:tabLst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80000"/>
              <a:buFont typeface="Wingdings" charset="2"/>
              <a:buChar char=""/>
              <a:tabLst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scape, Internet Explor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80000"/>
              <a:buFont typeface="Wingdings" charset="2"/>
              <a:buChar char=""/>
              <a:tabLst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toShop, Photo-Pa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80000"/>
              <a:buFont typeface="Wingdings" charset="2"/>
              <a:buChar char=""/>
              <a:tabLst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ick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80000"/>
              <a:buFont typeface="Wingdings" charset="2"/>
              <a:buChar char=""/>
              <a:tabLst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eamwea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629400" y="3124080"/>
            <a:ext cx="2381400" cy="5716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rcRect l="0" t="0" r="0" b="28198"/>
          <a:stretch/>
        </p:blipFill>
        <p:spPr>
          <a:xfrm>
            <a:off x="8001000" y="5562720"/>
            <a:ext cx="762120" cy="533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7086600" y="2514600"/>
            <a:ext cx="1905120" cy="380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7315200" y="4648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rcRect l="30126" t="0" r="0" b="36388"/>
          <a:stretch/>
        </p:blipFill>
        <p:spPr>
          <a:xfrm>
            <a:off x="8001000" y="4114800"/>
            <a:ext cx="781200" cy="10666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5691240" y="5257800"/>
            <a:ext cx="2081160" cy="1413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6095880" y="3962520"/>
            <a:ext cx="1676520" cy="55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0948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s and manages the comput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, Unix, MSDO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t services that an operating system provid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Security: prevent unauthorized users from accessing th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ands to manipulate the fil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 and output on a variety of de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perating System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772400" y="5486400"/>
            <a:ext cx="1065240" cy="10652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rcRect l="0" t="0" r="0" b="36017"/>
          <a:stretch/>
        </p:blipFill>
        <p:spPr>
          <a:xfrm>
            <a:off x="8001000" y="2514600"/>
            <a:ext cx="990720" cy="79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16T00:02:10Z</dcterms:created>
  <dc:creator>Andrew Horner</dc:creator>
  <dc:description/>
  <cp:keywords/>
  <dc:language>en-US</dc:language>
  <cp:lastModifiedBy>Liao Ren Lan</cp:lastModifiedBy>
  <cp:lastPrinted>1998-09-01T02:58:58Z</cp:lastPrinted>
  <dcterms:modified xsi:type="dcterms:W3CDTF">2010-02-01T00:48:38Z</dcterms:modified>
  <cp:revision>262</cp:revision>
  <dc:subject/>
  <dc:title>comp104 notes</dc:title>
</cp:coreProperties>
</file>