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25.png" ContentType="image/png"/>
  <Override PartName="/ppt/media/image10.wmf" ContentType="image/x-wmf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1.png" ContentType="image/png"/>
  <Override PartName="/ppt/media/image6.wmf" ContentType="image/x-wmf"/>
  <Override PartName="/ppt/media/image35.png" ContentType="image/png"/>
  <Override PartName="/ppt/media/image36.png" ContentType="image/png"/>
  <Override PartName="/ppt/media/image5.wmf" ContentType="image/x-wmf"/>
  <Override PartName="/ppt/media/image37.jpeg" ContentType="image/jpeg"/>
  <Override PartName="/ppt/media/image28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1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00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21120" y="-1440"/>
            <a:ext cx="3000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0" y="8916480"/>
            <a:ext cx="30002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3921120" y="8916480"/>
            <a:ext cx="30002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B2DD86C-840C-443B-94FE-B083CB5AD6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6720" cy="4221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Img"/>
          </p:nvPr>
        </p:nvSpPr>
        <p:spPr>
          <a:xfrm>
            <a:off x="1116000" y="706320"/>
            <a:ext cx="4687920" cy="351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6000" y="706320"/>
            <a:ext cx="4687920" cy="3516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6720" cy="4221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level lang.,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evel,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3251-28F2-4785-8D80-1B44155F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3426-76C5-45F9-81FC-0C990971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BAED-ADC3-4C06-8529-21DE37A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DFE2-7B4C-446E-A6DB-B273ACC8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1E20-1537-43FD-8CD6-D2369704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56A-FCEA-40D1-938A-80D746B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463-67A9-4FC1-BA8A-5073027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1A7-0DD8-4C9A-9F86-A1B877D7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219-F962-48FA-9778-B2BE49B3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BA3-6E83-4C63-9480-C6075B1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4FC2-8C4A-4F7B-A854-8D38635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410E-FEE9-4DB0-A0F0-0D2DEF7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ED1-D6D8-4E85-9B62-D156838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238A-EA9F-4BB0-8923-F0451B1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621-25B8-4B02-9AA5-632BEEA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27A-88EE-4010-A746-812EE3C6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4C2-23C5-409F-B5E3-E2E5A14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0B3B-E099-4E7C-9863-686CFB0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9799-1AEB-4B78-B9CD-32118D5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4F7A-194C-4383-ABF4-035050EB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A2F7-CDDF-401F-BDA1-A573233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3D60-04BD-46BA-8BA5-30492C5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85AF-E8DC-49A4-9F3A-3A850DCF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2867-DAAF-4500-9677-240FFDD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772400" y="6248160"/>
            <a:ext cx="1217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9E4-8DED-40DA-86AC-828CD20502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763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102 Prog. Fundamentals I: Software / Slide </a:t>
            </a:r>
            <a:fld id="{72D97C0F-78BC-4672-8AC3-B73B1B2D3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486-B2BF-470A-9685-BC13D9C157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51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48320" y="403848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Arial"/>
                <a:ea typeface="宋体"/>
              </a:rPr>
              <a:t>Hardware  &amp; </a:t>
            </a:r>
            <a:r>
              <a:rPr b="0" lang="en-US" sz="4400" spc="-1" strike="noStrike">
                <a:solidFill>
                  <a:srgbClr val="ffccff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cc"/>
                </a:solidFill>
                <a:latin typeface="Times New Roman"/>
              </a:rPr>
              <a:t>Programming</a:t>
            </a:r>
            <a:endParaRPr b="0" lang="en-US" sz="72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3459240"/>
            <a:ext cx="34290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What is a (programming) language?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needs to be written in a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level, understandable by a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level, needs a translat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++ is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gh level programm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5040" y="1676520"/>
            <a:ext cx="47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quence of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6120" y="2590920"/>
            <a:ext cx="4237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n computer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040" y="2666880"/>
            <a:ext cx="393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gorth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n human langu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37920" y="2209680"/>
            <a:ext cx="38124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12408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binary language: unintellig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 assembly langu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emonic names for machine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manipulation of memory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-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-in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evels of programming languag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6477120" cy="4395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3121200" cy="38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543800" y="2362320"/>
            <a:ext cx="144612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560" y="16002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binary langu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9320" y="160020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-level assemb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16002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 example: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to translat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mpil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Visual C++, Eclipse, g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828800"/>
            <a:ext cx="85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gram written in high-level programming language (for example, C++ progr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962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ow-level (machine language) program that is understandable by a computer (for example, a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720" y="2895480"/>
            <a:ext cx="53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R (for example, Visual C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59092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nslation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programs used to develop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transla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Visual C++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clip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148104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505320" cy="59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253280" y="2590920"/>
            <a:ext cx="1585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ftware Developmen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ing (writing the prog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ing (creates .obj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 with compiled files (creates .exe f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ing and exec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038480" y="3352680"/>
          <a:ext cx="4953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352680"/>
                    <a:ext cx="4953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543800" y="1828800"/>
            <a:ext cx="1438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Integrated </a:t>
            </a:r>
            <a:br>
              <a:rPr sz="4000"/>
            </a:br>
            <a:r>
              <a:rPr b="0" lang="en-US" sz="4000" spc="-1" strike="noStrike">
                <a:solidFill>
                  <a:srgbClr val="00cccc"/>
                </a:solidFill>
                <a:latin typeface="Times New Roman"/>
              </a:rPr>
              <a:t>Development Environments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all of the capabilities that a programmer would want while developing software (VC+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2008, Eclip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u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34152" t="0" r="0" b="28895"/>
          <a:stretch/>
        </p:blipFill>
        <p:spPr>
          <a:xfrm>
            <a:off x="7620120" y="3733920"/>
            <a:ext cx="10666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First Progra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2971800"/>
            <a:ext cx="6096240" cy="1219320"/>
          </a:xfrm>
          <a:prstGeom prst="rect">
            <a:avLst/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1981080"/>
            <a:ext cx="603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urier New"/>
              </a:rPr>
              <a:t>// a simple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#includ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ostrea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ut &lt;&lt; "Hello world!" &lt;&lt; end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2c1fe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276720"/>
            <a:ext cx="762120" cy="175248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75680" y="5183280"/>
            <a:ext cx="130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95480" y="3581280"/>
            <a:ext cx="533520" cy="167652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5257800"/>
            <a:ext cx="299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s exec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main() which end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209680"/>
            <a:ext cx="533520" cy="22860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88800" y="2286000"/>
            <a:ext cx="141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971800"/>
            <a:ext cx="1389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named main() indicates start of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76160" y="2895480"/>
            <a:ext cx="990360" cy="533520"/>
          </a:xfrm>
          <a:prstGeom prst="line">
            <a:avLst/>
          </a:prstGeom>
          <a:ln w="25560">
            <a:solidFill>
              <a:srgbClr val="ffff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27135" t="0" r="9713" b="0"/>
          <a:stretch/>
        </p:blipFill>
        <p:spPr>
          <a:xfrm>
            <a:off x="7620120" y="4343400"/>
            <a:ext cx="106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omponents of a computer syst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- central processing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decisions, performs computations, and delegates input/output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: Disk Drives, CD drives, Tape drives, USB flash dr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evices: Keyboard, Mous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information from the user to th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devices: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information from computer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43760" y="5638680"/>
            <a:ext cx="120024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32840" y="1981080"/>
            <a:ext cx="91116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7528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14400" y="485640"/>
            <a:ext cx="160020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62040" y="2165400"/>
          <a:ext cx="59882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165400"/>
                    <a:ext cx="59882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43800" y="2666880"/>
            <a:ext cx="1600200" cy="124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10080" y="1447920"/>
            <a:ext cx="1135080" cy="136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32767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82040" y="3962520"/>
            <a:ext cx="1461960" cy="1501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5715000" y="5715000"/>
            <a:ext cx="1012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14600" y="5549760"/>
          <a:ext cx="3168720" cy="13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5549760"/>
                    <a:ext cx="31687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2590920"/>
          <a:ext cx="2014560" cy="57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590920"/>
                    <a:ext cx="2014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81080" y="2286000"/>
          <a:ext cx="53341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0"/>
                    <a:ext cx="533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-to-use programs designed to perform specific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hat support the execution and development of other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majo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on systems (compilers &amp; link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5105520"/>
            <a:ext cx="3047760" cy="50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81480" y="6095880"/>
            <a:ext cx="3505320" cy="5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13360" y="6486480"/>
            <a:ext cx="32302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opyright © 2000 by Brooks/Cole Publishing Company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 division of International Thomson Publishing Inc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uter Software Relationshi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495680"/>
            <a:ext cx="10969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495680"/>
            <a:ext cx="4800600" cy="121932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Basic Input and Output Services (B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eded for a computer to boot 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200400"/>
            <a:ext cx="1782720" cy="9414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200400"/>
            <a:ext cx="3025800" cy="9414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Operat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1905120"/>
            <a:ext cx="1782720" cy="941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05120"/>
            <a:ext cx="2949840" cy="9414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Application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1427400" cy="178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24480" y="281952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03848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038480"/>
            <a:ext cx="304920" cy="1981440"/>
          </a:xfrm>
          <a:prstGeom prst="upDownArrow">
            <a:avLst>
              <a:gd name="adj1" fmla="val 50000"/>
              <a:gd name="adj2" fmla="val 129363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04560" cy="1295280"/>
          </a:xfrm>
          <a:prstGeom prst="upDownArrow">
            <a:avLst>
              <a:gd name="adj1" fmla="val 50000"/>
              <a:gd name="adj2" fmla="val 846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7856000">
            <a:off x="2516040" y="2898360"/>
            <a:ext cx="457200" cy="1063800"/>
          </a:xfrm>
          <a:prstGeom prst="upDownArrow">
            <a:avLst>
              <a:gd name="adj1" fmla="val 28722"/>
              <a:gd name="adj2" fmla="val 6639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603000">
            <a:off x="2503080" y="1739880"/>
            <a:ext cx="304920" cy="1413000"/>
          </a:xfrm>
          <a:prstGeom prst="upDownArrow">
            <a:avLst>
              <a:gd name="adj1" fmla="val 50000"/>
              <a:gd name="adj2" fmla="val 9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6095880"/>
            <a:ext cx="7391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Computer Hardwar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7150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pplication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oftware makes computer popular and easy to 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application softw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ord, WordPer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cape, Internet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toShop, Photo-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80000"/>
              <a:buFont typeface="Wingdings" charset="2"/>
              <a:buChar char=""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amwe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381400" cy="5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0" r="0" b="28198"/>
          <a:stretch/>
        </p:blipFill>
        <p:spPr>
          <a:xfrm>
            <a:off x="8001000" y="5562720"/>
            <a:ext cx="7621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086600" y="2514600"/>
            <a:ext cx="190512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30126" t="0" r="0" b="36388"/>
          <a:stretch/>
        </p:blipFill>
        <p:spPr>
          <a:xfrm>
            <a:off x="8001000" y="4114800"/>
            <a:ext cx="78120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691240" y="5257800"/>
            <a:ext cx="2081160" cy="141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095880" y="3962520"/>
            <a:ext cx="16765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nd manages the compu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, Unix, MSD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services that an operating system pro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ecurity: prevent unauthorized users from accessing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s to manipulate the fil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on a variety of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perating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0" b="36017"/>
          <a:stretch/>
        </p:blipFill>
        <p:spPr>
          <a:xfrm>
            <a:off x="8001000" y="2514600"/>
            <a:ext cx="990720" cy="79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6T00:02:10Z</dcterms:created>
  <dc:creator>Andrew Horner</dc:creator>
  <dc:description/>
  <cp:keywords/>
  <dc:language>en-US</dc:language>
  <cp:lastModifiedBy>Liao Ren Lan</cp:lastModifiedBy>
  <cp:lastPrinted>1998-09-01T02:58:58Z</cp:lastPrinted>
  <dcterms:modified xsi:type="dcterms:W3CDTF">2010-02-01T00:48:38Z</dcterms:modified>
  <cp:revision>262</cp:revision>
  <dc:subject/>
  <dc:title>comp104 notes</dc:title>
</cp:coreProperties>
</file>