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BF9-43BB-4A1C-99A6-019F65C4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EC6-D1DB-4530-8C11-F71C497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AA2-2FDF-4DB1-9502-5BA5BB6B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1E7-20F6-41F1-A021-E40032FD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D09-35BA-4036-AC1D-51906F99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2C37-C747-40CD-BFF0-321612A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E437-0F0F-46F6-AEAD-AAD3ED3E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BAF-9915-4CA8-85CB-A85C4C70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BCB2-9156-4757-9815-6BC0642A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4450-9F1D-4190-BB4D-2D72A9F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4EB1-985D-41A0-A7BD-052022E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21E-AF1D-4B5A-901D-069B0FE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D11B-2259-48ED-8E4C-38B6B077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421-AA45-405E-B7AE-6CCF38D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693-B94A-4C99-AC07-43619D9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71B3-881C-4666-B54F-DAC79BBA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5455-38D7-4CF6-9F00-2DA772C6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196-B8EA-45C7-895A-890BE6F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527-E2CF-4D2C-A00B-93A2D24D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781-0D6F-49E0-8E93-059A881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8D1-418D-4A80-A84E-66457D8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966-5109-469E-8E10-3DDE600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575-D5FA-4017-B93A-E30FFCC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BF9-4FA8-4848-B95C-48D2EE9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98BD-2391-4FFD-AA9E-68152BECE9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4730-0BF9-43F5-836D-D268FB51C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Computer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&amp; the Intern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n Ele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help make computers easier to us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icture icons are used to represent action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st programs have things in commo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p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st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look the same from program to program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 Common Elements to Loc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itle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ize and Close butt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croll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rtion 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nu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soft Word button on the task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S Office Menu Bar &amp; Tool Ba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ll menu bars have these op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Ed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Vie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s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48608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king with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nd save a docu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Opening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 fol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2075040" cy="299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't harm a computer by experimenting or trying something new, so if you think you remember how to do something, try it. The worst that can happen is that you learn something new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Describe the function and components of the Interne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the Internet Explorer brows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Web pag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Internet Explorer Help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 a Web pag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4876920"/>
            <a:ext cx="1782720" cy="141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Interne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worldwide network of compu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urrent information on almost any top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unicate worldwid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1349280"/>
            <a:ext cx="163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133668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 Explorer (I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Web browser used to navigate through pages on the Intern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Web pages are accessed by hyperlinks or typed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 group of Web pages owned by one organization is a Web si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main page in a Web site is the home pa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use computer hardwa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and close a desired progra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back and forth between open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d save a Word document on a floppy dis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4724280"/>
            <a:ext cx="1635120" cy="11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six main areas of IE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itle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enu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ddres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formation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tu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Toolbar buttons help you navig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orw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o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fre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5816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Favor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 are shortcuts to pre-selected Web si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Favorites through the toolbar but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lace a Web site in the Favorites folder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Hel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vides information, support, and tips for using 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Help through the menu b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ful topics include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Getting Star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king the To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590920" cy="2477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et Explorer is a Web browser that is used to access, view, and navigate text and images on the World Wide Web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ditional Inform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Harness E-Mail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 Etiquet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uter Worksta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Working Posi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mput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tool for accessing informatio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PC is a personal computer – a one person or single user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does not think on its own. You have to tell it what to d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c computer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c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2079720" cy="193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19810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kt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esktop is the first thing you see when you log in- it is the “launch pad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cons, or pictures, represent programs that are available on the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tice the gray task bar at the bottom of the scre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cate the following items on your desktop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sk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gram ic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use poi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rt butt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arting a Program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 start, or open, a program by double-clicking its icon on the desk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ogram is visible as a window on the computer scr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button representing the program appears on the taskb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163512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800600"/>
            <a:ext cx="1863720" cy="133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orking With 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ndows represents an open program or fold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 have more than one window open at a tim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window you are working in is called the active wind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ctive window will be on top of any other open window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07:53Z</dcterms:created>
  <dc:creator>Sarah Kate Moore</dc:creator>
  <dc:description/>
  <dc:language>en-US</dc:language>
  <cp:lastModifiedBy>crichardson</cp:lastModifiedBy>
  <dcterms:modified xsi:type="dcterms:W3CDTF">2005-12-05T17:16:20Z</dcterms:modified>
  <cp:revision>43</cp:revision>
  <dc:subject/>
  <dc:title>Basic Computer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