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gif" ContentType="image/gif"/>
  <Override PartName="/ppt/media/image15.gif" ContentType="image/gif"/>
  <Override PartName="/ppt/media/image14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C50-1F06-4607-857E-69D17280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96F-DE5D-4A06-A0D4-FD425DA3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6A7-428B-493A-9078-2819BEBC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70A-8493-4FE8-B3BA-872E3A2E0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03A8-FEA1-4E87-84AA-A014F4B1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3549-ED90-4AFD-B201-C80FEBAA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A391-B902-485D-ADD8-F5DCAFEC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ED77-6615-426E-9426-029FF3D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C71C-D341-413F-874C-0852E232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8A3F-1220-4750-B0C6-5E12D469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9410-D9B0-4FB9-8F77-8D0DD690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9209-CF5E-4EB3-A25B-D0013B0E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ED81-B8B1-4543-B0B5-9E77A5E9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557F-15F3-48EC-8594-556B1D58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5929-24D7-4FF2-958B-E5E01D58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BE7C-678A-46AB-A00E-8D30C5B5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3048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75160" y="60948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3048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375160" y="3714120"/>
            <a:ext cx="2232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BD77-EEAB-45F1-9365-34C371CB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34E-B00A-4608-B391-B48AE856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4FD-0516-47A7-BBFC-93FA2EAA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0EB5-C2CA-454A-BB43-851709F2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6858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6F6E-B149-4F59-98FF-A21E4C47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93E-AB65-4BD7-A6C7-99E9A88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9000" y="371412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E8C-6E9B-4212-8300-946B6328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9000" y="609480"/>
            <a:ext cx="33836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4120"/>
            <a:ext cx="69343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80D-989F-4049-B115-A0F6AEA0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609480"/>
            <a:ext cx="6934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FBC4-54D4-4E73-B40C-113B6AAB07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650D-7888-48E5-88D8-30C465A4BE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Computer Skill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ndows &amp; the Interne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n Ele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mon elements help make computers easier to use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icture icons are used to represent action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ost programs have things in commo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Sa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Cop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Arial Unicode MS"/>
              </a:rPr>
              <a:t>Past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mon elements look the same from program to program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ome Common Elements to Loca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itle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mize and Close button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croll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sertion poi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enu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crosoft Word button on the task ba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MS Office Menu Bar &amp; Tool Ba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All menu bars have these option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F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Ed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Vie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Ins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oo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Window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Hel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86400" y="4572000"/>
            <a:ext cx="148608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219320" y="12952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orking with Fi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ate and save a docu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Opening fi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ate a fold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29200" y="3048120"/>
            <a:ext cx="2075040" cy="2998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f you remember nothing else…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You can't harm a computer by experimenting or trying something new, so if you think you remember how to do something, try it. The worst that can happen is that you learn something new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Describe the function and components of the Internet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Use the Internet Explorer brows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ccess Web pag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Use Internet Explorer Help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rint a Web page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81480" y="4876920"/>
            <a:ext cx="1782720" cy="1417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the Internet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worldwide network of compute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urrent information on almost any top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Communicate worldwid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066680" y="1349280"/>
            <a:ext cx="1635120" cy="2079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410080" y="4572000"/>
            <a:ext cx="1336680" cy="1486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et Explorer (I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 Web browser used to navigate through pages on the Intern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Web pages are accessed by hyperlinks or typed address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A group of Web pages owned by one organization is a Web sit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main page in a Web site is the home pag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v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use computer hardwa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 and close a desired progra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back and forth between open window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d save a Word document on a floppy disc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257800" y="4724280"/>
            <a:ext cx="1635120" cy="118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vigating Internet Explor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six main areas of IE ar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itle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enu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ool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ddress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Information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tatus 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vigating Internet Explore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Toolbar buttons help you navigat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Back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Forwa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Hom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Refres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to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ear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Favorit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438280" y="4495680"/>
            <a:ext cx="3581640" cy="15242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 Explorer Favorit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Favorites are shortcuts to pre-selected Web sites.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Access Favorites through the toolbar butt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Place a Web site in the Favorites folder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et Explorer Hel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vides information, support, and tips for using I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Access Help through the menu ba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Helpful topics include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Getting Starte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aking the To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rinting Inform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aving Inform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the Internet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590920" cy="24778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657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f you remember nothing else…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0" y="4495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rnet Explorer is a Web browser that is used to access, view, and navigate text and images on the World Wide Web.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dditional Information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Harness E-Mail: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-Mail Etiquett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puter Workstation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Working Positi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a computer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tool for accessing informatio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A PC is a personal computer – a one person or single user comput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computer does not think on its own. You have to tell it what to do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c computer part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ca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boa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us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2079720" cy="1931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1981080" cy="16192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ktop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he desktop is the first thing you see when you log in- it is the “launch pad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Icons, or pictures, represent programs that are available on the computer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Notice the gray task bar at the bottom of the screen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Locate the following items on your desktop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askba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gram ic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Mouse poi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Start butt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arting a Program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ou start, or open, a program by double-clicking its icon on the deskto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program is visible as a window on the computer scree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 button representing the program appears on the taskba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ctivity &amp;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view Question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163512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952880" y="4800600"/>
            <a:ext cx="1863720" cy="1336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roduction to Window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9343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orking With Windows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windows represents an open program or folder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You can have more than one window open at a time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window you are working in is called the active wind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active window will be on top of any other open windows.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8:07:53Z</dcterms:created>
  <dc:creator>Sarah Kate Moore</dc:creator>
  <dc:description/>
  <dc:language>en-US</dc:language>
  <cp:lastModifiedBy>crichardson</cp:lastModifiedBy>
  <dcterms:modified xsi:type="dcterms:W3CDTF">2005-12-05T17:16:20Z</dcterms:modified>
  <cp:revision>43</cp:revision>
  <dc:subject/>
  <dc:title>Basic Computer Ski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171033</vt:lpwstr>
  </property>
</Properties>
</file>