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Fall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CS478 - Machin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11F3-4425-42B1-8522-22A21396457E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all 2004</a:t>
            </a:r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S478 - Machine Learning</a:t>
            </a:r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4243-11F7-4757-8BA7-AE87F7F83A8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C433-A5C5-4BD7-8544-F6B6F980DB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inkowsky = l-n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A17A-EEA8-4919-B2BB-0A87DFB4D6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5613-F148-4C60-B8E6-360E21BABF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 a single example here.  Shape (Round, Square) 6/10 and 3/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477E-8EB5-4B79-91C5-5C62AA6867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E665F-BB9F-43F7-8A7C-6B1DC4C74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AE8A1-DDF2-45CF-BCD0-515063B0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B3BAB-D1BD-4F73-9D13-D49AB26C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04892-96C4-4CF1-AD09-218501B6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AA538-0CE7-4B7C-83ED-F7A23F8F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A079B-A038-46E9-BD73-404BB981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EF251-82E8-4EF0-A3BF-429C155A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22554-E31A-4C82-BDE7-0F51E807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62883-565D-4E2E-B5F7-EBE14514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A0A7E-0FB7-491C-9B50-A1A9B0C9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378FD-84F8-4332-A866-88A5C65C6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F2255-2DCE-4A9F-9AD2-FF799060F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341EE-58A3-4EF7-AC9C-495CE48AF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3F862-879C-4AB7-A0DF-78CE2B36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0DC4A-9A48-48DF-9564-3377AC1B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9B4E2-5A66-4309-92E1-11FB5B9D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0295B-3558-4ABF-8667-6CE27DBA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0901A-F5E9-490B-8661-86F72C3B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B44FA-B102-486B-A78D-A3AA542C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75BFB-8B5F-4628-96BE-159F58F9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B61CB-3F62-4216-B642-04A71D1D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28A43-C94C-40CB-9012-FD09645E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F03FE-FD78-47D1-A4B5-07EE140D8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1F213-E934-4CE5-B20C-F75CB4FE9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A7D60-B1B9-4E47-BA58-A124DFE73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72E9D-DDC1-4B92-B9F6-F33FD469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29862-276F-467C-A189-7F952CB0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0FA14-A723-4957-B50C-B59463C1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AE5CF-9B92-4B6B-A020-8F1D409F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4A002-DD28-44AC-94ED-B54E6FF4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81A5F-8B3B-45B9-AA1C-31F36E4F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32D6A-CAC4-4D22-B3A8-940670E9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EF5BF-AB73-4DA5-94DF-8F49FCE1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18150-E02C-48F5-BEFC-2986C317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A615F-A7F3-4F3A-8145-B24B3DCFC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FE32E-D48A-401D-A6E4-8B864F7AF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96CA3-8853-4FA2-AAE2-464235AED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2EACB-F42A-4DF2-AADC-D1A0C9B0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2EE06-D5DB-41C2-8902-B5D1CCF1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B0FB8-F1CA-4B7E-B886-9A747E3D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369E4-670C-48B3-A381-76AC75DC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BEE1B-E8BF-49E2-B3F3-0E5A86FC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7D7CA-C655-478C-B2CE-A60FEB1E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43056-EA33-47F7-9A6D-C3EB2BD6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BB765-2A7F-43A4-B8B2-F11A666E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B5820-CDAA-4913-B396-0E492CB5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64C61-188E-4EE8-BA3D-1294CB8DB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97104-FF63-4FB6-83AB-B0A2CF7B2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173F2B-46D0-4C9D-BB37-4B81490FD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70226C-F705-4210-9F03-63F0325C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1198B-DAC9-4BBF-8F12-24849840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41815B-6BF8-40C8-9CCF-C740ED94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C11B1B-FD62-4781-9E05-EC43F7F0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79C15-642F-49DD-B828-516553DD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F8B506-B36A-465E-A751-809E9315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E5E2B1-3EAA-4C2C-87A3-C7E6ECD3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4AD087-62E1-47B4-B257-E0A6FB94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266C44-4A5A-48B1-AAEA-B039E428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060DFA-BAE9-4A04-83AD-7C8C3BEF6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102BFA-66F6-420F-8D69-B3CBC0CB5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8353F4-FE77-4B6B-86BE-04C1AD7CF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E5E51D-D75E-4FC5-819C-29E448D6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D07448-FA8D-4023-9BF5-98F16E1B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C04641-7780-4E48-B82F-7458371C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809424-9BB3-4960-84C9-7B7C6D20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B10765-CE5A-4884-A567-180927EF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A78E01-533D-4643-877C-FFFC3F77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572AD1-4563-4538-8A30-CD6337B1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8BFA94-3E7C-4A39-847D-4B23DBC7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60210F-C3E8-4B22-BDA4-580C8D7D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23D8A7-0CAC-4575-BFD9-537B98A59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BF9EF6-57C9-4B69-93CB-A2FA26D2E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3404-D2DA-4B65-B260-221DF1783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CFCD-15BE-4FA8-8CDD-E1862C6E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804D-CDB2-4E39-BCC2-005FE131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4D82-CDF8-498D-B9CF-78E3A039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B52C-906E-44D5-BC4A-F31CF9B9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DF02-571F-4F50-8086-FD50F8B3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3342-1E56-4920-A46D-FBC7E82E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B4B7-55A6-41BA-AB1B-80ECA858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2935-9832-4C5D-B55C-B1671A87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CDAA-11FD-4A54-B853-5D1EEE24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1888-05D2-4A67-B599-1D0DA5D3C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D9F0-8EF0-4F2E-8D5D-913AABABD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D229-5C69-47D6-BE9D-E9FA7863A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CB4C0-7BCC-48B8-93F6-69A5E46E8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7D14-16AF-4AA1-A7AC-A57C2E7E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9CF0-1480-482D-8198-6324E699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EC19-FB24-446B-97CB-86D817C9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1C62-AC9B-4FFB-9EAC-4DED2CF8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84052-B3A8-43E3-A4CB-7F67BAA4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227D-74AE-482E-8B01-2AE0440D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39080-59F4-4C78-B290-27ABF9E9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9435-92EF-4996-86FA-565FA7BC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64D89-38E9-448F-8605-3DF0E902A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3BDA-CDC8-4E66-9EBF-BC4810E7B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AF802-EC2E-43DF-AC7D-DD56F792C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07676-4ADC-49CA-BBF1-17F204BB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3EFEE-37FA-4EF3-8502-6DC8BA1D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5847D-BD4A-4AF3-A10D-AD60CC9E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F140C-57A9-4AD9-BD59-9D378F52A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E11EC-8594-4B53-BFCA-D3209659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01CDE-83ED-44FD-B15B-C1B5C702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3C267-3DF7-4AA8-8420-7B6A2B25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40E80-9A05-4457-94CF-51B1AB98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5F760-C139-4E72-BE4A-185DC19E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68DC0-D525-4ED8-953B-416F7CB46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754D6-95C3-45B6-85D8-5F5DE5AB9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2B974-FB19-484C-A852-B1DBA91F9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62520-E96D-4D6A-A82C-0F784139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99135-1529-49FB-A932-22F2C12D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C3557-FC06-4783-B7B0-57B4D482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497BE-97CC-46DD-A5CF-E77EF2A8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3F057-B131-4310-92F6-224FB33F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34537-6829-4402-BA27-B31E0AD7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77444-1BDE-4F73-B99D-89AD39B8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531BC-054B-418C-92CD-B2249148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3E59F-052B-4444-8DBC-5DC5CD84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4EA5B-93C6-4828-8FF7-B1FCE7A5A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D8923-D5AD-4C1A-8392-B77A3F90A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1" descr="DML LOGO"/>
          <p:cNvPicPr/>
          <p:nvPr/>
        </p:nvPicPr>
        <p:blipFill>
          <a:blip r:embed="rId2"/>
          <a:srcRect l="16667" t="33333" r="16667" b="34446"/>
          <a:stretch/>
        </p:blipFill>
        <p:spPr>
          <a:xfrm>
            <a:off x="4419720" y="4572000"/>
            <a:ext cx="4572000" cy="220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1" descr="DML LOGO"/>
          <p:cNvPicPr/>
          <p:nvPr/>
        </p:nvPicPr>
        <p:blipFill>
          <a:blip r:embed="rId2"/>
          <a:srcRect l="16667" t="33333" r="16667" b="35558"/>
          <a:stretch/>
        </p:blipFill>
        <p:spPr>
          <a:xfrm>
            <a:off x="3809880" y="6070680"/>
            <a:ext cx="1524240" cy="71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S 478 - Machine Le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CAED-D979-46BA-8356-21CA20F07A8B}" type="slidenum"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S 478 - Machine Le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813D-CC8C-4D85-91CB-18C7D979E1DE}" type="slidenum"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S 478 - Machine Le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953F-45EE-4062-BA63-D2302592E2DF}" type="slidenum"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S 478 - Machine Le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7E4C-8C85-4BF1-B3BA-56674B05D99B}" type="slidenum"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S 478 - Machine Le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57F5-4B81-4FE6-AFCA-6139FE9A11CD}" type="slidenum"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S 478 - Machine Le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4D78-0501-49CD-B6F9-AD201AAB0244}" type="slidenum"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" descr="DML LOGO"/>
          <p:cNvPicPr/>
          <p:nvPr/>
        </p:nvPicPr>
        <p:blipFill>
          <a:blip r:embed="rId2"/>
          <a:srcRect l="16667" t="33333" r="15554" b="34446"/>
          <a:stretch/>
        </p:blipFill>
        <p:spPr>
          <a:xfrm>
            <a:off x="1219320" y="3352680"/>
            <a:ext cx="6892920" cy="327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DML LOGO"/>
          <p:cNvPicPr/>
          <p:nvPr/>
        </p:nvPicPr>
        <p:blipFill>
          <a:blip r:embed="rId2"/>
          <a:srcRect l="17779" t="33333" r="16667" b="35558"/>
          <a:stretch/>
        </p:blipFill>
        <p:spPr>
          <a:xfrm>
            <a:off x="7620120" y="6172200"/>
            <a:ext cx="1295280" cy="6145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DML LOGO"/>
          <p:cNvPicPr/>
          <p:nvPr/>
        </p:nvPicPr>
        <p:blipFill>
          <a:blip r:embed="rId2"/>
          <a:srcRect l="16667" t="33333" r="16667" b="35741"/>
          <a:stretch/>
        </p:blipFill>
        <p:spPr>
          <a:xfrm>
            <a:off x="2286000" y="533520"/>
            <a:ext cx="4572000" cy="21207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S 478 - Machine Le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5C15-9337-4E80-B60F-3705F400C7E8}" type="slidenum"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S 478 - Machine Le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F9EE-35E6-44FD-B5B0-D1EA2CAD120F}" type="slidenum"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S 478 - Machine Le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BADE-2B1E-4E61-8A96-6509B98892B7}" type="slidenum"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1" descr="DML LOGO"/>
          <p:cNvPicPr/>
          <p:nvPr/>
        </p:nvPicPr>
        <p:blipFill>
          <a:blip r:embed="rId2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S 478 - Machine Le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7D4B-0132-477B-BB6F-A245158D21D6}" type="slidenum">
              <a:rPr b="0" lang="fr-F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" descr="DML LOGO"/>
          <p:cNvPicPr/>
          <p:nvPr/>
        </p:nvPicPr>
        <p:blipFill>
          <a:blip r:embed="rId2"/>
          <a:srcRect l="15558" t="32224" r="16667" b="34446"/>
          <a:stretch/>
        </p:blipFill>
        <p:spPr>
          <a:xfrm>
            <a:off x="7620120" y="6107040"/>
            <a:ext cx="137160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1" descr="DML LOGO"/>
          <p:cNvPicPr/>
          <p:nvPr/>
        </p:nvPicPr>
        <p:blipFill>
          <a:blip r:embed="rId2"/>
          <a:srcRect l="16667" t="33333" r="16667" b="34446"/>
          <a:stretch/>
        </p:blipFill>
        <p:spPr>
          <a:xfrm>
            <a:off x="228600" y="6041880"/>
            <a:ext cx="1371600" cy="66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S 478 - Machine Lear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1371600" y="19047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stance Based Lear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(Adapted from various sourc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ndard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457200" y="1587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form raw feature values into z-sc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the value for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ample and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e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the average of all     for featur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the standard deviation of all     over all input samp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nge and scale of z-scores should be simila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providing distributions of raw feature values are alik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5" name="Object 2"/>
              <p:cNvSpPr txBox="1"/>
              <p:nvPr/>
            </p:nvSpPr>
            <p:spPr>
              <a:xfrm>
                <a:off x="3149640" y="2233440"/>
                <a:ext cx="167004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6" name="Object 3"/>
              <p:cNvSpPr txBox="1"/>
              <p:nvPr/>
            </p:nvSpPr>
            <p:spPr>
              <a:xfrm>
                <a:off x="3149640" y="2246400"/>
                <a:ext cx="167004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Object 4"/>
              <p:cNvSpPr txBox="1"/>
              <p:nvPr/>
            </p:nvSpPr>
            <p:spPr>
              <a:xfrm>
                <a:off x="1217520" y="3287880"/>
                <a:ext cx="3762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8" name="Object 5"/>
              <p:cNvSpPr txBox="1"/>
              <p:nvPr/>
            </p:nvSpPr>
            <p:spPr>
              <a:xfrm>
                <a:off x="1230480" y="3795840"/>
                <a:ext cx="3492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Object 6"/>
              <p:cNvSpPr txBox="1"/>
              <p:nvPr/>
            </p:nvSpPr>
            <p:spPr>
              <a:xfrm>
                <a:off x="4494240" y="3808440"/>
                <a:ext cx="3762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Object 7"/>
              <p:cNvSpPr txBox="1"/>
              <p:nvPr/>
            </p:nvSpPr>
            <p:spPr>
              <a:xfrm>
                <a:off x="1255680" y="4316400"/>
                <a:ext cx="3762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1" name="Object 8"/>
              <p:cNvSpPr txBox="1"/>
              <p:nvPr/>
            </p:nvSpPr>
            <p:spPr>
              <a:xfrm>
                <a:off x="6068880" y="4329000"/>
                <a:ext cx="376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tance Metr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3" name="Picture 3" descr="Snapshot 2005-11-03 15-11-07"/>
          <p:cNvPicPr/>
          <p:nvPr/>
        </p:nvPicPr>
        <p:blipFill>
          <a:blip r:embed="rId1"/>
          <a:stretch/>
        </p:blipFill>
        <p:spPr>
          <a:xfrm>
            <a:off x="1528920" y="1184400"/>
            <a:ext cx="5529240" cy="55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s with Distance Metr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distance measures were designed for linear/real-valued attribu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important questions in the context of machine learn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ow best to handle nominal attribu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at to do when attribute types are mix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tance for Nominal Attribu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7" name="Picture 2" descr="Snapshot 2005-11-04 09-14-44"/>
          <p:cNvPicPr/>
          <p:nvPr/>
        </p:nvPicPr>
        <p:blipFill>
          <a:blip r:embed="rId1"/>
          <a:stretch/>
        </p:blipFill>
        <p:spPr>
          <a:xfrm>
            <a:off x="1398600" y="1190520"/>
            <a:ext cx="55134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tance for Heterogeneous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9" name="Picture 3" descr="Snapshot 2005-11-03 15-46-36"/>
          <p:cNvPicPr/>
          <p:nvPr/>
        </p:nvPicPr>
        <p:blipFill>
          <a:blip r:embed="rId1"/>
          <a:stretch/>
        </p:blipFill>
        <p:spPr>
          <a:xfrm>
            <a:off x="449280" y="1616040"/>
            <a:ext cx="8107200" cy="3206880"/>
          </a:xfrm>
          <a:prstGeom prst="rect">
            <a:avLst/>
          </a:prstGeom>
          <a:ln w="0">
            <a:noFill/>
          </a:ln>
        </p:spPr>
      </p:pic>
      <p:sp>
        <p:nvSpPr>
          <p:cNvPr id="700" name="TextBox 3"/>
          <p:cNvSpPr/>
          <p:nvPr/>
        </p:nvSpPr>
        <p:spPr>
          <a:xfrm>
            <a:off x="2662200" y="5530680"/>
            <a:ext cx="606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lson, D. R. and Martinez, T. R., Improved Heterogeneous Distance Functions, Journal of Artificial Intelligence Research, vol.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, no. 1, pp. 1-34, 1997</a:t>
            </a:r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Remar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NN works well on many practical problems and is fairly noise tolerant (depending on the value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NN is subject to the curse of dimensionality (i.e., presence of many irrelevant attribut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NN needs adequate distance mea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NN relies on efficient index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684360"/>
            <a:ext cx="8229600" cy="10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is kNN Incrementa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training instances are sto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el consists of the set of training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ing a new training instance only affects the computation of neighbors, which is done at execution time (i.e., lazil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 that the storing of training instances is a violation of the strict definition of incremental learn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dicting Continuous Val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5644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3000"/>
          </a:bodyPr>
          <a:p>
            <a:pPr marL="44280" indent="-44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la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by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2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2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2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2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2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2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280" indent="-44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e: unweighted corresponds to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1 for all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7" name="Object 2"/>
              <p:cNvSpPr txBox="1"/>
              <p:nvPr/>
            </p:nvSpPr>
            <p:spPr>
              <a:xfrm>
                <a:off x="2879640" y="2952720"/>
                <a:ext cx="2809800" cy="21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Object 3"/>
              <p:cNvSpPr txBox="1"/>
              <p:nvPr/>
            </p:nvSpPr>
            <p:spPr>
              <a:xfrm>
                <a:off x="2144880" y="1862280"/>
                <a:ext cx="403668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v</m:t>
                        </m:r>
                        <m:r>
                          <m:t xml:space="preserve">∈</m:t>
                        </m:r>
                        <m:r>
                          <m:t xml:space="preserve">V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-based Reaso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xtension of I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ses represented by rich symbolic descriptions, rather tha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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Calibri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ple retrieved cases are combined using knowledge-based reasoning rather than statistical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ong interaction among case retrieval, knowledge-base reasoning and problem solving (e.g., adapting cases for match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stance-based learning is often termed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lazy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learning, as there is typically no “transformation” of training instances into more general “statements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stead, the presented training data is simply stored and, when a new query instance is encountered, a set of similar, related instances is retrieved from memory and used to classify the new query instan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ence, instance-based learners never form an explicit general hypothesis regarding the target function. They simply compute the classification of each new query instance as need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NN Appro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implest, most used instance-based learning algorithm is th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NN algorith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NN assumes that all instances are points in som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dimensional space and defines neighbors in terms of distance (usually Euclidean in R-spa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the number of neighbors conside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raphic Depi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6" name="Picture 3" descr="Knn_voronoi.png"/>
          <p:cNvPicPr/>
          <p:nvPr/>
        </p:nvPicPr>
        <p:blipFill>
          <a:blip r:embed="rId1"/>
          <a:stretch/>
        </p:blipFill>
        <p:spPr>
          <a:xfrm>
            <a:off x="525600" y="1112760"/>
            <a:ext cx="5727600" cy="5587920"/>
          </a:xfrm>
          <a:prstGeom prst="rect">
            <a:avLst/>
          </a:prstGeom>
          <a:ln w="0">
            <a:noFill/>
          </a:ln>
        </p:spPr>
      </p:pic>
      <p:sp>
        <p:nvSpPr>
          <p:cNvPr id="667" name="TextBox 4"/>
          <p:cNvSpPr/>
          <p:nvPr/>
        </p:nvSpPr>
        <p:spPr>
          <a:xfrm>
            <a:off x="6172200" y="1941480"/>
            <a:ext cx="26398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Properties: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All possible points within a sample's Voronoi cell are the nearest neighboring points for that sample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For any sample, the nearest sample is determined by the closest Voronoi cell edge</a:t>
            </a:r>
            <a:endParaRPr b="0" i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Id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the second property, th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NN classification rule is to assign to a test sample the majority category label of its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earest training sa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practice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usually chosen to be odd, so as to avoid 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1 rule is generally called the nearest-neighbor classification r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NN Algorith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942920"/>
            <a:ext cx="8177040" cy="19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ach training instanc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71520" indent="-142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 t to the set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r_insta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n a query instanc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o be classifi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71520" indent="-142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…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e th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raining instances in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r_instanc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nearest to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71520" indent="-142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s the finite set of target class values, and δ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=1 if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nd 0 otherwise (Kronecker func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uitively, the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NN algorithm assigns to each new query instance the majority class among it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nearest neighb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2" name="Object 2"/>
              <p:cNvSpPr txBox="1"/>
              <p:nvPr/>
            </p:nvSpPr>
            <p:spPr>
              <a:xfrm>
                <a:off x="2192400" y="3498840"/>
                <a:ext cx="40813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v</m:t>
                        </m:r>
                        <m:r>
                          <m:t xml:space="preserve">∈</m:t>
                        </m:r>
                        <m:r>
                          <m:t xml:space="preserve">V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Illu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4" name="Object 2"/>
          <p:cNvGraphicFramePr/>
          <p:nvPr/>
        </p:nvGraphicFramePr>
        <p:xfrm>
          <a:off x="1031760" y="1703520"/>
          <a:ext cx="59277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1760" y="1703520"/>
                    <a:ext cx="5927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6" name="Text Box 5"/>
          <p:cNvSpPr/>
          <p:nvPr/>
        </p:nvSpPr>
        <p:spPr>
          <a:xfrm>
            <a:off x="3828240" y="5707080"/>
            <a:ext cx="471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q is + under 1-NN, but – under 5-NN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tance-weighted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N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5644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la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by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9" name="Object 2"/>
              <p:cNvSpPr txBox="1"/>
              <p:nvPr/>
            </p:nvSpPr>
            <p:spPr>
              <a:xfrm>
                <a:off x="2187720" y="1868400"/>
                <a:ext cx="35812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v</m:t>
                        </m:r>
                        <m:r>
                          <m:t xml:space="preserve">∈</m:t>
                        </m:r>
                        <m:r>
                          <m:t xml:space="preserve">V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Object 3"/>
              <p:cNvSpPr txBox="1"/>
              <p:nvPr/>
            </p:nvSpPr>
            <p:spPr>
              <a:xfrm>
                <a:off x="1658880" y="3040200"/>
                <a:ext cx="561024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vÎV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d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q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ale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t features may have different measurement sc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patient weight in kg (range [50,200]) vs. blood protein values in ng/dL (range [-3,3]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equ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ient weight will have a much greater influence on the distance between samp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 bias the performance of the classif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22:06:30Z</dcterms:created>
  <dc:creator>MAUCLAIR</dc:creator>
  <dc:description/>
  <dc:language>en-US</dc:language>
  <cp:lastModifiedBy>Christophe Giraud-Carrier</cp:lastModifiedBy>
  <dcterms:modified xsi:type="dcterms:W3CDTF">2013-09-12T18:44:24Z</dcterms:modified>
  <cp:revision>173</cp:revision>
  <dc:subject/>
  <dc:title>CS 478 - Machine Learning</dc:title>
</cp:coreProperties>
</file>