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Fall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CS478 - Machin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8EDA-96CF-4A72-8F8F-4559809AE349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all 2004</a:t>
            </a:r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S478 - Machine Learning</a:t>
            </a:r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9D21-948F-4619-B569-1082564A32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3566-D81D-412C-915A-6A632917A6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kowsky = l-n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365A-EB96-40CD-B0E2-F88B024B87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3F92-27CB-48ED-BB92-957FB38349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 a single example here.  Shape (Round, Square) 6/10 and 3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BEA5-290F-406D-B206-0630F7EC65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49D7E-0A09-4F84-8A10-191DC0EE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8A2ED-52C8-4B9E-97CB-CE7DE47B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D2A24-38E9-4386-8D27-F3F7ED57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240F6-0EE0-4FBC-B496-79106282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86582-528B-4073-8ECF-759570D8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60076-C327-44DE-AB65-CE83B00A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2BFF8-A8A4-4737-9D42-AB05A9AD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557B6-DFED-4FA3-BA78-0CBC8270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77CDF-483B-4EF3-862B-478C93CF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FD54B-289E-49DE-ADF8-AB78997C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C2EAC-9308-4E81-AD5C-23519272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01728-93BB-4DC0-B1CA-EBE9D1A0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F92B2-15FB-4AFD-AC41-342F91FC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33C5E-46E0-41DF-8923-F4EEAF90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DB105-2A68-40C4-99E5-F0414D55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C1BF9-D7F7-4421-B9F6-43BD40C7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00570-5F9E-40C9-A297-0DEE9CEA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92BB6-BA1F-4655-98F0-6AE1C96F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6EFCC-D30B-4103-B7BE-A7753513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0C1A9-6AB7-4651-88EB-FAA765C7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122AB-2D06-442A-85B6-CA1C8C71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1D5F3-FE88-46FD-9674-D48FA20F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4FED7-2393-4B12-B572-C3A6535B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29D05-AE28-4722-B3B1-A99E0AAF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4371E-CE90-4003-A490-B2F6BC38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4C91A-5F70-40A3-B2D3-39F7F8F2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0FA5D-BDBA-483C-A1DD-E114B1B5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F79D2-044D-42E7-B29E-3D99F142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D1A8A-E293-46A8-8AF5-6BB1D052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38410-05E5-4C87-96F1-C967A4D1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C384F-2410-4D53-99DF-D3AE997F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7D6BB-3751-4421-8621-DF12DC14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CD0FF-E01A-46C5-B67A-0759D568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47ABC-E396-4EEB-88CA-916CAD7A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D20C8-10F0-4786-817F-9C4C615A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45AEE-279D-4BE9-8D36-BEDDC923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ED0DC-24F9-45FA-937F-BB7135EC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CA316-BB05-4F3F-8E9B-BC9F7664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65106-0616-400B-8B0F-7EDB31AA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2F8B4-3F20-4D70-84AA-46D05FAF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0A90E-B596-4FFB-8EAE-54317DCA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D994D-D5EE-4DA4-83EE-7B103728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AC2DA-CD8C-4209-8795-33F9D07F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2BF27-5530-4B08-B9BD-FE0C2D76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C1530-9A11-4E8C-9F85-E428A2A7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E53AF-DF3C-40D5-887F-ACEF2D8A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3928B-2122-4D59-9FEF-852344AF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089D9-9043-4397-B4C1-E207FE57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9011E-2E85-4DF0-9B0F-A61B8568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A946E-106C-45C8-A4FE-C1F5BD99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97947-D8C2-41AB-AAF8-E792382A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51141-63CC-4A03-893D-C125E79C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8246A-C8D9-4F13-AF81-5C486315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7D57B-EB5D-42E1-B1D8-5BA8D172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FC111-6F00-4827-944B-352187E6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96452-86CA-4EE6-8531-C13038BA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FC34E-C2D0-4607-A3C7-CFEA36BD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99E18-FBAE-46BE-AB6A-7DB758DA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363B7-2B96-4C3F-BD9D-AC9E26E6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BC1AE-19E9-410C-B838-31BC604E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06BAE-F8DF-42F5-8F33-3A1C3ADB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BAC2B-9519-4338-8D0C-55FC2356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6BFB9-4C4D-400B-848D-DFA4EF2E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1F466-6EF4-46F8-85CD-EBA8B791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FFA95-F5C6-447D-AA51-54AF08A1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46773-CE73-451C-8263-353EAD4C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18D28-BFE5-41E1-A843-CDC1F3EA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366B3-DBA7-45E0-BF73-3E2FBC1A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71193-D2D9-4EBB-A6DE-43CB9D07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F9DA5-C354-42C4-90C8-DFADC598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FFEFD-00BC-49BA-A823-4B2E1898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B4506-1391-464D-9A49-136329FB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437-622D-4010-8CB9-BA00351A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E07-1EC1-4E09-B7FD-18BACCE4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933-28AC-494C-AAA6-8D6A2B16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079-D91B-4F1E-A5F2-195CC29A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4AD-0E8A-48F2-9D21-0BF487E8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7D3D-E0DB-4F1E-8E6A-E80E108D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DD5-97C0-453C-840A-9DFB507E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2F97-6F60-4005-971A-DC3FEBC1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3E3-7DFB-418D-87C0-765796EB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6859-BD32-4DA4-82EB-C505480B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2C0-377E-4373-B5F5-01997925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4A34-1F81-4451-859C-C6CD733E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87DC-85DD-452E-B9AD-B6C2C360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E4F2-0863-498D-9C57-57393F40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1CA3-F918-41AB-AD71-5634CAFE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23CD-58A1-4DF8-9A49-66454E07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C0CA-78E2-4EA5-BAA3-CDFAD105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544A-C490-46CD-9238-4FC05602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8C4C-260F-4760-8395-89352061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44D6-FED8-4AC2-87ED-DBBB8EEF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8E67-6032-4729-91CD-FF8BBD2C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D300-F3B8-49C3-9869-CA6046FB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26F1-9CB5-4027-B427-F365E23E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D10B-C95D-485F-A290-1CE29DD8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A558E-21A9-417E-953C-0FC405F4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8DD50-F69A-40A3-9588-1412E3D8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F119A-A839-434F-B73E-4A0CE433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3047D-1067-44EE-8FE7-A45FB4F4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F7280-20A4-4DDB-8D42-5F70D7C3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6D4B8-285F-4F25-B4D1-B40C12A2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75027-BA16-476E-AF68-34C60BCF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3FD58-34B1-4312-96F5-20374056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CA314-442A-4493-8AD0-FA9267A5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70008-6951-4F36-A04F-3AACB3E3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2DBF6-C064-46FF-9F36-83031C66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29ED0-DE1E-4906-B1C3-F68B4905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89822-9210-4FB1-93BD-D8E37C7C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21A01-0A7D-42FF-ADF8-8DB05FDA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FB1AC-7B62-4F99-B138-817E1DF1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5334C-FDA7-4BD8-A5B9-46C04A29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D966B-F09A-4C3C-BAA0-5CAAB59F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206B8-5EFD-4D11-AE20-F9FCFF65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3C967-1C89-4C62-A191-87AF24EF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93A3D-7801-4967-B008-FE31434B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CAE6E-B908-431A-89A8-297BD1AC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107AE-611E-4D00-9C23-4F9062B4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10036-0E6C-4D44-9923-886C5487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59622-BD96-43C9-8F06-CD9F7CA1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1" descr="DML LOGO"/>
          <p:cNvPicPr/>
          <p:nvPr/>
        </p:nvPicPr>
        <p:blipFill>
          <a:blip r:embed="rId2"/>
          <a:srcRect l="16667" t="33333" r="16667" b="34446"/>
          <a:stretch/>
        </p:blipFill>
        <p:spPr>
          <a:xfrm>
            <a:off x="4419720" y="4572000"/>
            <a:ext cx="4572000" cy="220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DML LOGO"/>
          <p:cNvPicPr/>
          <p:nvPr/>
        </p:nvPicPr>
        <p:blipFill>
          <a:blip r:embed="rId2"/>
          <a:srcRect l="16667" t="33333" r="16667" b="35558"/>
          <a:stretch/>
        </p:blipFill>
        <p:spPr>
          <a:xfrm>
            <a:off x="3809880" y="6070680"/>
            <a:ext cx="152424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S 478 - Machin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B474-C21D-4F39-AD07-A26DE57D005E}" type="slidenum"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S 478 - Machin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5CA2-BD08-425A-A8E6-1CF806F7AD7B}" type="slidenum"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S 478 - Machin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0BE9-D81D-44DA-B74A-AFE8816DD915}" type="slidenum"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S 478 - Machin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7570-89D3-4CFA-B38C-CBC736BC2EC1}" type="slidenum"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S 478 - Machin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C6BB-B96E-4CAD-A109-3A6B62C4B4E7}" type="slidenum"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S 478 - Machin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510A-4EF0-456A-81A7-8D4CBC474685}" type="slidenum"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DML LOGO"/>
          <p:cNvPicPr/>
          <p:nvPr/>
        </p:nvPicPr>
        <p:blipFill>
          <a:blip r:embed="rId2"/>
          <a:srcRect l="16667" t="33333" r="15554" b="34446"/>
          <a:stretch/>
        </p:blipFill>
        <p:spPr>
          <a:xfrm>
            <a:off x="1219320" y="3352680"/>
            <a:ext cx="6892920" cy="32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DML LOGO"/>
          <p:cNvPicPr/>
          <p:nvPr/>
        </p:nvPicPr>
        <p:blipFill>
          <a:blip r:embed="rId2"/>
          <a:srcRect l="17779" t="33333" r="16667" b="35558"/>
          <a:stretch/>
        </p:blipFill>
        <p:spPr>
          <a:xfrm>
            <a:off x="7620120" y="6172200"/>
            <a:ext cx="1295280" cy="614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DML LOGO"/>
          <p:cNvPicPr/>
          <p:nvPr/>
        </p:nvPicPr>
        <p:blipFill>
          <a:blip r:embed="rId2"/>
          <a:srcRect l="16667" t="33333" r="16667" b="35741"/>
          <a:stretch/>
        </p:blipFill>
        <p:spPr>
          <a:xfrm>
            <a:off x="2286000" y="533520"/>
            <a:ext cx="4572000" cy="21207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S 478 - Machin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AD66-68D6-4599-893D-665AE3091F0A}" type="slidenum"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S 478 - Machin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DE13-F0AA-4C7A-B8B4-F7C2A18ED308}" type="slidenum"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S 478 - Machin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724E-FC50-4208-B5D8-3E58D19CBF64}" type="slidenum"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" descr="DML LOGO"/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S 478 - Machin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0357-2611-47F9-A970-81001C34EB5F}" type="slidenum"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DML LOGO"/>
          <p:cNvPicPr/>
          <p:nvPr/>
        </p:nvPicPr>
        <p:blipFill>
          <a:blip r:embed="rId2"/>
          <a:srcRect l="15558" t="32224" r="16667" b="34446"/>
          <a:stretch/>
        </p:blipFill>
        <p:spPr>
          <a:xfrm>
            <a:off x="7620120" y="6107040"/>
            <a:ext cx="137160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1" descr="DML LOGO"/>
          <p:cNvPicPr/>
          <p:nvPr/>
        </p:nvPicPr>
        <p:blipFill>
          <a:blip r:embed="rId2"/>
          <a:srcRect l="16667" t="33333" r="16667" b="34446"/>
          <a:stretch/>
        </p:blipFill>
        <p:spPr>
          <a:xfrm>
            <a:off x="228600" y="6041880"/>
            <a:ext cx="1371600" cy="66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 478 - Machine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stance Based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(Adapted from various sour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ndard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orm raw feature values into z-sc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value for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ample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e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average of all     for featu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standard deviation of all     over all input s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ge and scale of z-scores should be simila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oviding distributions of raw feature values are alik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Object 2"/>
              <p:cNvSpPr txBox="1"/>
              <p:nvPr/>
            </p:nvSpPr>
            <p:spPr>
              <a:xfrm>
                <a:off x="3149640" y="2233440"/>
                <a:ext cx="167004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3"/>
              <p:cNvSpPr txBox="1"/>
              <p:nvPr/>
            </p:nvSpPr>
            <p:spPr>
              <a:xfrm>
                <a:off x="3149640" y="2246400"/>
                <a:ext cx="16700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4"/>
              <p:cNvSpPr txBox="1"/>
              <p:nvPr/>
            </p:nvSpPr>
            <p:spPr>
              <a:xfrm>
                <a:off x="1217520" y="3287880"/>
                <a:ext cx="376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5"/>
              <p:cNvSpPr txBox="1"/>
              <p:nvPr/>
            </p:nvSpPr>
            <p:spPr>
              <a:xfrm>
                <a:off x="1230480" y="3795840"/>
                <a:ext cx="349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Object 6"/>
              <p:cNvSpPr txBox="1"/>
              <p:nvPr/>
            </p:nvSpPr>
            <p:spPr>
              <a:xfrm>
                <a:off x="4494240" y="3808440"/>
                <a:ext cx="376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7"/>
              <p:cNvSpPr txBox="1"/>
              <p:nvPr/>
            </p:nvSpPr>
            <p:spPr>
              <a:xfrm>
                <a:off x="1255680" y="4316400"/>
                <a:ext cx="376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8"/>
              <p:cNvSpPr txBox="1"/>
              <p:nvPr/>
            </p:nvSpPr>
            <p:spPr>
              <a:xfrm>
                <a:off x="6068880" y="4329000"/>
                <a:ext cx="376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ance Met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Picture 3" descr="Snapshot 2005-11-03 15-11-07"/>
          <p:cNvPicPr/>
          <p:nvPr/>
        </p:nvPicPr>
        <p:blipFill>
          <a:blip r:embed="rId1"/>
          <a:stretch/>
        </p:blipFill>
        <p:spPr>
          <a:xfrm>
            <a:off x="1528920" y="1184400"/>
            <a:ext cx="552924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with Distance Met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distance measures were designed for linear/real-valued attrib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important questions in the context of machine learn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best to handle nominal attrib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to do when attribute types are mix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ance for Nominal Attribu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Picture 2" descr="Snapshot 2005-11-04 09-14-44"/>
          <p:cNvPicPr/>
          <p:nvPr/>
        </p:nvPicPr>
        <p:blipFill>
          <a:blip r:embed="rId1"/>
          <a:stretch/>
        </p:blipFill>
        <p:spPr>
          <a:xfrm>
            <a:off x="1398600" y="1190520"/>
            <a:ext cx="55134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ance for Heterogeneous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3" descr="Snapshot 2005-11-03 15-46-36"/>
          <p:cNvPicPr/>
          <p:nvPr/>
        </p:nvPicPr>
        <p:blipFill>
          <a:blip r:embed="rId1"/>
          <a:stretch/>
        </p:blipFill>
        <p:spPr>
          <a:xfrm>
            <a:off x="449280" y="1616040"/>
            <a:ext cx="8107200" cy="3206880"/>
          </a:xfrm>
          <a:prstGeom prst="rect">
            <a:avLst/>
          </a:prstGeom>
          <a:ln w="0">
            <a:noFill/>
          </a:ln>
        </p:spPr>
      </p:pic>
      <p:sp>
        <p:nvSpPr>
          <p:cNvPr id="700" name="TextBox 3"/>
          <p:cNvSpPr/>
          <p:nvPr/>
        </p:nvSpPr>
        <p:spPr>
          <a:xfrm>
            <a:off x="2662200" y="5530680"/>
            <a:ext cx="606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lson, D. R. and Martinez, T. R., Improved Heterogeneous Distance Functions, Journal of Artificial Intelligence Research, vol.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 no. 1, pp. 1-34, 1997</a:t>
            </a:r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Rem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NN works well on many practical problems and is fairly noise tolerant (depending on the value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NN is subject to the curse of dimensionality (i.e., presence of many irrelevant attribut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NN needs adequate distance mea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NN relies on efficient index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684360"/>
            <a:ext cx="82296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s kNN Increment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raining instances are sto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 consists of the set of training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ng a new training instance only affects the computation of neighbors, which is done at execution time (i.e., lazi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storing of training instances is a violation of the strict definition of incremental learn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dicting Continuous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5644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marL="44280" indent="-44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b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2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2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2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2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2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2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280" indent="-44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unweighted corresponds 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1 for al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Object 2"/>
              <p:cNvSpPr txBox="1"/>
              <p:nvPr/>
            </p:nvSpPr>
            <p:spPr>
              <a:xfrm>
                <a:off x="2879640" y="2952720"/>
                <a:ext cx="280980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Object 3"/>
              <p:cNvSpPr txBox="1"/>
              <p:nvPr/>
            </p:nvSpPr>
            <p:spPr>
              <a:xfrm>
                <a:off x="2144880" y="1862280"/>
                <a:ext cx="40366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-based Reaso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tension of I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s represented by rich symbolic descriptions, rather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retrieved cases are combined using knowledge-based reasoning rather than statistical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ong interaction among case retrieval, knowledge-base reasoning and problem solving (e.g., adapting cases for match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stance-based learning is often termed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laz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earning, as there is typically no “transformation” of training instances into more general “statement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stead, the presented training data is simply stored and, when a new query instance is encountered, a set of similar, related instances is retrieved from memory and used to classify the new query inst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nce, instance-based learners never form an explicit general hypothesis regarding the target function. They simply compute the classification of each new query instance as nee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NN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mplest, most used instance-based learning algorithm is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NN algorit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NN assumes that all instances are points in som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dimensional space and defines neighbors in terms of distance (usually Euclidean in R-spa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number of neighbors consid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phic Dep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6" name="Picture 3" descr="Knn_voronoi.png"/>
          <p:cNvPicPr/>
          <p:nvPr/>
        </p:nvPicPr>
        <p:blipFill>
          <a:blip r:embed="rId1"/>
          <a:stretch/>
        </p:blipFill>
        <p:spPr>
          <a:xfrm>
            <a:off x="525600" y="1112760"/>
            <a:ext cx="5727600" cy="5587920"/>
          </a:xfrm>
          <a:prstGeom prst="rect">
            <a:avLst/>
          </a:prstGeom>
          <a:ln w="0">
            <a:noFill/>
          </a:ln>
        </p:spPr>
      </p:pic>
      <p:sp>
        <p:nvSpPr>
          <p:cNvPr id="667" name="TextBox 4"/>
          <p:cNvSpPr/>
          <p:nvPr/>
        </p:nvSpPr>
        <p:spPr>
          <a:xfrm>
            <a:off x="6172200" y="1941480"/>
            <a:ext cx="26398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Properties: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All possible points within a sample's Voronoi cell are the nearest neighboring points for that sample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For any sample, the nearest sample is determined by the closest Voronoi cell edge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Id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second property,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NN classification rule is to assign to a test sample the majority category label of it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earest training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usually chosen to be odd, so as to avoid 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1 rule is generally called the nearest-neighbor classification r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NN Algorit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42920"/>
            <a:ext cx="8177040" cy="19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ach training instanc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71520" indent="-142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 to the se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r_inst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a query instanc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be classif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71520" indent="-142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…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raining instances i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r_instan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earest t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71520" indent="-142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finite set of target class values, and δ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=1 i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0 otherwise (Kronecker func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uitively,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NN algorithm assigns to each new query instance the majority class among it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earest neighb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2"/>
              <p:cNvSpPr txBox="1"/>
              <p:nvPr/>
            </p:nvSpPr>
            <p:spPr>
              <a:xfrm>
                <a:off x="2192400" y="3498840"/>
                <a:ext cx="40813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Illu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4" name="Object 2"/>
          <p:cNvGraphicFramePr/>
          <p:nvPr/>
        </p:nvGraphicFramePr>
        <p:xfrm>
          <a:off x="1031760" y="1703520"/>
          <a:ext cx="5927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1703520"/>
                    <a:ext cx="5927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Text Box 5"/>
          <p:cNvSpPr/>
          <p:nvPr/>
        </p:nvSpPr>
        <p:spPr>
          <a:xfrm>
            <a:off x="3828240" y="5707080"/>
            <a:ext cx="47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q is + under 1-NN, but – under 5-NN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ance-weighted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N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5644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b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Object 2"/>
              <p:cNvSpPr txBox="1"/>
              <p:nvPr/>
            </p:nvSpPr>
            <p:spPr>
              <a:xfrm>
                <a:off x="2187720" y="1868400"/>
                <a:ext cx="3581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3"/>
              <p:cNvSpPr txBox="1"/>
              <p:nvPr/>
            </p:nvSpPr>
            <p:spPr>
              <a:xfrm>
                <a:off x="1658880" y="3040200"/>
                <a:ext cx="561024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vÎV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q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features may have different measurement sc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patient weight in kg (range [50,200]) vs. blood protein values in ng/dL (range [-3,3]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 weight will have a much greater influence on the distance between s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bias the performance of the classif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22:06:30Z</dcterms:created>
  <dc:creator>MAUCLAIR</dc:creator>
  <dc:description/>
  <dc:language>en-US</dc:language>
  <cp:lastModifiedBy>Christophe Giraud-Carrier</cp:lastModifiedBy>
  <dcterms:modified xsi:type="dcterms:W3CDTF">2013-09-12T18:44:24Z</dcterms:modified>
  <cp:revision>173</cp:revision>
  <dc:subject/>
  <dc:title>CS 478 - Machine Learning</dc:title>
</cp:coreProperties>
</file>