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D772-2456-456C-A67D-889BE872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685F-6A67-408B-BA8E-99D8ADAD313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DDC-A229-4ADA-A01D-952D3AA3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F00-B195-4BF8-85EE-BBFF4AB8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1CCB-8270-4D27-91FE-59F9A23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184E-D39A-4CB4-A1EC-8A4C5B8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C427-6B12-4AC5-8105-776773A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9B2DE-421D-43E0-B43E-9D8F94A4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5268-D616-4ADF-90DF-8E4CFAF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1808-1A46-4712-A323-D193AE7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8636C-AC9A-41F3-8B41-F819EDF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70AC-47A4-477C-BDBE-F465B811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DCCC-D14A-4A1C-A7BE-B588901B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BD8E1-325B-41DA-8DA6-9F744EB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169-A386-4C0F-B32C-9F5F17D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18B2F-1AF4-44D1-B5E5-1BE60F4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8304C-2069-4C2C-B12D-3E79DA85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FC4BF-CE31-4348-A014-F57AC5C2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655F6-A979-4C4C-8C5E-4709C1E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6ABA4-E8C4-47C4-AD27-28110D7F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4CE30-FF57-4C60-82F0-422B531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39DE1-DAF9-4D53-A3D3-3BB5C72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7FE4-110C-410A-9907-F6E6337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A6090-D124-4358-BC3E-8667EBB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D688D-68BE-485A-9867-8839B2D9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8EC-4CF0-4742-BD66-2D1C0100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2D95B-4887-40B6-94A0-C1EC8165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AFDDC-8A1A-4E95-B28E-40DB3EBE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9B0C0-1CA2-40E5-A70C-EA3D736F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E263D-6799-4DE5-A4D9-201BF12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60CEA-B46B-4043-9FCE-75EF07C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48C81-25B3-4DEF-B963-16099BD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FA211-A889-4DFF-ACC1-377F64B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612D5-7D62-4992-B186-688E4B5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6AF06-A83C-4C78-9140-F6B8DC9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79D0-3887-4E86-9CD5-D62B1A85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95D-4A28-4D50-852C-87525B11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E1649-53A4-46E2-A4FE-2B12E47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2A93-5E0C-4D7C-897E-3270F285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B0B94-288C-4E81-9FC7-136FE518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1D3D2-48B2-4183-A83D-B962FA25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B0EFB-49FD-463F-852C-7962E92A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0A6B-6510-4E24-AE4B-D01C3A04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6B863-6C1B-41D8-9FD8-5D80CE0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6E08-230A-47EF-B2E2-AF824262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AA2D9-8A0E-4C43-8257-6E91BFC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B55E8-C303-48CB-AD7B-3CC8457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ADD2-F25D-4F4C-8BFA-1CE39EFD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4870-6B36-49CA-A270-69992F21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853FF-66D4-477E-8D1F-9F2EF15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3D42-9DFF-449D-B525-00FD195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1DF2-E1CF-4105-9BC8-579329C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AC84B-8A99-4652-94E5-C7C62A27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CF54A-E7A1-48AD-8EA3-CB0EDA8A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3A6F4-4E08-48B0-A0B7-8BDC85B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D8DAC-26BD-4A5B-BA47-723E403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16CF9-8929-43FB-834D-B95F813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C7B95-85C2-419F-A6FA-A739A3A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655D-EDE0-4124-8AB8-567306D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51BC7-7A27-4149-BB0B-6D057F4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FE9A6-2670-4180-BF21-3587874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875BF-5B47-4A51-BBD3-5BE8962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BEB13-ED3F-45A6-A0FF-FD17B8B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0E01C-6B10-4E19-946F-FEDB4D02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A3F9A-C6C4-4D32-BFF5-C0E88D26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104E8-D22D-474F-8D4E-1B48DB80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74543-8CBB-4951-A4FB-ABAD51DC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E09CD-0876-4FDB-8FDB-F7EFBAB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29AFA-6AE7-485F-9CBC-1251F18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098-D85D-44F6-B88E-A217A27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7D1D6-9E0C-4E40-BCDD-6AE692C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2183D-F95B-43DC-A060-1B3BEFB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B81DA-1ACE-4D77-8741-92290F0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3F02A-8320-4F8B-AEAA-541F766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71F07-F655-4E2C-B547-EEE3535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2AEE-6610-4D43-BC9E-AA8E12C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4BEB3-0C80-44CD-85AA-7D23068A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8E5C2-E63C-47BF-A4B1-983CAE84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46328-9F19-4192-9ABF-7D2C32AE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C57D9-FFBC-451C-A77D-84AE971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23AE-D522-4BC4-8E5B-15B628D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16FC4-0C52-4273-8D7B-20EB851D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54B4C-F9A2-4FF2-9ED2-79444A4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4190D-C9EB-4501-B1AB-91AB476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69F19-9022-496C-90A9-25B4141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3108D-99B5-4A9A-B601-101249D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0B317-041B-45BA-9B44-90DE3CE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8C512-CF88-4261-A970-38DECD6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5604D-2050-488E-8983-120152D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2D49B-8A45-4DCC-A755-90F73027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463C4-6275-45F9-9838-DB9B361E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D81F-CD7B-47EE-BBEF-7805FDED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25E75-FEAF-4344-BBB4-8F17FD8C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894BE-4C0E-43A6-BE16-F842C82E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03AB7-08E4-4AAF-8172-8DD22559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90183-B8AD-4A33-8D72-0267CCF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DC745-FDFB-499A-89F5-BFB0DE9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0CC92-383E-4D7B-94BD-EE0578C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276FD-995E-4EDB-91AE-622A6E6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7177E-6D93-46EB-8AD6-72031F7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54C13-B1B9-4E25-9FEB-643DBEA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28DCD-1A0F-4672-AC45-1C4F77A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A94-C96E-4D82-B20B-8622C3F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DAF7D-BD7E-4AAE-9199-0072F418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202B9-7572-41E0-A9BB-F0384F1B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174E6-64E8-4D97-8A8C-091FC92D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36C-0053-4121-82D8-7903A46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2C9-F498-4E3C-ADD1-3C181CF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280F-8910-44B9-9F5E-C915EAF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04B5-5AD5-402B-82E2-72C4146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3098-070D-4F34-90D6-7D753D58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4413-4A18-498F-AA6F-B27DA8F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9D3C-824C-45E6-A5C4-78F0B8D2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95DE-A0F0-4782-B9AC-FD1CCEA4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BC49-DAB8-4914-8D6D-D3CDBFA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A69B-B6C3-48F8-B41D-ED0DDEB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B062-8DF5-4309-AE3E-A78562DC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A80-1160-4256-8192-2CC49C8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A2B0-ACC5-4886-8AFE-E4830678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51CE-9684-4020-A918-DC6E713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4F54-84CA-469F-B3AF-F39A0EB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37C7-15F2-45F1-96AF-690FC2E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D455-A305-42D1-AB79-118ABC0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1A4C-0F00-4E76-A20F-AD16559E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4B7D-3578-4AB2-9D09-8AE5EE72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B5C-672D-4578-81DC-DE587F39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DA4D-451E-4C8B-9011-ED07FBEC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935-EA05-4305-9E18-D680E7F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00EC-7304-4961-B741-1A0B7D7A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711A-8AC5-4E2E-B6ED-41C2BFC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1731-E5F5-4DC5-87B5-040ED1B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9DF8-488C-425A-B7EB-9EA83B4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18B3-338A-46CB-8E49-6526298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F4DE-94F6-47D8-B997-3223E8B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DDD2-9C55-40EF-A9A8-EF0793B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8CC0-3D7C-447C-9E20-296F61F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64BE-C80A-4F70-B90F-ACDDBFBB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4844-60AF-4C29-8EDE-8C79554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5F7-04AB-4B68-B982-062B6C3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786E-88A6-45B8-BC2C-935583AA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A3AB-DEB4-4B7B-9B5F-FC9D87EF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0003-4FAF-4AF5-80DC-6B3FEFCB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696B-40CC-487F-A2CA-8AFD9C7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456A-8786-44E7-B2AD-B2274A4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F611-B7AB-40FF-8B49-81C587B5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0510-2B9C-4119-9135-CCAA669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302E-3597-489B-8FF6-CF3FA6F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F909-2EBB-4292-8C33-0CB27EB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CB5E0-A65C-4D6A-AEE1-C643527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005-9EE8-43F2-AE7C-1AE194A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0982-58AC-4141-B0CE-FBF0808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4963-0043-4D2D-97B6-49F51659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CDD0-8581-480A-ACA9-73961FB0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25CF-CD52-45A0-BF85-DD837E42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6D49-1E32-470C-A780-CF24245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03D4B-6563-4852-AFDE-A0D29BE2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E5CD-F467-46A6-8759-3ADEE73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81B9-E7D5-48B4-89D7-4F7D34D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F46D-1EB7-412C-972B-9F35526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11A2-5216-4F1A-9B41-7E5DAA1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89E-6A6B-4BCB-8E2E-1C221A0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D8FA-8E17-43A3-A7EE-0A1AB1A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F1C8-7328-407A-A645-CCAFEB7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688F-DCE3-4DD2-B608-B81B709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7AF2-BCB2-4864-B389-D1FF5D5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6990-C1CB-4871-830B-118E4044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DBE6-C93E-4BBB-8992-F3940593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39DC-9BAA-4B93-8453-3E735D2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EE40-E70D-49A5-8773-954A55FB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BA11-1913-4CDA-AB49-09AEE1E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AAB5-F01E-46A1-A0FE-FD015CE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1CE-13B8-467D-8049-0E26812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FA79D-9E8C-4456-A677-407B66CB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CC66-C635-43A1-96B9-F41F537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27BD-C557-41A9-BD38-F1236F7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5610-06A5-495F-B58F-3A49036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DA29B-0AC7-4B0F-800F-ECD86F5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36FF7-BCE7-4EF2-9428-A001D148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0A1C-1A4D-4D35-B0E7-DEFCADEC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11AC-3C2D-4D32-9A95-6AF1E45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BBC77-7643-4287-90EE-23E373FE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8372-B143-4CD5-9753-68135234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EB1-82A6-4EA3-B423-2709FB9F588D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A1F3-0CC4-4C6B-B891-1AD341A0B306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D83C-C1EF-4315-A37D-0C411FA34C6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DCE-1A7D-4237-956E-450555C1D02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820B-6688-435F-A632-7A60D7ABFC2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D54-4328-405A-9FDA-AD56BC8DF5A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F6F-6AF5-4094-A968-A63D35631D3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B471-7B93-4FA8-A2FE-1352CB9518B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5AE-E82E-4CA5-9C31-673733CF9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EC6-8313-4F4C-BEE4-F14ECC99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5D1-D4B3-42B5-B4C2-D8FACC6D524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2EF5-C041-4F4A-A19D-20DF37EB3B2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EE2-B6F9-4FF5-990E-3E2BB71367A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9769-6CAA-49EC-9B66-FBC3CC198B90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048-0E7B-4D22-A653-DBFE9C0F7EE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3377160" y="1219320"/>
            <a:ext cx="23068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MODEL INFORM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2" name="TextBox 4"/>
          <p:cNvSpPr/>
          <p:nvPr/>
        </p:nvSpPr>
        <p:spPr>
          <a:xfrm>
            <a:off x="2825640" y="1981080"/>
            <a:ext cx="119556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4884120" y="1981080"/>
            <a:ext cx="14014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INCOMPLET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3200400" y="2895480"/>
            <a:ext cx="12952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Supervised Learn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5715000" y="2895480"/>
            <a:ext cx="15238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Unsupervised Learn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3200400" y="4191120"/>
            <a:ext cx="16002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Non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1523880" y="4191120"/>
            <a:ext cx="12193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8" name="TextBox 12"/>
          <p:cNvSpPr/>
          <p:nvPr/>
        </p:nvSpPr>
        <p:spPr>
          <a:xfrm>
            <a:off x="7086600" y="4191120"/>
            <a:ext cx="16002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Non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5181480" y="4191120"/>
            <a:ext cx="12193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0" name="TextBox 14"/>
          <p:cNvSpPr/>
          <p:nvPr/>
        </p:nvSpPr>
        <p:spPr>
          <a:xfrm>
            <a:off x="68580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Bayes Decision Theo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1" name="TextBox 15"/>
          <p:cNvSpPr/>
          <p:nvPr/>
        </p:nvSpPr>
        <p:spPr>
          <a:xfrm>
            <a:off x="304920" y="529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Optimal” Rul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2" name="TextBox 16"/>
          <p:cNvSpPr/>
          <p:nvPr/>
        </p:nvSpPr>
        <p:spPr>
          <a:xfrm>
            <a:off x="1447920" y="5297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lug-in Rul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590920" y="529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Density Estim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4" name="TextBox 18"/>
          <p:cNvSpPr/>
          <p:nvPr/>
        </p:nvSpPr>
        <p:spPr>
          <a:xfrm>
            <a:off x="3809880" y="5297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Geometric Rules (K-NN, MLP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5" name="TextBox 19"/>
          <p:cNvSpPr/>
          <p:nvPr/>
        </p:nvSpPr>
        <p:spPr>
          <a:xfrm>
            <a:off x="5715000" y="529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Mixture Resolv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6" name="TextBox 20"/>
          <p:cNvSpPr/>
          <p:nvPr/>
        </p:nvSpPr>
        <p:spPr>
          <a:xfrm>
            <a:off x="7162920" y="5297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Cluster Analysis (Hard, Fuzzy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7" name="Straight Connector 22"/>
          <p:cNvSpPr/>
          <p:nvPr/>
        </p:nvSpPr>
        <p:spPr>
          <a:xfrm flipH="1">
            <a:off x="3423960" y="1589040"/>
            <a:ext cx="11062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8" name="Straight Connector 24"/>
          <p:cNvSpPr/>
          <p:nvPr/>
        </p:nvSpPr>
        <p:spPr>
          <a:xfrm>
            <a:off x="4530600" y="1589040"/>
            <a:ext cx="10540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9" name="Straight Connector 26"/>
          <p:cNvSpPr/>
          <p:nvPr/>
        </p:nvSpPr>
        <p:spPr>
          <a:xfrm flipH="1">
            <a:off x="1486080" y="2351160"/>
            <a:ext cx="19382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0" name="Straight Connector 28"/>
          <p:cNvSpPr/>
          <p:nvPr/>
        </p:nvSpPr>
        <p:spPr>
          <a:xfrm flipH="1">
            <a:off x="3848040" y="2351160"/>
            <a:ext cx="17366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1" name="Straight Connector 30"/>
          <p:cNvSpPr/>
          <p:nvPr/>
        </p:nvSpPr>
        <p:spPr>
          <a:xfrm>
            <a:off x="5583960" y="2351160"/>
            <a:ext cx="8924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2" name="Straight Connector 32"/>
          <p:cNvSpPr/>
          <p:nvPr/>
        </p:nvSpPr>
        <p:spPr>
          <a:xfrm flipH="1">
            <a:off x="2133720" y="3541680"/>
            <a:ext cx="171432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3" name="Straight Connector 34"/>
          <p:cNvSpPr/>
          <p:nvPr/>
        </p:nvSpPr>
        <p:spPr>
          <a:xfrm>
            <a:off x="3848040" y="3541680"/>
            <a:ext cx="15264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4" name="Straight Connector 36"/>
          <p:cNvSpPr/>
          <p:nvPr/>
        </p:nvSpPr>
        <p:spPr>
          <a:xfrm flipH="1">
            <a:off x="5790960" y="3541680"/>
            <a:ext cx="68580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5" name="Straight Connector 38"/>
          <p:cNvSpPr/>
          <p:nvPr/>
        </p:nvSpPr>
        <p:spPr>
          <a:xfrm>
            <a:off x="6477120" y="3541680"/>
            <a:ext cx="140976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6" name="Straight Connector 40"/>
          <p:cNvSpPr/>
          <p:nvPr/>
        </p:nvSpPr>
        <p:spPr>
          <a:xfrm flipH="1">
            <a:off x="875880" y="4836960"/>
            <a:ext cx="125748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7" name="Straight Connector 42"/>
          <p:cNvSpPr/>
          <p:nvPr/>
        </p:nvSpPr>
        <p:spPr>
          <a:xfrm flipH="1">
            <a:off x="1942920" y="4836960"/>
            <a:ext cx="19044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8" name="Straight Connector 44"/>
          <p:cNvSpPr/>
          <p:nvPr/>
        </p:nvSpPr>
        <p:spPr>
          <a:xfrm flipH="1">
            <a:off x="3200040" y="4836960"/>
            <a:ext cx="80028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9" name="Straight Connector 46"/>
          <p:cNvSpPr/>
          <p:nvPr/>
        </p:nvSpPr>
        <p:spPr>
          <a:xfrm>
            <a:off x="3999960" y="4836960"/>
            <a:ext cx="68580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0" name="Straight Connector 50"/>
          <p:cNvSpPr/>
          <p:nvPr/>
        </p:nvSpPr>
        <p:spPr>
          <a:xfrm>
            <a:off x="5791320" y="4836960"/>
            <a:ext cx="49536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1" name="Straight Connector 52"/>
          <p:cNvSpPr/>
          <p:nvPr/>
        </p:nvSpPr>
        <p:spPr>
          <a:xfrm>
            <a:off x="7886160" y="4836960"/>
            <a:ext cx="11412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09C3-E4B0-47E6-9501-528182EE2CEA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timal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t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, …,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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be the gradient operato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e define l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as the log-likelihood fun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= ln P(D |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ew problem statement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termine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at maximizes the log-likelihoo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3352680" y="1295280"/>
                <a:ext cx="37339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5"/>
              <p:cNvSpPr txBox="1"/>
              <p:nvPr/>
            </p:nvSpPr>
            <p:spPr>
              <a:xfrm>
                <a:off x="3657600" y="5105520"/>
                <a:ext cx="3048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Text Box 6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50A-1581-4E72-8D23-6614AAD4F19F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t of necessary conditions for an optimum i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</a:t>
            </a:r>
            <a:r>
              <a:rPr b="0" lang="en-US" sz="3600" spc="-1" strike="noStrike" baseline="-25000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l = 0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4"/>
              <p:cNvSpPr txBox="1"/>
              <p:nvPr/>
            </p:nvSpPr>
            <p:spPr>
              <a:xfrm>
                <a:off x="2895480" y="1981080"/>
                <a:ext cx="50292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CF2-7F2A-4989-B2FA-D203A1D6C6C4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mple of a specific case: unknow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Samples are drawn from a multivariate normal populatio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therefore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ML estimate for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ust satisfy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816200" y="2590920"/>
                <a:ext cx="679428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θμ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3429000" y="5257800"/>
                <a:ext cx="3048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Text Box 6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31AF-60BD-4E27-8536-A868A3CB7533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plying by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rearranging, we obtai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is the arithmetic average or the mean of the samples of the training sample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lusion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ven P(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|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j = 1, 2, …, c to be Gaussian in 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dimensional feature space, estimate the vector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perform a classification using the Bayes decision rule of chapter 2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"/>
              <p:cNvSpPr txBox="1"/>
              <p:nvPr/>
            </p:nvSpPr>
            <p:spPr>
              <a:xfrm>
                <a:off x="3886200" y="1351080"/>
                <a:ext cx="1981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6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E0D-EA33-4602-A39E-7DAA577BE027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 Estimation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variate Gaussian Case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&amp; </a:t>
            </a:r>
            <a:r>
              <a:rPr b="0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= 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3"/>
              <p:cNvSpPr txBox="1"/>
              <p:nvPr/>
            </p:nvSpPr>
            <p:spPr>
              <a:xfrm>
                <a:off x="2362320" y="2895480"/>
                <a:ext cx="563868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σθ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2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B98-4CAA-4D06-BFAE-3C2FED187CBC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mmati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mbining (1) and (2), one obtain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3"/>
              <p:cNvSpPr txBox="1"/>
              <p:nvPr/>
            </p:nvSpPr>
            <p:spPr>
              <a:xfrm>
                <a:off x="1371600" y="4495680"/>
                <a:ext cx="638316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;    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1447920" y="987480"/>
                <a:ext cx="63244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      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9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1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2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84A-CE73-40A6-9DE7-8C77ABE60D3D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ia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 estimate for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bia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unbiased estimator for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0"/>
              <p:cNvSpPr txBox="1"/>
              <p:nvPr/>
            </p:nvSpPr>
            <p:spPr>
              <a:xfrm>
                <a:off x="2362320" y="2743200"/>
                <a:ext cx="43941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1"/>
              <p:cNvSpPr txBox="1"/>
              <p:nvPr/>
            </p:nvSpPr>
            <p:spPr>
              <a:xfrm>
                <a:off x="2209680" y="4724280"/>
                <a:ext cx="4724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rPr>
                            <m:lit/>
                            <m:nor/>
                          </m:rPr>
                          <m:t xml:space="preserve"> covariance matrix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776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600-B67F-40C9-968B-897102861FED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Estim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Bayesian learning approach for pattern classification problem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ML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was supposed to have a fixed val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B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a random vari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omputation of posterior probabilities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) lies at the heart of Bayesian classifi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oal: compute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, </a:t>
            </a:r>
            <a:r>
              <a:rPr b="0" lang="en-US" sz="2800" spc="-1" strike="noStrike">
                <a:solidFill>
                  <a:srgbClr val="ffffcc"/>
                </a:solidFill>
                <a:latin typeface="CAC Champagne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iven the training sample set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Bayes formula can be writt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2"/>
              <p:cNvSpPr txBox="1"/>
              <p:nvPr/>
            </p:nvSpPr>
            <p:spPr>
              <a:xfrm>
                <a:off x="2743200" y="4648320"/>
                <a:ext cx="54864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567-B6B4-4AF5-903A-CFE05B0A253C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10666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the preceding equation, u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2"/>
              <p:cNvSpPr txBox="1"/>
              <p:nvPr/>
            </p:nvSpPr>
            <p:spPr>
              <a:xfrm>
                <a:off x="1576440" y="1752480"/>
                <a:ext cx="7286400" cy="34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aining sample provides this!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Text Box 5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1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C92-1FBA-44FC-8B73-BBFED1B05C26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Parameter Estimation: Gaussian Case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Estimat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using the a-posteriori densit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variate Gaussian case: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nly unknown para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re known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2"/>
              <p:cNvSpPr txBox="1"/>
              <p:nvPr/>
            </p:nvSpPr>
            <p:spPr>
              <a:xfrm>
                <a:off x="3352680" y="4038480"/>
                <a:ext cx="29718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5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-38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-dimensional Feature 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26668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 Narrow"/>
              </a:rPr>
              <a:t>Supervised Learning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0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8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C63-AE33-4D58-84C9-0D5E5DF75A4C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143000" y="2282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ng dens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pdated parameters of the prior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2"/>
              <p:cNvSpPr txBox="1"/>
              <p:nvPr/>
            </p:nvSpPr>
            <p:spPr>
              <a:xfrm>
                <a:off x="2133720" y="277920"/>
                <a:ext cx="617220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μ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3"/>
              <p:cNvSpPr txBox="1"/>
              <p:nvPr/>
            </p:nvSpPr>
            <p:spPr>
              <a:xfrm>
                <a:off x="1987560" y="2971800"/>
                <a:ext cx="6394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4"/>
              <p:cNvSpPr txBox="1"/>
              <p:nvPr/>
            </p:nvSpPr>
            <p:spPr>
              <a:xfrm>
                <a:off x="2328840" y="4495680"/>
                <a:ext cx="5172120" cy="21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n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3" name="Text Box 7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F58-7200-47C3-9149-1A99EF4B7FE6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F970-94DB-4649-95A0-5B23B7CAB79E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53316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variate case P(x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has been compu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remains to be computed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provid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sired class-conditional density P(x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33ccff"/>
                </a:solidFill>
                <a:latin typeface="Oberon LET"/>
              </a:rPr>
              <a:t>D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cc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) together with P(</a:t>
            </a:r>
            <a:r>
              <a:rPr b="0" lang="en-US" sz="2400" spc="-1" strike="noStrike">
                <a:solidFill>
                  <a:srgbClr val="33cc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) and using Bayes formula, we obtain the Bayesian classification rul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2"/>
              <p:cNvSpPr txBox="1"/>
              <p:nvPr/>
            </p:nvSpPr>
            <p:spPr>
              <a:xfrm>
                <a:off x="2057400" y="1828800"/>
                <a:ext cx="6477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μ</m:t>
                    </m:r>
                    <m:r>
                      <m:rPr>
                        <m:lit/>
                        <m:nor/>
                      </m:rPr>
                      <m:t xml:space="preserve">  is Gaussia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87800" y="3048120"/>
                <a:ext cx="35510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5"/>
              <p:cNvSpPr txBox="1"/>
              <p:nvPr/>
            </p:nvSpPr>
            <p:spPr>
              <a:xfrm>
                <a:off x="1981080" y="5334120"/>
                <a:ext cx="64008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≡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7" name="Text Box 9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24D9-1EFD-4095-9D98-774F0C01F5AA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Parameter Estimation: General Theory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computation can be applied to any situation in which the unknown density can be parametrized: the basic assumptions are: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form of 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is assumed known, but the value of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not known exact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ur knowledge about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assumed to be contained in a known prior density P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rest of our knowledge about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contained in a set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of n random variables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hat follows P(x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143-3CEE-4C2F-8E79-56E8E209975E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121932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asic problem i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mpute the posterior density P(</a:t>
            </a:r>
            <a:r>
              <a:rPr b="0" lang="en-US" sz="2800" spc="-1" strike="noStrike">
                <a:solidFill>
                  <a:srgbClr val="fcab4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cab40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then “Derive P(x | </a:t>
            </a:r>
            <a:r>
              <a:rPr b="0" lang="en-US" sz="2800" spc="-1" strike="noStrike">
                <a:solidFill>
                  <a:srgbClr val="fcab40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ing Bayes formula, we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by independence assumptio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"/>
              <p:cNvSpPr txBox="1"/>
              <p:nvPr/>
            </p:nvSpPr>
            <p:spPr>
              <a:xfrm>
                <a:off x="3048120" y="5257800"/>
                <a:ext cx="4419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/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3"/>
              <p:cNvSpPr txBox="1"/>
              <p:nvPr/>
            </p:nvSpPr>
            <p:spPr>
              <a:xfrm>
                <a:off x="2743200" y="3317760"/>
                <a:ext cx="50292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fit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 of Insufficient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train a classifier (e.g., estimate the covariance matrix) when the training set size is small (compared to the number of featu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the dimens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a subset of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bine available features to get a smaller number of  more “salient” fe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yesian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reasonable prior on the parameters to compensate for small amount of training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Simpl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statistical 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u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shold the estimated covariance matrix such that only correlations above a threshold are retain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actical Observ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euristics and model simplifications are almost surely in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however, the performance of the classifiers base don model simplification is better than with full parameter esti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dox: How can a suboptimal/simplified model perform better than the MLE of full parameter set, on test datas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swer involves the problem of insufficien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ufficient Data in Curve Fit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Picture 4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12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ve Fitting Exampl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ample shows that a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egree polynomial fits the training data with zero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the test or the generalization error is much higher for this fitted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size is small, one cannot be sure about how complex the model should b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ll change in the data will change the parameters of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egree polynomial significantly, which is not a desirable quality;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3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ximum-Likelihood &amp; Bayesian Parameter Estimation 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837720" y="2819160"/>
            <a:ext cx="7696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Maximum-Likelihood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Bayesian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Curse of Dimension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Component analysis &amp; Discrimina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ling insufficient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uristics and model simpl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rink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 intermediate approach, which combines “common covariance” with individual covariance mat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vidual covariance matrices shrink towards a common covariance matri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so called regularized discriminan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rinkage Estimator for a covariance matrix, given shrinkage factor 0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1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rther, the common covariance can be shrunk towards the Identity matri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4"/>
              <p:cNvSpPr txBox="1"/>
              <p:nvPr/>
            </p:nvSpPr>
            <p:spPr>
              <a:xfrm>
                <a:off x="2590920" y="4114800"/>
                <a:ext cx="3352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nΣ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5"/>
              <p:cNvSpPr txBox="1"/>
              <p:nvPr/>
            </p:nvSpPr>
            <p:spPr>
              <a:xfrm>
                <a:off x="2819520" y="6019920"/>
                <a:ext cx="2944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β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s of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world applications usually come with a large number of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in documents is represented using frequencies of tens of thousands of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ages are often represented by extracting local features from a large number of regions within an 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ive intuition: more the number of features, the better the classification performance? –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ot alw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wo issues that must be confronted with high dimensional feature sp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es the classification accuracy depend on the dimensionality and the number of training samp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the computational complexity of the classifie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Independent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eatures are statistically independent, it is possible to get excellent performance as dimensionalit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two class problem with multivariate normal classes                , and equal prior probabilities, the probability of error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the Mahalanobis distance is defined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4"/>
              <p:cNvSpPr txBox="1"/>
              <p:nvPr/>
            </p:nvSpPr>
            <p:spPr>
              <a:xfrm>
                <a:off x="2743200" y="3581280"/>
                <a:ext cx="2895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ct 5"/>
              <p:cNvSpPr txBox="1"/>
              <p:nvPr/>
            </p:nvSpPr>
            <p:spPr>
              <a:xfrm>
                <a:off x="3429000" y="2867040"/>
                <a:ext cx="17524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6"/>
              <p:cNvSpPr txBox="1"/>
              <p:nvPr/>
            </p:nvSpPr>
            <p:spPr>
              <a:xfrm>
                <a:off x="2286000" y="5257800"/>
                <a:ext cx="4419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Independent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features are independent, the covariance matrix is diagonal, and we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s monotonically with an increase in the number of features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long as the means of features in the differ, the error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4"/>
              <p:cNvSpPr txBox="1"/>
              <p:nvPr/>
            </p:nvSpPr>
            <p:spPr>
              <a:xfrm>
                <a:off x="2895480" y="2362320"/>
                <a:ext cx="25909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reasing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given set of features does not result in good classification performance, it is natural to add more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dimensionality results in increased cost and complexity for both feature extraction and clas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probabilistic structure of the problem i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mpletely kn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dding new features will not possibly increase the Bay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"/>
          <p:cNvPicPr/>
          <p:nvPr/>
        </p:nvPicPr>
        <p:blipFill>
          <a:blip r:embed="rId1"/>
          <a:stretch/>
        </p:blipFill>
        <p:spPr>
          <a:xfrm>
            <a:off x="241200" y="0"/>
            <a:ext cx="867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se of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increasing dimensionality beyond a certain point in the presence of finite number of training samples often leads to lower performance, rather than bette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reasons for this paradox are as foll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aussian assumption, that is typically made, is almost surely incorr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sample size is always finite, so the estimation of the class conditional density is not very accu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sis of this “curse of dimensionality” problem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A Simpl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k (PAMI, 1979) provided a simple example illustrating this phenomen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2"/>
              <p:cNvSpPr txBox="1"/>
              <p:nvPr/>
            </p:nvSpPr>
            <p:spPr>
              <a:xfrm>
                <a:off x="971640" y="4149720"/>
                <a:ext cx="5021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component  of the mean vec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3"/>
              <p:cNvSpPr txBox="1"/>
              <p:nvPr/>
            </p:nvSpPr>
            <p:spPr>
              <a:xfrm>
                <a:off x="3124080" y="1676520"/>
                <a:ext cx="20005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4"/>
              <p:cNvSpPr txBox="1"/>
              <p:nvPr/>
            </p:nvSpPr>
            <p:spPr>
              <a:xfrm>
                <a:off x="1042920" y="2565360"/>
                <a:ext cx="21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5"/>
              <p:cNvSpPr txBox="1"/>
              <p:nvPr/>
            </p:nvSpPr>
            <p:spPr>
              <a:xfrm>
                <a:off x="1042920" y="3051000"/>
                <a:ext cx="2176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6"/>
              <p:cNvSpPr txBox="1"/>
              <p:nvPr/>
            </p:nvSpPr>
            <p:spPr>
              <a:xfrm>
                <a:off x="5486400" y="1828800"/>
                <a:ext cx="168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μ,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7"/>
              <p:cNvSpPr txBox="1"/>
              <p:nvPr/>
            </p:nvSpPr>
            <p:spPr>
              <a:xfrm>
                <a:off x="5316480" y="2209680"/>
                <a:ext cx="3065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8"/>
              <p:cNvSpPr txBox="1"/>
              <p:nvPr/>
            </p:nvSpPr>
            <p:spPr>
              <a:xfrm>
                <a:off x="5292720" y="3044880"/>
                <a:ext cx="3087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0" name="Text Box 20"/>
          <p:cNvSpPr/>
          <p:nvPr/>
        </p:nvSpPr>
        <p:spPr>
          <a:xfrm>
            <a:off x="826920" y="3645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r>
              <a:rPr b="0" lang="tr-TR" sz="2000" spc="-1" strike="noStrike">
                <a:solidFill>
                  <a:srgbClr val="eaeaea"/>
                </a:solidFill>
                <a:latin typeface="Arial Narrow"/>
              </a:rPr>
              <a:t>: Number of featur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9"/>
              <p:cNvSpPr txBox="1"/>
              <p:nvPr/>
            </p:nvSpPr>
            <p:spPr>
              <a:xfrm>
                <a:off x="900000" y="5300640"/>
                <a:ext cx="26877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10"/>
              <p:cNvSpPr txBox="1"/>
              <p:nvPr/>
            </p:nvSpPr>
            <p:spPr>
              <a:xfrm>
                <a:off x="4140360" y="5300640"/>
                <a:ext cx="3354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1: Mean Values 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Bayes decision ru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"/>
              <p:cNvSpPr txBox="1"/>
              <p:nvPr/>
            </p:nvSpPr>
            <p:spPr>
              <a:xfrm>
                <a:off x="2987640" y="2119320"/>
                <a:ext cx="27986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                 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i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3"/>
              <p:cNvSpPr txBox="1"/>
              <p:nvPr/>
            </p:nvSpPr>
            <p:spPr>
              <a:xfrm>
                <a:off x="900000" y="1727280"/>
                <a:ext cx="488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cid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4"/>
              <p:cNvSpPr txBox="1"/>
              <p:nvPr/>
            </p:nvSpPr>
            <p:spPr>
              <a:xfrm>
                <a:off x="833400" y="2852640"/>
                <a:ext cx="2154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5"/>
              <p:cNvSpPr txBox="1"/>
              <p:nvPr/>
            </p:nvSpPr>
            <p:spPr>
              <a:xfrm>
                <a:off x="4316400" y="2925720"/>
                <a:ext cx="2932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6"/>
              <p:cNvSpPr txBox="1"/>
              <p:nvPr/>
            </p:nvSpPr>
            <p:spPr>
              <a:xfrm>
                <a:off x="684360" y="3860640"/>
                <a:ext cx="36734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i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rad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7"/>
              <p:cNvSpPr txBox="1"/>
              <p:nvPr/>
            </p:nvSpPr>
            <p:spPr>
              <a:xfrm>
                <a:off x="395280" y="5661000"/>
                <a:ext cx="3354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     is  a  divergent  seri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Object 8"/>
              <p:cNvSpPr txBox="1"/>
              <p:nvPr/>
            </p:nvSpPr>
            <p:spPr>
              <a:xfrm>
                <a:off x="4016520" y="5780160"/>
                <a:ext cx="4011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as        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Oval 28"/>
          <p:cNvSpPr/>
          <p:nvPr/>
        </p:nvSpPr>
        <p:spPr>
          <a:xfrm>
            <a:off x="2052720" y="4653000"/>
            <a:ext cx="28728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3" name="AutoShape 29"/>
          <p:cNvSpPr/>
          <p:nvPr/>
        </p:nvSpPr>
        <p:spPr>
          <a:xfrm>
            <a:off x="538200" y="3860640"/>
            <a:ext cx="4105080" cy="151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7C8-112D-4E3F-86F7-D35AF7BD9C65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yesian framewor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 could design an optimal classifier if we knew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: pri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: class-conditional densiti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fortunately, we rarely have this complete information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a classifier based o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t of labeled training samples (supervised learning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sume priors are kn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ed sufficient no. of training samples for estimating class-conditional densities, especially when the dimensionality of the feature space is lar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 labeled training samples are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2"/>
              <p:cNvSpPr txBox="1"/>
              <p:nvPr/>
            </p:nvSpPr>
            <p:spPr>
              <a:xfrm>
                <a:off x="684360" y="3284640"/>
                <a:ext cx="5584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cid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3"/>
              <p:cNvSpPr txBox="1"/>
              <p:nvPr/>
            </p:nvSpPr>
            <p:spPr>
              <a:xfrm>
                <a:off x="684360" y="3860640"/>
                <a:ext cx="7470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88" name="Object 4"/>
          <p:cNvGraphicFramePr/>
          <p:nvPr/>
        </p:nvGraphicFramePr>
        <p:xfrm>
          <a:off x="907920" y="1565280"/>
          <a:ext cx="65217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565280"/>
                    <a:ext cx="6521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0" name="Object 5"/>
              <p:cNvSpPr txBox="1"/>
              <p:nvPr/>
            </p:nvSpPr>
            <p:spPr>
              <a:xfrm>
                <a:off x="755640" y="4932360"/>
                <a:ext cx="2792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1" name="Text Box 12"/>
          <p:cNvSpPr/>
          <p:nvPr/>
        </p:nvSpPr>
        <p:spPr>
          <a:xfrm>
            <a:off x="3059280" y="24210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eaeaea"/>
                </a:solidFill>
                <a:uFillTx/>
                <a:latin typeface="Arial Narrow"/>
              </a:rPr>
              <a:t>POOLED ESTIMA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2" name="Text Box 13"/>
          <p:cNvSpPr/>
          <p:nvPr/>
        </p:nvSpPr>
        <p:spPr>
          <a:xfrm>
            <a:off x="611280" y="278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eaeaea"/>
                </a:solidFill>
                <a:uFillTx/>
                <a:latin typeface="Arial Narrow"/>
              </a:rPr>
              <a:t>Plug-in decision ru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6"/>
              <p:cNvSpPr txBox="1"/>
              <p:nvPr/>
            </p:nvSpPr>
            <p:spPr>
              <a:xfrm>
                <a:off x="1787400" y="4375080"/>
                <a:ext cx="4800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due to symmet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7"/>
              <p:cNvSpPr txBox="1"/>
              <p:nvPr/>
            </p:nvSpPr>
            <p:spPr>
              <a:xfrm>
                <a:off x="755640" y="5759280"/>
                <a:ext cx="5584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is difficult to computer the distribution of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Line 18"/>
          <p:cNvSpPr/>
          <p:nvPr/>
        </p:nvSpPr>
        <p:spPr>
          <a:xfrm>
            <a:off x="2124000" y="4869000"/>
            <a:ext cx="230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2"/>
              <p:cNvSpPr txBox="1"/>
              <p:nvPr/>
            </p:nvSpPr>
            <p:spPr>
              <a:xfrm>
                <a:off x="3995640" y="1341360"/>
                <a:ext cx="3351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3"/>
              <p:cNvSpPr txBox="1"/>
              <p:nvPr/>
            </p:nvSpPr>
            <p:spPr>
              <a:xfrm>
                <a:off x="1042920" y="2900520"/>
                <a:ext cx="5913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4"/>
              <p:cNvSpPr txBox="1"/>
              <p:nvPr/>
            </p:nvSpPr>
            <p:spPr>
              <a:xfrm>
                <a:off x="1103400" y="3714840"/>
                <a:ext cx="2820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5"/>
              <p:cNvSpPr txBox="1"/>
              <p:nvPr/>
            </p:nvSpPr>
            <p:spPr>
              <a:xfrm>
                <a:off x="1092240" y="2133720"/>
                <a:ext cx="44164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tandard Norma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6"/>
              <p:cNvSpPr txBox="1"/>
              <p:nvPr/>
            </p:nvSpPr>
            <p:spPr>
              <a:xfrm>
                <a:off x="1112760" y="1341360"/>
                <a:ext cx="1730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7"/>
              <p:cNvSpPr txBox="1"/>
              <p:nvPr/>
            </p:nvSpPr>
            <p:spPr>
              <a:xfrm>
                <a:off x="4349880" y="4044960"/>
                <a:ext cx="38941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i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8"/>
              <p:cNvSpPr txBox="1"/>
              <p:nvPr/>
            </p:nvSpPr>
            <p:spPr>
              <a:xfrm>
                <a:off x="1089000" y="5013360"/>
                <a:ext cx="139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9"/>
              <p:cNvSpPr txBox="1"/>
              <p:nvPr/>
            </p:nvSpPr>
            <p:spPr>
              <a:xfrm>
                <a:off x="1042920" y="5589720"/>
                <a:ext cx="2384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5" name="Oval 22"/>
          <p:cNvSpPr/>
          <p:nvPr/>
        </p:nvSpPr>
        <p:spPr>
          <a:xfrm>
            <a:off x="7740720" y="4653000"/>
            <a:ext cx="50328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906" name="Picture 23" descr=""/>
          <p:cNvPicPr/>
          <p:nvPr/>
        </p:nvPicPr>
        <p:blipFill>
          <a:blip r:embed="rId1"/>
          <a:stretch/>
        </p:blipFill>
        <p:spPr>
          <a:xfrm>
            <a:off x="7094520" y="2276640"/>
            <a:ext cx="1725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8" name="Picture 4" descr=""/>
          <p:cNvPicPr/>
          <p:nvPr/>
        </p:nvPicPr>
        <p:blipFill>
          <a:blip r:embed="rId1"/>
          <a:stretch/>
        </p:blipFill>
        <p:spPr>
          <a:xfrm>
            <a:off x="2289240" y="1143000"/>
            <a:ext cx="45115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62B-FD1E-4FB0-81F8-E3B08D0C938D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Component Analysis and Discriminants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bine features in order to reduce the dimension of the feature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ear combinations are simple to compute and tract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ject high dimensional data onto a lower dimensional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wo classical approaches for finding “optimal” linear transform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CA (Principal Component Analysis) “Projection that best 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represent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he data in a least- square sens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DA (Multiple Discriminant Analysis) “Projection that best 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separates</a:t>
            </a:r>
            <a:r>
              <a:rPr b="0" lang="en-US" sz="2400" spc="-1" strike="noStrike">
                <a:solidFill>
                  <a:srgbClr val="be12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data in a least-squares sens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F36B-2478-4058-908D-D0ACFCF50A91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ption about the problem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metric model of P(x |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is availabl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e P(x |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is multivariate Gaussian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aracterized by 2 parameter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ameter estimation techniqu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ximum-Likelihood (ML) and Bayesian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sults of the two procedures are nearly identical, but there is a subtle differe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D4B-D2B1-4B4F-BE05-C64E37C17266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-609480" y="579240"/>
            <a:ext cx="9601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ML estimation parameters are assumed to be fixed but unknown! Bayesian parameter estimation procedure, by its nature, utilizes whate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or inform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available about the unknown para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E: Best parameters are obtained by maximizing the probability of obtaining the samples observ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yesian methods view the parameters as random variables having some known prior distribution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do we know the prior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either approach, we use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) for our classification rule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F6A-FCE2-45A3-9A28-02863A3237C9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848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imum-Likelihood Esti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as good convergence properties as the sample size increases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imated parameter value approaches the true value as n incre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mpler than any other alternative techniq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 princi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sume we have c classes an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 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, w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609480" y="4495680"/>
                <a:ext cx="8153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,cov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1066680" y="54957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class 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 Narrow"/>
              </a:rPr>
              <a:t>j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samples to estimate class 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 Narrow"/>
              </a:rPr>
              <a:t>j 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A61-C939-4376-AE1D-E876CA2AC6E4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se the information in training samples to estimat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;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(i = 1, 2, …, c) is associated with the ith category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ppose sample set D contains 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id sampl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…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L estimate of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, by definition, the value     that  maximizes P(D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the value of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hat best agrees with the actually observed training samples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4"/>
              <p:cNvSpPr txBox="1"/>
              <p:nvPr/>
            </p:nvSpPr>
            <p:spPr>
              <a:xfrm>
                <a:off x="838080" y="2743200"/>
                <a:ext cx="8153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alled the likelihood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set of sampl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6"/>
              <p:cNvSpPr txBox="1"/>
              <p:nvPr/>
            </p:nvSpPr>
            <p:spPr>
              <a:xfrm>
                <a:off x="7048440" y="4191120"/>
                <a:ext cx="266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5" name="Text Box 7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51F5-3C92-4BA6-9C80-D7CF3999CAD8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9:39:16Z</dcterms:created>
  <dc:creator>Djamel Bouchaffra</dc:creator>
  <dc:description/>
  <dc:language>en-US</dc:language>
  <cp:lastModifiedBy> </cp:lastModifiedBy>
  <cp:lastPrinted>2009-04-22T19:24:48Z</cp:lastPrinted>
  <dcterms:modified xsi:type="dcterms:W3CDTF">2013-01-29T14:15:08Z</dcterms:modified>
  <cp:revision>138</cp:revision>
  <dc:subject/>
  <dc:title>PowerPoint Presentation</dc:title>
</cp:coreProperties>
</file>