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4AE-1F22-471B-83F9-517ECAD57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420C-6610-486D-BBE6-F72C93A2A275}" type="slidenum">
              <a:rPr b="0" lang="en-US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C27C-D095-4C43-916C-B9ED862B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1E35-A488-4A8F-B60C-9A8EE889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93E5-7255-4C2E-BABE-D095E8B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C1F0B-6EDC-420A-851D-B7B9D66A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82E40-CAF4-466D-B859-7151A51A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72B92-9872-496F-BC29-A31F4A09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221DA-370C-4A75-A4A0-27534F92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6E21-6963-4FAD-A6F9-D77E0B98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D799-847F-47E1-A016-8DAF5EE2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41226-443E-4B2E-801C-D94E8DB8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D1DB4-94D8-43F1-A804-5EA182889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4A72D-9920-4594-A6AC-08C8CD9B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6D87-EBD6-4F2E-A76C-721B0A84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FE6B2-C44E-4989-97F0-89692C1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BED01-D33C-4500-812A-2CD47758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651151-7611-4A20-BC97-268CA0FB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60563-4E99-4D64-9BAD-01390C2E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3BD57-E765-4AC0-B0E4-2E14CC79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AC155-4186-4359-B76B-F781531F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7EEF7-7EB7-42E7-8B45-ECFE23C8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D8905-2CBE-4CA6-BC5C-DF781F92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D369B-6695-4D2F-AE40-FF143D4B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2EBCD-69C8-4ECB-95BB-CCB24B60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E72-EAAC-4CAF-AB6B-C7EEF411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16643-91B9-4CEF-82D8-48B53064D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F75EE-C6A0-4EB0-8671-83A0AB6B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862B7-6E5B-4775-9D83-514ED0F8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757A3-F144-4401-B00B-4D3959693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50BA2-8650-48E2-B8D4-C394EAA1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397AA-712C-4AC2-8A7C-8F0945D6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3CB5D2-1B17-4DBF-B506-37872755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FBDB3-0DCE-4200-A26D-82658F27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72933-3175-4613-ACA0-9E63D419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EDA11-A84A-4978-9358-5C48147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B0029-6452-41FF-908C-EBC4D892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BC6E8-860A-4FB4-9F14-EC1C97B0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01FD1-F76B-4D0B-9463-1E17178C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D71FB-34C8-4DE0-882B-17DD96CB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D5542-D0DD-42B5-A6DE-EB7EF3F1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930629-B9E2-4FEE-815B-FDD71F3F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CB58E-F643-41E4-A88E-C76A704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3A4ED-A218-4FDC-8626-017E405C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0BD9A-CA35-4D9D-BAE5-6A165AEF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613DB7-018B-46C0-90CE-6989061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FC0CE-1228-4B58-98AF-F0A91310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F48F-765D-4A2D-A06A-10276F83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1167F-1372-43FC-8F23-C5C25F0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65757-2099-4522-BFF7-B46D796B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1B3F5-6950-4BF6-AE79-509E9F7F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2992A-041D-448D-A637-AC55ADA7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4F4AE8-397B-48EB-8773-257F85A0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DC96E-433A-429F-9C59-2F6AED2F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8B9CC-C510-47B5-980A-1F253A6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4A5D66-255C-4A9A-94DC-1A6E5938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C1E9E-964A-4154-818B-02FE2B89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2DB3C-5A6F-4172-A22B-9F98E2AB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A8A3-942A-4F51-A501-8F4F42B0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EE946-3B28-421E-B92D-68965E2D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03D4B-37B2-47DE-BECF-C2973888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A1345-50B6-4092-BE74-BCFC9DA8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5DA569-4490-4CA8-8B15-32D6305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7BBC7-868F-4954-9D85-273F780A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2AF9F-C8FE-4FAA-91F4-4B769A5E2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23622-2555-4992-90FA-9448CCF8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3EC0C-1AC6-4078-B35A-5FB508AA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82E8DB-5420-4354-9E73-78C0835B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FCF31-D9B2-445F-8751-0752AC58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6080-6FB1-45F0-A8D3-2E557937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4783AD-76E4-48E6-9587-E3B4DC2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A355A-531B-4AA9-BF69-06B9BDC2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6BE7E-811D-4297-AE23-98DA86A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4B91BD-1A08-49FC-821D-E9A13A1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09074-5032-4619-ACA3-1C35D011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3F1BF-87EA-43DB-B64F-1D19C2DC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469AE1-30CE-4EA0-8B91-81BE6ACB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EF739-50FB-475A-A9BD-FFE367E0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7AA21-3DDA-44CD-B40A-9643DB03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AD5B5-6CF5-4E42-A471-1EC34BA7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2908-5A2D-4DB4-96EF-26BD7B0B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EC1188-B0E5-4233-A3ED-96124851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D759DB-3CB2-458E-BCC9-8B49ED5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EF2E3-BDD2-4C4F-BC7B-DA16808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312FF-3D2F-48FC-9D17-0B839E0C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9F1FAF-EC63-4386-8275-DE4FFF95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916C7-DDC4-42D0-9BC5-73550BD2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0E2543-2564-4FEE-B2E6-CB6B79DC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FCA63-2D02-4B3B-B741-05D02362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40BC6D-0BFF-4899-9E1C-88F2DCAB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07C70-5642-481B-B1DC-C8D44660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FA7C-C348-4655-B3DD-DEDBFBF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332361-878E-4BBE-903A-3A40ED67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14F7EC-BA9B-4095-88C0-2560741B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8F4400-4E4F-4100-BA8C-3F97C89E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7A42B-EBFD-4AA1-821D-726D1097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13CDAE-F8A1-4AAA-AF13-EAA484DB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1BB7D-C562-4F6C-92DC-69DC129F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0300ED-F368-49AF-BF15-D762AEB1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57060-9E77-49F8-A2D0-070E425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518EA7-058B-49B8-A1E0-7616CA9F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F48C35-641F-4772-9D0F-3CF348CF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DEA0-02FA-41FE-BF5C-486E7DA0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25127-90A2-45B8-9D9C-A37C8B3E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73EFDB-8E8F-433C-952A-1F7C1404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5B0A0-E9D1-4327-9285-57FF097A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DCE7-8EDF-4918-9DDB-5BC60D34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9078-48DB-4F1B-8E82-C30ECB6E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5685-9F64-4DF6-B8F8-A1E9E473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18009-86E2-4732-9035-57440A6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5A5D-F3E7-4C8E-997F-05D9D581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F51E-1BDF-4F0E-8F44-2F4A2EB8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35730-B71E-4CF6-92E9-AFF02A0E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AABF-6343-46E5-8F9B-6DE68FA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B38F-1BFA-4B14-81FF-A45A00BC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9A4D8-97BA-4578-A86A-B2E47F5B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5DDA-93E6-49ED-9ABD-828D45C4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0B1-5DC7-43E9-969A-331950D6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7339E-6257-4991-8C04-92221397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94DB9-FF6E-4AB1-95A5-88C91311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255FA-5A87-40F6-80D8-356AD33D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984AD-E7E3-4C33-8A34-F50AF09F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39845-E166-469C-8D23-BB27645A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0DDA-7C09-435C-98AA-D6D3D464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6587-36F9-4B4D-ABB9-718C7485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8F2-2845-4AAC-B026-81F4C9F7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1AEF-E2E1-4BEC-B4EF-8B7A57BA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BD3-FC14-40D3-B6BC-24FCDE9A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C0A4C-3958-4AF3-9F2D-A83761A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62DB-81F3-44F3-AAD8-302774F0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1CBE8-E033-4119-BF18-EAEC2F9E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A66CA-1E0C-46FE-90EE-CF0C7663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E2F1A-A6F7-4CE0-9F55-FFD2671E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91A4C-BABA-4F11-9FD7-3E8B72B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54D9C-85DD-4BEC-9988-78775ABD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B2D5A-7088-4D31-AD84-CDF9EE8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3A5FC-8C52-4FF1-A1E2-02687B88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CA25C-5047-412C-9134-21FC698A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5961-2987-4C95-889D-51F6ABDC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91A81-8B8A-454F-AC50-C7DE402B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BE430-5A68-46E9-A372-AAA8E1C2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49B40-345F-4534-A300-6B9408F9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12595-4CB1-431F-8B02-BB654B58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B5919-1E24-4266-97B2-1E5AF49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8BD50-D988-41F1-A511-F05991C5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5979-C56F-4BEB-B614-4DC5067B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091FE-60B1-4F26-B99F-3AE82265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07EAB-E49C-42BF-9ABD-DCD626A9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DB8CC-ABFB-4289-9983-7B0BE058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4B6F-4CB1-4B37-B364-8267CF4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6AD3C-913D-49E2-A4A5-D292E7E9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6A7C-C802-4C30-B8F6-BE221835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BC051-05EB-4C72-8DDE-A93AF9E77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3624-FBD8-4AFC-9DC5-6B0725ED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0F267-2CEF-4464-81A6-7FFAF0E1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76226-E7CC-4355-AC94-B50EEFC4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D682C-C829-469F-8986-4073F60B6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A3D9F-4D96-436E-9E9F-02203676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0C813-3677-4ABC-81C5-4A7C4A5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904FE-B5BB-4E88-A0C0-966B9E02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A186-8A47-40B8-B85F-7A1D7390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1C3D2-62ED-41D6-85AD-6A33B4B9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C255-CE9D-497C-9DEA-CB56520A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97DA1-5FEB-4A6F-91BA-19951385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817CA-E042-46D9-9D27-0B7DE523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0F5C3-3DB3-46C3-BCBA-426C92AC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C16B-365F-448F-A00D-08CDA39E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BE863-0973-48DF-9D38-BF268D72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22690-8123-4DAA-AB7A-34CAA30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44EF-1B47-454F-9F73-0C1CB166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6FA90C-B85C-4325-9F05-09B8174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D9F0-E417-4158-8244-3C7ABF7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066680" y="30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4FB4C-FB31-4DD9-B2EE-5B55A316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2771E-ED37-48E1-BBCE-A06F47D0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F0A86-1FEA-4E50-82E1-B3C2D8F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89341-4F51-42E3-B309-3CFD4EF1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066320" y="42238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A1F37-5D99-454D-A888-E9A0F4F8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05600" y="16765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06632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05600" y="42238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38241-66EC-4B67-91EE-E55E65A2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79728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28600" y="16765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06632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79728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28600" y="42238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0331-8500-4FD8-ACA0-6114C075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73F2B-AA14-449B-BE94-19DA84A0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7F938-6E3A-46B5-BEAF-1FCCEFD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FD0BD-5CB9-43EF-B367-7F95978D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355-DD7D-477A-9BC6-9BE7A17ABF7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86E2-0B8F-40D2-9B73-9D7631085FD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F17D-B1E1-4025-A34E-F733E9ABB122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A0FF-0190-451F-B692-9DDC462CFCAF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2557-676E-4808-89B3-E9BBB217839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CA93-B394-4FB4-80DA-7AA4016153F5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DB4F-EF4B-4F06-8FA7-D2F00A1BD2F4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7E2-0CCF-4F3C-8D21-98DD3CC410A6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793-31A8-43FB-9DC4-7F9313517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BD97-A286-47FA-811A-7454A0A1B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2492-36B2-4D33-B6FD-504A32161621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5961-9E51-41AC-9D4C-C5FE163B4D98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7624-666D-44BD-88F8-0110EAEDDDB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7F7D-B3FE-458A-8788-D7451E5079D3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cab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06632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cc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eaeaea"/>
              </a:buClr>
              <a:buSzPct val="55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96216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2A1C-7E32-4389-BD32-059322296F92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8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rse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TextBox 3"/>
          <p:cNvSpPr/>
          <p:nvPr/>
        </p:nvSpPr>
        <p:spPr>
          <a:xfrm>
            <a:off x="3377160" y="1219320"/>
            <a:ext cx="23068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MODEL INFORM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2" name="TextBox 4"/>
          <p:cNvSpPr/>
          <p:nvPr/>
        </p:nvSpPr>
        <p:spPr>
          <a:xfrm>
            <a:off x="2825640" y="1981080"/>
            <a:ext cx="119556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3" name="TextBox 5"/>
          <p:cNvSpPr/>
          <p:nvPr/>
        </p:nvSpPr>
        <p:spPr>
          <a:xfrm>
            <a:off x="4884120" y="1981080"/>
            <a:ext cx="1401480" cy="368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INCOMPLETE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3200400" y="2895480"/>
            <a:ext cx="12952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Supervised Learn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5715000" y="2895480"/>
            <a:ext cx="15238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Unsupervised Learn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6" name="TextBox 8"/>
          <p:cNvSpPr/>
          <p:nvPr/>
        </p:nvSpPr>
        <p:spPr>
          <a:xfrm>
            <a:off x="3200400" y="4191120"/>
            <a:ext cx="16002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Non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7" name="TextBox 11"/>
          <p:cNvSpPr/>
          <p:nvPr/>
        </p:nvSpPr>
        <p:spPr>
          <a:xfrm>
            <a:off x="1523880" y="4191120"/>
            <a:ext cx="12193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8" name="TextBox 12"/>
          <p:cNvSpPr/>
          <p:nvPr/>
        </p:nvSpPr>
        <p:spPr>
          <a:xfrm>
            <a:off x="7086600" y="4191120"/>
            <a:ext cx="160020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Non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5181480" y="4191120"/>
            <a:ext cx="121932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arametric Approach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0" name="TextBox 14"/>
          <p:cNvSpPr/>
          <p:nvPr/>
        </p:nvSpPr>
        <p:spPr>
          <a:xfrm>
            <a:off x="685800" y="2895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Bayes Decision Theory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1" name="TextBox 15"/>
          <p:cNvSpPr/>
          <p:nvPr/>
        </p:nvSpPr>
        <p:spPr>
          <a:xfrm>
            <a:off x="304920" y="529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Optimal” Rul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2" name="TextBox 16"/>
          <p:cNvSpPr/>
          <p:nvPr/>
        </p:nvSpPr>
        <p:spPr>
          <a:xfrm>
            <a:off x="1447920" y="5297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Plug-in Rules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3" name="TextBox 17"/>
          <p:cNvSpPr/>
          <p:nvPr/>
        </p:nvSpPr>
        <p:spPr>
          <a:xfrm>
            <a:off x="2590920" y="52974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Density Estimation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4" name="TextBox 18"/>
          <p:cNvSpPr/>
          <p:nvPr/>
        </p:nvSpPr>
        <p:spPr>
          <a:xfrm>
            <a:off x="3809880" y="5297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Geometric Rules (K-NN, MLP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5" name="TextBox 19"/>
          <p:cNvSpPr/>
          <p:nvPr/>
        </p:nvSpPr>
        <p:spPr>
          <a:xfrm>
            <a:off x="5715000" y="529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Mixture Resolving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6" name="TextBox 20"/>
          <p:cNvSpPr/>
          <p:nvPr/>
        </p:nvSpPr>
        <p:spPr>
          <a:xfrm>
            <a:off x="7162920" y="52974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Calibri"/>
              </a:rPr>
              <a:t>Cluster Analysis (Hard, Fuzzy)</a:t>
            </a:r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7" name="Straight Connector 22"/>
          <p:cNvSpPr/>
          <p:nvPr/>
        </p:nvSpPr>
        <p:spPr>
          <a:xfrm flipH="1">
            <a:off x="3423960" y="1589040"/>
            <a:ext cx="11062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8" name="Straight Connector 24"/>
          <p:cNvSpPr/>
          <p:nvPr/>
        </p:nvSpPr>
        <p:spPr>
          <a:xfrm>
            <a:off x="4530600" y="1589040"/>
            <a:ext cx="1054080" cy="392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79" name="Straight Connector 26"/>
          <p:cNvSpPr/>
          <p:nvPr/>
        </p:nvSpPr>
        <p:spPr>
          <a:xfrm flipH="1">
            <a:off x="1486080" y="2351160"/>
            <a:ext cx="19382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0" name="Straight Connector 28"/>
          <p:cNvSpPr/>
          <p:nvPr/>
        </p:nvSpPr>
        <p:spPr>
          <a:xfrm flipH="1">
            <a:off x="3848040" y="2351160"/>
            <a:ext cx="17366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1" name="Straight Connector 30"/>
          <p:cNvSpPr/>
          <p:nvPr/>
        </p:nvSpPr>
        <p:spPr>
          <a:xfrm>
            <a:off x="5583960" y="2351160"/>
            <a:ext cx="892440" cy="544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2" name="Straight Connector 32"/>
          <p:cNvSpPr/>
          <p:nvPr/>
        </p:nvSpPr>
        <p:spPr>
          <a:xfrm flipH="1">
            <a:off x="2133720" y="3541680"/>
            <a:ext cx="171432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3" name="Straight Connector 34"/>
          <p:cNvSpPr/>
          <p:nvPr/>
        </p:nvSpPr>
        <p:spPr>
          <a:xfrm>
            <a:off x="3848040" y="3541680"/>
            <a:ext cx="15264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4" name="Straight Connector 36"/>
          <p:cNvSpPr/>
          <p:nvPr/>
        </p:nvSpPr>
        <p:spPr>
          <a:xfrm flipH="1">
            <a:off x="5790960" y="3541680"/>
            <a:ext cx="68580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5" name="Straight Connector 38"/>
          <p:cNvSpPr/>
          <p:nvPr/>
        </p:nvSpPr>
        <p:spPr>
          <a:xfrm>
            <a:off x="6477120" y="3541680"/>
            <a:ext cx="1409760" cy="649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6" name="Straight Connector 40"/>
          <p:cNvSpPr/>
          <p:nvPr/>
        </p:nvSpPr>
        <p:spPr>
          <a:xfrm flipH="1">
            <a:off x="875880" y="4836960"/>
            <a:ext cx="125748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7" name="Straight Connector 42"/>
          <p:cNvSpPr/>
          <p:nvPr/>
        </p:nvSpPr>
        <p:spPr>
          <a:xfrm flipH="1">
            <a:off x="1942920" y="4836960"/>
            <a:ext cx="19044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8" name="Straight Connector 44"/>
          <p:cNvSpPr/>
          <p:nvPr/>
        </p:nvSpPr>
        <p:spPr>
          <a:xfrm flipH="1">
            <a:off x="3200040" y="4836960"/>
            <a:ext cx="80028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89" name="Straight Connector 46"/>
          <p:cNvSpPr/>
          <p:nvPr/>
        </p:nvSpPr>
        <p:spPr>
          <a:xfrm>
            <a:off x="3999960" y="4836960"/>
            <a:ext cx="68580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0" name="Straight Connector 50"/>
          <p:cNvSpPr/>
          <p:nvPr/>
        </p:nvSpPr>
        <p:spPr>
          <a:xfrm>
            <a:off x="5791320" y="4836960"/>
            <a:ext cx="49536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1" name="Straight Connector 52"/>
          <p:cNvSpPr/>
          <p:nvPr/>
        </p:nvSpPr>
        <p:spPr>
          <a:xfrm>
            <a:off x="7886160" y="4836960"/>
            <a:ext cx="114120" cy="460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2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3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E0E-58C6-4A9A-B171-8EBEF44F3F4E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ptimal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et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, …,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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be the gradient operato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e define l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as the log-likelihood func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l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= ln P(D |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ew problem statement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etermine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at maximizes the log-likelihood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4"/>
              <p:cNvSpPr txBox="1"/>
              <p:nvPr/>
            </p:nvSpPr>
            <p:spPr>
              <a:xfrm>
                <a:off x="3352680" y="1295280"/>
                <a:ext cx="373392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Object 5"/>
              <p:cNvSpPr txBox="1"/>
              <p:nvPr/>
            </p:nvSpPr>
            <p:spPr>
              <a:xfrm>
                <a:off x="3657600" y="5105520"/>
                <a:ext cx="30481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Text Box 6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39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C9D3-E564-42AF-AA0F-B19EF61BB576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et of necessary conditions for an optimum i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Symbol"/>
                <a:ea typeface="Symbol"/>
              </a:rPr>
              <a:t></a:t>
            </a:r>
            <a:r>
              <a:rPr b="0" lang="en-US" sz="3600" spc="-1" strike="noStrike" baseline="-25000">
                <a:solidFill>
                  <a:srgbClr val="ccff33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ccff33"/>
                </a:solidFill>
                <a:latin typeface="Arial"/>
              </a:rPr>
              <a:t>l = 0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4"/>
              <p:cNvSpPr txBox="1"/>
              <p:nvPr/>
            </p:nvSpPr>
            <p:spPr>
              <a:xfrm>
                <a:off x="2895480" y="1981080"/>
                <a:ext cx="5029200" cy="12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EBD6-B482-4C9D-90EE-282BC15A05C9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xample of a specific case: unknown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Samples are drawn from a multivariate normal populatio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therefore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 ML estimate for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must satisfy: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4"/>
              <p:cNvSpPr txBox="1"/>
              <p:nvPr/>
            </p:nvSpPr>
            <p:spPr>
              <a:xfrm>
                <a:off x="1816200" y="2590920"/>
                <a:ext cx="6794280" cy="17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d</m:t>
                                </m:r>
                              </m:sup>
                            </m:s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θμ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/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5"/>
              <p:cNvSpPr txBox="1"/>
              <p:nvPr/>
            </p:nvSpPr>
            <p:spPr>
              <a:xfrm>
                <a:off x="3429000" y="5257800"/>
                <a:ext cx="30481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Text Box 6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2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3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1F6A-3E96-40C3-AD88-805AE75F5E30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-360" y="53352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ltiplying by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rearranging, we obtai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ich is the arithmetic average or the mean of the samples of the training samples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clusion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iven P(x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|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, j = 1, 2, …, c to be Gaussian in 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-dimensional feature space, estimate the vector 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and perform a classification using the Bayes decision rule of chapter 2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4"/>
              <p:cNvSpPr txBox="1"/>
              <p:nvPr/>
            </p:nvSpPr>
            <p:spPr>
              <a:xfrm>
                <a:off x="3886200" y="1351080"/>
                <a:ext cx="19810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56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45F2-9B7E-4E94-A308-8EE7BBBD7857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 Estimation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ivariate Gaussian Case: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 &amp; </a:t>
            </a:r>
            <a:r>
              <a:rPr b="0" i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= 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3"/>
              <p:cNvSpPr txBox="1"/>
              <p:nvPr/>
            </p:nvSpPr>
            <p:spPr>
              <a:xfrm>
                <a:off x="2362320" y="2895480"/>
                <a:ext cx="563868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t xml:space="preserve">l</m:t>
                        </m:r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σ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σθ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2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4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0FDD-AA51-40C7-9648-BCC3D5E37B96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mmation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mbining (1) and (2), one obtain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3"/>
              <p:cNvSpPr txBox="1"/>
              <p:nvPr/>
            </p:nvSpPr>
            <p:spPr>
              <a:xfrm>
                <a:off x="1371600" y="4495680"/>
                <a:ext cx="638316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     ;    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Object 4"/>
              <p:cNvSpPr txBox="1"/>
              <p:nvPr/>
            </p:nvSpPr>
            <p:spPr>
              <a:xfrm>
                <a:off x="1447920" y="987480"/>
                <a:ext cx="6324480" cy="23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θ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       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9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1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2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AAED-B94F-43B9-984B-C5C5FCB434C2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ia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 estimate for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bias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 unbiased estimator for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Object 0"/>
              <p:cNvSpPr txBox="1"/>
              <p:nvPr/>
            </p:nvSpPr>
            <p:spPr>
              <a:xfrm>
                <a:off x="2362320" y="2743200"/>
                <a:ext cx="43941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Σ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Object 1"/>
              <p:cNvSpPr txBox="1"/>
              <p:nvPr/>
            </p:nvSpPr>
            <p:spPr>
              <a:xfrm>
                <a:off x="2209680" y="4724280"/>
                <a:ext cx="4724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Sample</m:t>
                        </m:r>
                        <m:r>
                          <m:rPr>
                            <m:lit/>
                            <m:nor/>
                          </m:rPr>
                          <m:t xml:space="preserve"> covariance matrix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776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B0DD-B96B-46F0-9AB1-57E813F66213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Estim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(Bayesian learning approach for pattern classification problem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ML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was supposed to have a fixed val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B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a random vari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computation of posterior probabilities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) lies at the heart of Bayesian classific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oal: compute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, </a:t>
            </a:r>
            <a:r>
              <a:rPr b="0" lang="en-US" sz="2800" spc="-1" strike="noStrike">
                <a:solidFill>
                  <a:srgbClr val="ffffcc"/>
                </a:solidFill>
                <a:latin typeface="CAC Champagne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iven the training sample set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Bayes formula can be writte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Object 2"/>
              <p:cNvSpPr txBox="1"/>
              <p:nvPr/>
            </p:nvSpPr>
            <p:spPr>
              <a:xfrm>
                <a:off x="2743200" y="4648320"/>
                <a:ext cx="548640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83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C7B4-3265-4582-9513-E116249F0820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106668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o demonstrate the preceding equation, us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Object 2"/>
              <p:cNvSpPr txBox="1"/>
              <p:nvPr/>
            </p:nvSpPr>
            <p:spPr>
              <a:xfrm>
                <a:off x="1576440" y="1752480"/>
                <a:ext cx="7286400" cy="342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D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raining sample provides this!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9" name="Text Box 5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1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2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8E3E-85B6-4B4F-A41E-A470ACB194DF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60912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Parameter Estimation: Gaussian Case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ccff"/>
                </a:solidFill>
                <a:latin typeface="Arial"/>
              </a:rPr>
              <a:t>Goal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Estimate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using the a-posteriori densit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variate Gaussian case: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s the only unknown para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re known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2"/>
              <p:cNvSpPr txBox="1"/>
              <p:nvPr/>
            </p:nvSpPr>
            <p:spPr>
              <a:xfrm>
                <a:off x="3352680" y="4038480"/>
                <a:ext cx="297180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 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95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-381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wo-dimensional Feature Sp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2666880" y="3049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 Narrow"/>
              </a:rPr>
              <a:t>Supervised Learning</a:t>
            </a:r>
            <a:endParaRPr b="0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694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02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8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C193-FDB5-4B8D-AB2B-492A6A3D29E4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/>
          </p:nvPr>
        </p:nvSpPr>
        <p:spPr>
          <a:xfrm>
            <a:off x="1143000" y="2282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ng densit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pdated parameters of the prior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Object 2"/>
              <p:cNvSpPr txBox="1"/>
              <p:nvPr/>
            </p:nvSpPr>
            <p:spPr>
              <a:xfrm>
                <a:off x="2133720" y="277920"/>
                <a:ext cx="6172200" cy="18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μ</m:t>
                                </m:r>
                              </m:e>
                            </m:nary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Object 3"/>
              <p:cNvSpPr txBox="1"/>
              <p:nvPr/>
            </p:nvSpPr>
            <p:spPr>
              <a:xfrm>
                <a:off x="1987560" y="2971800"/>
                <a:ext cx="6394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Object 4"/>
              <p:cNvSpPr txBox="1"/>
              <p:nvPr/>
            </p:nvSpPr>
            <p:spPr>
              <a:xfrm>
                <a:off x="2328840" y="4495680"/>
                <a:ext cx="5172120" cy="21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n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Sup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3" name="Text Box 7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5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06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B603-4E37-453E-B30F-A6A26A272128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152280" y="609480"/>
            <a:ext cx="8839440" cy="5486400"/>
          </a:xfrm>
          <a:prstGeom prst="rect">
            <a:avLst/>
          </a:prstGeom>
          <a:ln w="0">
            <a:noFill/>
          </a:ln>
        </p:spPr>
      </p:pic>
      <p:sp>
        <p:nvSpPr>
          <p:cNvPr id="808" name="Text Box 4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07CC-EBBE-4F7D-852A-2738D6E618B8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533160" y="228240"/>
            <a:ext cx="83818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univariate case P(x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has been compute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remains to be computed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t provide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sired class-conditional density P(x |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33ccff"/>
                </a:solidFill>
                <a:latin typeface="Oberon LET"/>
              </a:rPr>
              <a:t>D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33cc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) together with P(</a:t>
            </a:r>
            <a:r>
              <a:rPr b="0" lang="en-US" sz="2400" spc="-1" strike="noStrike">
                <a:solidFill>
                  <a:srgbClr val="33ccff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33cc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) and using Bayes formula, we obtain the Bayesian classification rule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Object 2"/>
              <p:cNvSpPr txBox="1"/>
              <p:nvPr/>
            </p:nvSpPr>
            <p:spPr>
              <a:xfrm>
                <a:off x="2057400" y="1828800"/>
                <a:ext cx="64771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μ</m:t>
                    </m:r>
                    <m:r>
                      <m:rPr>
                        <m:lit/>
                        <m:nor/>
                      </m:rPr>
                      <m:t xml:space="preserve">  is Gaussia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Object 4"/>
              <p:cNvSpPr txBox="1"/>
              <p:nvPr/>
            </p:nvSpPr>
            <p:spPr>
              <a:xfrm>
                <a:off x="3187800" y="3048120"/>
                <a:ext cx="355104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Object 5"/>
              <p:cNvSpPr txBox="1"/>
              <p:nvPr/>
            </p:nvSpPr>
            <p:spPr>
              <a:xfrm>
                <a:off x="1981080" y="5334120"/>
                <a:ext cx="64008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</m:e>
                        </m:d>
                        <m:r>
                          <m:t xml:space="preserve">≡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7" name="Text Box 9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4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CA8B-4263-41DC-B27C-FA314FC43302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/>
          </p:nvPr>
        </p:nvSpPr>
        <p:spPr>
          <a:xfrm>
            <a:off x="152280" y="38052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Bayesian Parameter Estimation: General Theory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8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computation can be applied to any situation in which the unknown density can be parametrized: the basic assumptions are: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form of 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is assumed known, but the value of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not known exact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ur knowledge about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assumed to be contained in a known prior density P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rest of our knowledge about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 contained in a set </a:t>
            </a:r>
            <a:r>
              <a:rPr b="0" lang="en-US" sz="2400" spc="-1" strike="noStrike">
                <a:solidFill>
                  <a:srgbClr val="ffffcc"/>
                </a:solidFill>
                <a:latin typeface="Oberon LET"/>
              </a:rPr>
              <a:t>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of n random variables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hat follows P(x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4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5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8910-7EBD-443B-AA8D-176A8C1255C0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121932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 basic problem i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Compute the posterior density P(</a:t>
            </a:r>
            <a:r>
              <a:rPr b="0" lang="en-US" sz="2800" spc="-1" strike="noStrike">
                <a:solidFill>
                  <a:srgbClr val="fcab4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 | </a:t>
            </a:r>
            <a:r>
              <a:rPr b="0" lang="en-US" sz="2800" spc="-1" strike="noStrike">
                <a:solidFill>
                  <a:srgbClr val="fcab40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then “Derive P(x | </a:t>
            </a:r>
            <a:r>
              <a:rPr b="0" lang="en-US" sz="2800" spc="-1" strike="noStrike">
                <a:solidFill>
                  <a:srgbClr val="fcab40"/>
                </a:solidFill>
                <a:latin typeface="Oberon LET"/>
              </a:rPr>
              <a:t>D</a:t>
            </a:r>
            <a:r>
              <a:rPr b="0" lang="en-US" sz="2800" spc="-1" strike="noStrike">
                <a:solidFill>
                  <a:srgbClr val="fcab40"/>
                </a:solidFill>
                <a:latin typeface="Arial"/>
              </a:rPr>
              <a:t>)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ing Bayes formula, we ha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nd by independence assumptio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Object 2"/>
              <p:cNvSpPr txBox="1"/>
              <p:nvPr/>
            </p:nvSpPr>
            <p:spPr>
              <a:xfrm>
                <a:off x="3048120" y="5257800"/>
                <a:ext cx="441936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sup>
                      <m:e/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Object 3"/>
              <p:cNvSpPr txBox="1"/>
              <p:nvPr/>
            </p:nvSpPr>
            <p:spPr>
              <a:xfrm>
                <a:off x="2743200" y="3317760"/>
                <a:ext cx="502920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Text Box 6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Overfit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 of Insufficient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o train a classifier (e.g., estimate the covariance matrix) when the training set size is small (compared to the number of featur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the dimension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lect a subset of fea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bine available features to get a smaller number of  more “salient” featur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yesian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a reasonable prior on the parameters to compensate for small amount of training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 Simpl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statistical independ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urist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reshold the estimated covariance matrix such that only correlations above a threshold are retain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actical Observ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st heuristics and model simplifications are almost surely incorr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however, the performance of the classifiers base don model simplification is better than with full parameter esti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adox: How can a suboptimal/simplified model perform better than the MLE of full parameter set, on test datase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nswer involves the problem of insufficien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ufficient Data in Curve Fitt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7" name="Picture 4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120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ve Fitting Example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d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xample shows that a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egree polynomial fits the training data with zero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ever, the test or the generalization error is much higher for this fitted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data size is small, one cannot be sure about how complex the model should b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mall change in the data will change the parameters of the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degree polynomial significantly, which is not a desirable quality;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3: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ximum-Likelihood &amp; Bayesian Parameter Estimation </a:t>
            </a:r>
            <a:endParaRPr b="0" lang="en-US" sz="4000" spc="-1" strike="noStrike">
              <a:solidFill>
                <a:srgbClr val="fcab4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837720" y="2819160"/>
            <a:ext cx="7696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Maximum-Likelihood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Bayesian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Curse of Dimensionalit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Component analysis &amp; Discriminant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a"/>
                </a:solidFill>
                <a:latin typeface="Arial"/>
              </a:rPr>
              <a:t>EM Algorith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6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6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6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andling insufficient dat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uristics and model simpl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hrinkag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an intermediate approach, which combines “common covariance” with individual covariance mat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dividual covariance matrices shrink towards a common covariance matrix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so called regularized discriminant analys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rinkage Estimator for a covariance matrix, given shrinkage factor 0 &lt;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&lt; 1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rther, the common covariance can be shrunk towards the Identity matri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Object 4"/>
              <p:cNvSpPr txBox="1"/>
              <p:nvPr/>
            </p:nvSpPr>
            <p:spPr>
              <a:xfrm>
                <a:off x="2590920" y="4114800"/>
                <a:ext cx="33526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nΣ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Object 5"/>
              <p:cNvSpPr txBox="1"/>
              <p:nvPr/>
            </p:nvSpPr>
            <p:spPr>
              <a:xfrm>
                <a:off x="2819520" y="6019920"/>
                <a:ext cx="29448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t xml:space="preserve">Σ</m:t>
                    </m:r>
                    <m:r>
                      <m:t xml:space="preserve">+</m:t>
                    </m:r>
                    <m:r>
                      <m:t xml:space="preserve">β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blems of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 world applications usually come with a large number of fea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xt in documents is represented using frequencies of tens of thousands of wor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ages are often represented by extracting local features from a large number of regions within an im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ive intuition: more the number of features, the better the classification performance? –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Not alway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are two issues that must be confronted with high dimensional feature spa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does the classification accuracy depend on the dimensionality and the number of training samp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the computational complexity of the classifier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Independent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features are statistically independent, it is possible to get excellent performance as dimensionality in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two class problem with multivariate normal classes                , and equal prior probabilities, the probability of error 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the Mahalanobis distance is defined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Object 4"/>
              <p:cNvSpPr txBox="1"/>
              <p:nvPr/>
            </p:nvSpPr>
            <p:spPr>
              <a:xfrm>
                <a:off x="2743200" y="3581280"/>
                <a:ext cx="289548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Object 5"/>
              <p:cNvSpPr txBox="1"/>
              <p:nvPr/>
            </p:nvSpPr>
            <p:spPr>
              <a:xfrm>
                <a:off x="3429000" y="2867040"/>
                <a:ext cx="17524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Object 6"/>
              <p:cNvSpPr txBox="1"/>
              <p:nvPr/>
            </p:nvSpPr>
            <p:spPr>
              <a:xfrm>
                <a:off x="2286000" y="5257800"/>
                <a:ext cx="44197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istically Independent Fea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features are independent, the covariance matrix is diagonal, and we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creases monotonically with an increase in the number of features,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(e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long as the means of features in the differ, the error decr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5" name="Object 4"/>
              <p:cNvSpPr txBox="1"/>
              <p:nvPr/>
            </p:nvSpPr>
            <p:spPr>
              <a:xfrm>
                <a:off x="2895480" y="2362320"/>
                <a:ext cx="25909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reasing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a given set of features does not result in good classification performance, it is natural to add more fe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dimensionality results in increased cost and complexity for both feature extraction and class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 probabilistic structure of the problem i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mpletely know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adding new features will not possibly increase the Bayes ri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3" descr=""/>
          <p:cNvPicPr/>
          <p:nvPr/>
        </p:nvPicPr>
        <p:blipFill>
          <a:blip r:embed="rId1"/>
          <a:stretch/>
        </p:blipFill>
        <p:spPr>
          <a:xfrm>
            <a:off x="241200" y="0"/>
            <a:ext cx="867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urse of Dimensional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practice, increasing dimensionality beyond a certain point in the presence of finite number of training samples often leads to lower performance, rather than better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in reasons for this paradox are as follow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Gaussian assumption, that is typically made, is almost surely incorr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ining sample size is always finite, so the estimation of the class conditional density is not very accu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sis of this “curse of dimensionality” problem is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A Simple Ex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Tru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k (PAMI, 1979) provided a simple example illustrating this phenomen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Object 2"/>
              <p:cNvSpPr txBox="1"/>
              <p:nvPr/>
            </p:nvSpPr>
            <p:spPr>
              <a:xfrm>
                <a:off x="971640" y="4149720"/>
                <a:ext cx="50212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component  of the mean vecto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Object 3"/>
              <p:cNvSpPr txBox="1"/>
              <p:nvPr/>
            </p:nvSpPr>
            <p:spPr>
              <a:xfrm>
                <a:off x="3124080" y="1676520"/>
                <a:ext cx="200052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Object 4"/>
              <p:cNvSpPr txBox="1"/>
              <p:nvPr/>
            </p:nvSpPr>
            <p:spPr>
              <a:xfrm>
                <a:off x="1042920" y="2565360"/>
                <a:ext cx="21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Object 5"/>
              <p:cNvSpPr txBox="1"/>
              <p:nvPr/>
            </p:nvSpPr>
            <p:spPr>
              <a:xfrm>
                <a:off x="1042920" y="3051000"/>
                <a:ext cx="21765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Object 6"/>
              <p:cNvSpPr txBox="1"/>
              <p:nvPr/>
            </p:nvSpPr>
            <p:spPr>
              <a:xfrm>
                <a:off x="5486400" y="1828800"/>
                <a:ext cx="16891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μ,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Object 7"/>
              <p:cNvSpPr txBox="1"/>
              <p:nvPr/>
            </p:nvSpPr>
            <p:spPr>
              <a:xfrm>
                <a:off x="5316480" y="2209680"/>
                <a:ext cx="30654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Object 8"/>
              <p:cNvSpPr txBox="1"/>
              <p:nvPr/>
            </p:nvSpPr>
            <p:spPr>
              <a:xfrm>
                <a:off x="5292720" y="3044880"/>
                <a:ext cx="30877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t xml:space="preserve">Π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70" name="Text Box 20"/>
          <p:cNvSpPr/>
          <p:nvPr/>
        </p:nvSpPr>
        <p:spPr>
          <a:xfrm>
            <a:off x="826920" y="364500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eaeaea"/>
                </a:solidFill>
                <a:latin typeface="Arial Narrow"/>
              </a:rPr>
              <a:t>N</a:t>
            </a:r>
            <a:r>
              <a:rPr b="0" lang="tr-TR" sz="2000" spc="-1" strike="noStrike">
                <a:solidFill>
                  <a:srgbClr val="eaeaea"/>
                </a:solidFill>
                <a:latin typeface="Arial Narrow"/>
              </a:rPr>
              <a:t>: Number of features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Object 9"/>
              <p:cNvSpPr txBox="1"/>
              <p:nvPr/>
            </p:nvSpPr>
            <p:spPr>
              <a:xfrm>
                <a:off x="900000" y="5300640"/>
                <a:ext cx="26877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Object 10"/>
              <p:cNvSpPr txBox="1"/>
              <p:nvPr/>
            </p:nvSpPr>
            <p:spPr>
              <a:xfrm>
                <a:off x="4140360" y="5300640"/>
                <a:ext cx="3354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1: Mean Values 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Bayes decision rul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Object 2"/>
              <p:cNvSpPr txBox="1"/>
              <p:nvPr/>
            </p:nvSpPr>
            <p:spPr>
              <a:xfrm>
                <a:off x="2987640" y="2119320"/>
                <a:ext cx="27986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                   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i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Object 3"/>
              <p:cNvSpPr txBox="1"/>
              <p:nvPr/>
            </p:nvSpPr>
            <p:spPr>
              <a:xfrm>
                <a:off x="900000" y="1727280"/>
                <a:ext cx="488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cid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Object 4"/>
              <p:cNvSpPr txBox="1"/>
              <p:nvPr/>
            </p:nvSpPr>
            <p:spPr>
              <a:xfrm>
                <a:off x="833400" y="2852640"/>
                <a:ext cx="2154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Object 5"/>
              <p:cNvSpPr txBox="1"/>
              <p:nvPr/>
            </p:nvSpPr>
            <p:spPr>
              <a:xfrm>
                <a:off x="4316400" y="2925720"/>
                <a:ext cx="29322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Object 6"/>
              <p:cNvSpPr txBox="1"/>
              <p:nvPr/>
            </p:nvSpPr>
            <p:spPr>
              <a:xfrm>
                <a:off x="684360" y="3860640"/>
                <a:ext cx="367344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i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rad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Object 7"/>
              <p:cNvSpPr txBox="1"/>
              <p:nvPr/>
            </p:nvSpPr>
            <p:spPr>
              <a:xfrm>
                <a:off x="395280" y="5661000"/>
                <a:ext cx="33544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     is  a  divergent  seri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Object 8"/>
              <p:cNvSpPr txBox="1"/>
              <p:nvPr/>
            </p:nvSpPr>
            <p:spPr>
              <a:xfrm>
                <a:off x="4016520" y="5780160"/>
                <a:ext cx="4011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 as        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Oval 28"/>
          <p:cNvSpPr/>
          <p:nvPr/>
        </p:nvSpPr>
        <p:spPr>
          <a:xfrm>
            <a:off x="2052720" y="4653000"/>
            <a:ext cx="287280" cy="216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83" name="AutoShape 29"/>
          <p:cNvSpPr/>
          <p:nvPr/>
        </p:nvSpPr>
        <p:spPr>
          <a:xfrm>
            <a:off x="538200" y="3860640"/>
            <a:ext cx="4105080" cy="1513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D27C-ACAD-4D05-A408-3AAE3D95017C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yesian framewor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e could design an optimal classifier if we knew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(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: prio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) : class-conditional densiti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nfortunately, we rarely have this complete information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a classifier based on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et of labeled training samples (supervised learning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sume priors are know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ed sufficient no. of training samples for estimating class-conditional densities, especially when the dimensionality of the feature space is larg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Verdana"/>
              </a:rPr>
              <a:t>m labeled training samples are avail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2"/>
              <p:cNvSpPr txBox="1"/>
              <p:nvPr/>
            </p:nvSpPr>
            <p:spPr>
              <a:xfrm>
                <a:off x="684360" y="3284640"/>
                <a:ext cx="5584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cide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f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Object 3"/>
              <p:cNvSpPr txBox="1"/>
              <p:nvPr/>
            </p:nvSpPr>
            <p:spPr>
              <a:xfrm>
                <a:off x="684360" y="3860640"/>
                <a:ext cx="7470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888" name="Object 4"/>
          <p:cNvGraphicFramePr/>
          <p:nvPr/>
        </p:nvGraphicFramePr>
        <p:xfrm>
          <a:off x="907920" y="1565280"/>
          <a:ext cx="652176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7920" y="1565280"/>
                    <a:ext cx="6521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0" name="Object 5"/>
              <p:cNvSpPr txBox="1"/>
              <p:nvPr/>
            </p:nvSpPr>
            <p:spPr>
              <a:xfrm>
                <a:off x="755640" y="4932360"/>
                <a:ext cx="27925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t 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μ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1" name="Text Box 12"/>
          <p:cNvSpPr/>
          <p:nvPr/>
        </p:nvSpPr>
        <p:spPr>
          <a:xfrm>
            <a:off x="3059280" y="2421000"/>
            <a:ext cx="33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eaeaea"/>
                </a:solidFill>
                <a:uFillTx/>
                <a:latin typeface="Arial Narrow"/>
              </a:rPr>
              <a:t>POOLED ESTIMAT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92" name="Text Box 13"/>
          <p:cNvSpPr/>
          <p:nvPr/>
        </p:nvSpPr>
        <p:spPr>
          <a:xfrm>
            <a:off x="611280" y="2781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eaeaea"/>
                </a:solidFill>
                <a:uFillTx/>
                <a:latin typeface="Arial Narrow"/>
              </a:rPr>
              <a:t>Plug-in decision rule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6"/>
              <p:cNvSpPr txBox="1"/>
              <p:nvPr/>
            </p:nvSpPr>
            <p:spPr>
              <a:xfrm>
                <a:off x="1787400" y="4375080"/>
                <a:ext cx="4800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due to symmetr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Object 7"/>
              <p:cNvSpPr txBox="1"/>
              <p:nvPr/>
            </p:nvSpPr>
            <p:spPr>
              <a:xfrm>
                <a:off x="755640" y="5759280"/>
                <a:ext cx="5584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t is difficult to computer the distribution of 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5" name="Line 18"/>
          <p:cNvSpPr/>
          <p:nvPr/>
        </p:nvSpPr>
        <p:spPr>
          <a:xfrm>
            <a:off x="2124000" y="4869000"/>
            <a:ext cx="230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7" name="Object 2"/>
              <p:cNvSpPr txBox="1"/>
              <p:nvPr/>
            </p:nvSpPr>
            <p:spPr>
              <a:xfrm>
                <a:off x="3995640" y="1341360"/>
                <a:ext cx="3351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Object 3"/>
              <p:cNvSpPr txBox="1"/>
              <p:nvPr/>
            </p:nvSpPr>
            <p:spPr>
              <a:xfrm>
                <a:off x="1042920" y="2900520"/>
                <a:ext cx="591336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</m:rad>
                          </m:den>
                        </m:f>
                        <m:r>
                          <m:t xml:space="preserve">≥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z</m:t>
                                    </m:r>
                                  </m:e>
                                </m:d>
                              </m:e>
                            </m:rad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Object 4"/>
              <p:cNvSpPr txBox="1"/>
              <p:nvPr/>
            </p:nvSpPr>
            <p:spPr>
              <a:xfrm>
                <a:off x="1103400" y="3714840"/>
                <a:ext cx="282096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γ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t xml:space="preserve">∞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d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Object 5"/>
              <p:cNvSpPr txBox="1"/>
              <p:nvPr/>
            </p:nvSpPr>
            <p:spPr>
              <a:xfrm>
                <a:off x="1092240" y="2133720"/>
                <a:ext cx="4416480" cy="77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z</m:t>
                        </m:r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,1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tandard Norma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Object 6"/>
              <p:cNvSpPr txBox="1"/>
              <p:nvPr/>
            </p:nvSpPr>
            <p:spPr>
              <a:xfrm>
                <a:off x="1112760" y="1341360"/>
                <a:ext cx="17305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Object 7"/>
              <p:cNvSpPr txBox="1"/>
              <p:nvPr/>
            </p:nvSpPr>
            <p:spPr>
              <a:xfrm>
                <a:off x="4349880" y="4044960"/>
                <a:ext cx="389412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c</m:t>
                                    </m:r>
                                  </m:den>
                                </m:f>
                              </m:e>
                            </m:d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d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i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m</m:t>
                                    </m:r>
                                  </m:den>
                                </m:f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Object 8"/>
              <p:cNvSpPr txBox="1"/>
              <p:nvPr/>
            </p:nvSpPr>
            <p:spPr>
              <a:xfrm>
                <a:off x="1089000" y="5013360"/>
                <a:ext cx="13953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Object 9"/>
              <p:cNvSpPr txBox="1"/>
              <p:nvPr/>
            </p:nvSpPr>
            <p:spPr>
              <a:xfrm>
                <a:off x="1042920" y="5589720"/>
                <a:ext cx="23846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5" name="Oval 22"/>
          <p:cNvSpPr/>
          <p:nvPr/>
        </p:nvSpPr>
        <p:spPr>
          <a:xfrm>
            <a:off x="7740720" y="4653000"/>
            <a:ext cx="503280" cy="6476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906" name="Picture 23" descr=""/>
          <p:cNvPicPr/>
          <p:nvPr/>
        </p:nvPicPr>
        <p:blipFill>
          <a:blip r:embed="rId1"/>
          <a:stretch/>
        </p:blipFill>
        <p:spPr>
          <a:xfrm>
            <a:off x="7094520" y="2276640"/>
            <a:ext cx="1725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Verdana"/>
              </a:rPr>
              <a:t>Case 2: Mean Values Unknow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8" name="Picture 4" descr=""/>
          <p:cNvPicPr/>
          <p:nvPr/>
        </p:nvPicPr>
        <p:blipFill>
          <a:blip r:embed="rId1"/>
          <a:stretch/>
        </p:blipFill>
        <p:spPr>
          <a:xfrm>
            <a:off x="2289240" y="1143000"/>
            <a:ext cx="4511520" cy="55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, Chapter 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122-D149-45F4-9D69-701BD21F4E53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Component Analysis and Discriminants</a:t>
            </a:r>
            <a:br>
              <a:rPr sz="2800"/>
            </a:br>
            <a:r>
              <a:rPr b="0" lang="en-US" sz="28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mbine features in order to reduce the dimension of the feature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near combinations are simple to compute and tracta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oject high dimensional data onto a lower dimensional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wo classical approaches for finding “optimal” linear transform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CA (Principal Component Analysis) “Projection that best 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represent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he data in a least- square sens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DA (Multiple Discriminant Analysis) “Projection that best 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separates</a:t>
            </a:r>
            <a:r>
              <a:rPr b="0" lang="en-US" sz="2400" spc="-1" strike="noStrike">
                <a:solidFill>
                  <a:srgbClr val="be12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e data in a least-squares sense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8214840" y="661356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 Narrow"/>
              </a:rPr>
              <a:t>8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3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4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5634-F1EF-44FF-8C2B-B5E1E470002A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ption about the problem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rametric model of P(x |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 is available</a:t>
            </a: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ssume P(x |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 is multivariate Gaussian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aracterized by 2 parameter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arameter estimation techniqu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ximum-Likelihood (ML) and Bayesian estim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sults of the two procedures are nearly identical, but there is a subtle differe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8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09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558B-6C08-4C9B-A731-F5822201D613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-609480" y="579240"/>
            <a:ext cx="9601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ML estimation parameters are assumed to be fixed but unknown! Bayesian parameter estimation procedure, by its nature, utilizes whate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or informatio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is available about the unknown parame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LE: Best parameters are obtained by maximizing the probability of obtaining the samples observ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yesian methods view the parameters as random variables having some known prior distribution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ow do we know the priors?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 either approach, we use P(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x) for our classification rule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3894-0B18-4014-93B4-764CC9992D8F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78483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ximum-Likelihood Esti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as good convergence properties as the sample size increases;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imated parameter value approaches the true value as n increas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impler than any other alternative techniqu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0000"/>
              <a:buFont typeface="Zapf Dingba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General princip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ssume we have c classes an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~ N(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P (x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, wh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Object 4"/>
              <p:cNvSpPr txBox="1"/>
              <p:nvPr/>
            </p:nvSpPr>
            <p:spPr>
              <a:xfrm>
                <a:off x="609480" y="4495680"/>
                <a:ext cx="81536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,cov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Text Box 5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1066680" y="54957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Use class 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 Narrow"/>
              </a:rPr>
              <a:t>j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samples to estimate class 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Arial Narrow"/>
              </a:rPr>
              <a:t>j 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0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1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DD68-2120-434A-ABEC-3ECD7C3F19D8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9296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se the information in training samples to estimate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…,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;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(i = 1, 2, …, c) is associated with the ith category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uppose sample set D contains 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id sample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…, x</a:t>
            </a:r>
            <a:r>
              <a:rPr b="0" lang="en-US" sz="2400" spc="-1" strike="noStrike" baseline="-25000">
                <a:solidFill>
                  <a:srgbClr val="ffff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60000"/>
              <a:buFont typeface="Zapf Dingba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L estimate of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is, by definition, the value     that  maximizes P(D |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is the value of 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hat best agrees with the actually observed training samples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4"/>
              <p:cNvSpPr txBox="1"/>
              <p:nvPr/>
            </p:nvSpPr>
            <p:spPr>
              <a:xfrm>
                <a:off x="838080" y="2743200"/>
                <a:ext cx="815364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is called the likelihood of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set of sample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Object 6"/>
              <p:cNvSpPr txBox="1"/>
              <p:nvPr/>
            </p:nvSpPr>
            <p:spPr>
              <a:xfrm>
                <a:off x="7048440" y="4191120"/>
                <a:ext cx="266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725" name="Text Box 7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Date Placeholder 3"/>
          <p:cNvSpPr/>
          <p:nvPr/>
        </p:nvSpPr>
        <p:spPr>
          <a:xfrm>
            <a:off x="762120" y="640080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7" name="Footer Placeholder 4"/>
          <p:cNvSpPr/>
          <p:nvPr/>
        </p:nvSpPr>
        <p:spPr>
          <a:xfrm>
            <a:off x="3962520" y="6477120"/>
            <a:ext cx="4647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aeaea"/>
                </a:solidFill>
                <a:latin typeface="Arial"/>
              </a:rPr>
              <a:t>Pattern Classification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, Chapter 3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8B0B-667C-45EB-8049-A5781DD180E8}" type="slidenum">
              <a:rPr b="1" lang="en-US" sz="18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729" name="Picture 3" descr=""/>
          <p:cNvPicPr/>
          <p:nvPr/>
        </p:nvPicPr>
        <p:blipFill>
          <a:blip r:embed="rId1"/>
          <a:stretch/>
        </p:blipFill>
        <p:spPr>
          <a:xfrm>
            <a:off x="762120" y="0"/>
            <a:ext cx="746748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Text Box 4"/>
          <p:cNvSpPr/>
          <p:nvPr/>
        </p:nvSpPr>
        <p:spPr>
          <a:xfrm>
            <a:off x="8281800" y="661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8T19:39:16Z</dcterms:created>
  <dc:creator>Djamel Bouchaffra</dc:creator>
  <dc:description/>
  <dc:language>en-US</dc:language>
  <cp:lastModifiedBy> </cp:lastModifiedBy>
  <cp:lastPrinted>2009-04-22T19:24:48Z</cp:lastPrinted>
  <dcterms:modified xsi:type="dcterms:W3CDTF">2013-01-29T14:15:08Z</dcterms:modified>
  <cp:revision>138</cp:revision>
  <dc:subject/>
  <dc:title>PowerPoint Presentation</dc:title>
</cp:coreProperties>
</file>