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9.pct" ContentType="image/x-pict"/>
  <Override PartName="/ppt/media/image13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6.pct" ContentType="image/x-pict"/>
  <Override PartName="/ppt/media/image11.pct" ContentType="image/x-pict"/>
  <Override PartName="/ppt/media/image10.png" ContentType="image/png"/>
  <Override PartName="/ppt/media/image8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8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670607AD-5928-4EEC-AB1A-5A7AF0C20D8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havio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al models are used to describe the overall behaviour of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 of behavioural model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processing models that show how data is processed as it moves through the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machine models that show the systems response to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odels show different perspectives so both of them are required to describe the system’s behavi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-processing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diagrams (DFDs) may be used to model the system’s data proces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show the processing steps as data flows through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Ds are an intrinsic part of many analysis meth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nd intuitive notation that customers can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end-to-end processing of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der processing DF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45820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0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flow dia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5000"/>
          </a:bodyPr>
          <a:p>
            <a:pPr marL="464400" indent="-46440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Ds model the system from a functional perspe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and documenting how the data associated with a process is helpful to develop an overall understanding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diagrams may also be used in showing the data exchange between a system and other systems in its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ulin pump DF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e machine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del the behaviour of the system in response to external and internal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how the system’s responses to stimuli so are often used for modelling real-tim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machine models show system states as nodes and events as arcs between these nodes. When an event occurs, the system moves from one state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charts are an integral part of the UML and are used to represent state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echar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the decomposition of a model into sub-models (see following slid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ief description of the actions is included following the ‘do’ in each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complemented by tables describing the states and the stimu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77724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752480"/>
            <a:ext cx="8458200" cy="419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state descri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2057400"/>
          <a:ext cx="8229600" cy="38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22960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stimu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1828800"/>
          <a:ext cx="8229600" cy="38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22960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why the context of a system should be modelled as part of the R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behavioural modelling, data modelling and object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some of the notations used in the Unified Modeling Language (UM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how how CASE workbenches support system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ope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523880"/>
            <a:ext cx="739116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antic data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describe the logical structure of data processed by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ntity-relation-attribute  model sets out the entities in the system, the relationships between these entities and the entity 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ly used in database design. Can readily be implemented using relational datab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fic notation provided in the UML but objects and associations can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rary semantic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676520"/>
            <a:ext cx="58672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403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dictiona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dictionaries are lists of all of the names used in the system models. Descriptions of the entities, relationships and attributes are also inclu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name management and avoid dupl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e of organisational knowledge linking analysis, design and implemen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CASE workbenches support data diction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dictionary e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828800"/>
          <a:ext cx="81532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532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odels describe the system in terms of object classes and their associ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class is an abstraction over a set of objects with common attributes and the services (operations) provided by each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object models may be p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eritance mode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egation mode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mod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ways of reflecting the real-world entities manipulat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abstract entities are more difficult to model using this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class identification is recognised as a difficult process requiring a deep understanding of the application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classes reflecting domain entities are reusable acros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heritance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e the domain object classes into a hierarc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 at the top of the hierarchy reflect the common features of all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classes inherit their attributes and services from one or more super-classes. these may then be specialised as necess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hierarchy design can be a difficult process if duplication in different branches is to be avoi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 and the UM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5000"/>
          </a:bodyPr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ML is a standard representation devised by the developers of widely used object-oriented analysis and design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as become an effective standard for object-oriented model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classes are rectangles with the name at the top, attributes in the middle section and operations in the bottom sec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ships between object classes (known as associations) are shown as lines linking objec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eritance is referred to as generalisation and is shown ‘upwards’ rather than ‘downwards’ in a hierarch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rary class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676520"/>
            <a:ext cx="7315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workbe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r class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600200"/>
            <a:ext cx="71629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inheriting the attributes and services from a single parent class, a system which supports multiple inheritance allows object classes to inherit from several super-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an lead to semantic conflicts where attributes/services with the same name in different super-classes have different sema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inheritance makes class hierarchy reorganisation more comple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676520"/>
            <a:ext cx="716292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952880" cy="41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aggre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ggregation model shows how classes that are collections are composed of other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gation models are similar to the part-of relationship in semantic data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aggre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600200"/>
            <a:ext cx="75438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40080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behaviour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havioural model shows the interactions between objects to produce some particular system behaviour that is specified as a use-c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diagrams (or collaboration diagrams) in the UML are used to model interaction between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sue of electronic i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600200"/>
            <a:ext cx="70866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410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ed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d methods incorporate system modelling as an inherent part of the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 define a set of models, a process for deriving these models and rules and guidelines that should apply to the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tools support system modelling as part of a structured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hod weakn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model non-functional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usually include information about whether a method is appropriate for a given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y produce too much docum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models are sometimes too detailed and difficult for users to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workbe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herent set of tools that is designed to support related software process activities such as analysis, design or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and design workbenches support system modelling during both requirements engineering and system desig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rkbenches may support a specific design method or may provide support for a creating several different types of system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modelling helps the analyst to understand the functionality of the system and models are used to communicate with custom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models present the system from different persp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perspective showing the system’s context or environ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ural perspective showing the behaviour of the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al perspective showing the system or data archit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832356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nalysis and design workben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676520"/>
            <a:ext cx="76960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40080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lysis workbench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ram ed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analysis and check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sitory and associated query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ctio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definition and gener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defini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/export trans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gener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odel is an abstract system view. Complementary types of model provide different system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models show the position of a system in its environment with other systems and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models may be used to model the data processing in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chine models model the system’s behaviour in response to internal or external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data models describe the logical structure of data which is imported to or exported by th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odels describe logical system entities, their classification and aggre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models show the interactions between actors and the system objects that they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d methods provide a framework for developing system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processing model showing how the data is processed at different st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ion model showing how entities are composed of other ent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model showing principal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model showing how entities have common character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us/response model showing the system’s reaction to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x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models are used to illustrate the operational context of a system - they show what lies outside the system bound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and organisational concerns may affect the decision on where to position system bound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models show the system and its relationship with other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text of an AT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77724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400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odels show the overall process and the processes that are supported by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models may be used to show the processes and the flow of information from one process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pment procurement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523880"/>
            <a:ext cx="8458200" cy="4953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05360" cy="471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7T13:19:17Z</dcterms:created>
  <dc:creator/>
  <dc:description/>
  <dc:language>en-US</dc:language>
  <cp:lastModifiedBy>Ian Sommerville</cp:lastModifiedBy>
  <cp:lastPrinted>2004-04-25T20:13:45Z</cp:lastPrinted>
  <dcterms:modified xsi:type="dcterms:W3CDTF">2004-04-25T20:14:05Z</dcterms:modified>
  <cp:revision>31</cp:revision>
  <dc:subject/>
  <dc:title>System models</dc:title>
</cp:coreProperties>
</file>