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ct" ContentType="image/x-pict"/>
  <Override PartName="/ppt/media/image9.pct" ContentType="image/x-pict"/>
  <Override PartName="/ppt/media/image13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7.png" ContentType="image/png"/>
  <Override PartName="/ppt/media/image5.pct" ContentType="image/x-pict"/>
  <Override PartName="/ppt/media/image6.pct" ContentType="image/x-pict"/>
  <Override PartName="/ppt/media/image11.pct" ContentType="image/x-pict"/>
  <Override PartName="/ppt/media/image10.png" ContentType="image/png"/>
  <Override PartName="/ppt/media/image8.pct" ContentType="image/x-pi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630988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3834360"/>
            <a:ext cx="7804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8960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29520" y="167652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8320" y="167652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383436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29520" y="383436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8320" y="383436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69960" y="306000"/>
            <a:ext cx="780408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8960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3834360"/>
            <a:ext cx="7804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560" y="1371600"/>
            <a:ext cx="9118440" cy="46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49360" indent="-241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809720" indent="-239760">
              <a:spcBef>
                <a:spcPts val="700"/>
              </a:spcBef>
              <a:buClr>
                <a:srgbClr val="063de8"/>
              </a:buClr>
              <a:buSzPct val="65000"/>
              <a:buFont typeface="Monotype Sorts" charset="2"/>
              <a:buChar char="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70080" indent="-239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170080" indent="-239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170080" indent="-239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68440" y="6523200"/>
            <a:ext cx="815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6800" bIns="46800" anchor="t">
            <a:spAutoFit/>
          </a:bodyPr>
          <a:p>
            <a:pPr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©Ian Sommerville 2004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Software Engineering, 7th edition. Chapter 8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                        Slide  </a:t>
            </a:r>
            <a:fld id="{54AEA86C-BB8A-4524-9BE0-612B17A49DF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stem mode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3733920"/>
            <a:ext cx="914400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havioural mode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havioural models are used to describe the overall behaviour of a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types of behavioural model a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processing models that show how data is processed as it moves through the system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e machine models that show the systems response to ev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models show different perspectives so both of them are required to describe the system’s behaviou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ata-processing mode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flow diagrams (DFDs) may be used to model the system’s data process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show the processing steps as data flows through a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FDs are an intrinsic part of many analysis metho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ple and intuitive notation that customers can understa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w end-to-end processing of da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der processing DF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458200" cy="4114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7620120" cy="309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ata flow diagra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 fontScale="95000"/>
          </a:bodyPr>
          <a:p>
            <a:pPr marL="464400" indent="-46440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FDs model the system from a functional perspecti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4400" indent="-46440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cking and documenting how the data associated with a process is helpful to develop an overall understanding of the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4400" indent="-46440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flow diagrams may also be used in showing the data exchange between a system and other systems in its environ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sulin pump DF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676520"/>
            <a:ext cx="8458200" cy="4647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90720" y="2286000"/>
            <a:ext cx="7086600" cy="311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ate machine mode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odel the behaviour of the system in response to external and internal ev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show the system’s responses to stimuli so are often used for modelling real-time syste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e machine models show system states as nodes and events as arcs between these nodes. When an event occurs, the system moves from one state to anoth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echarts are an integral part of the UML and are used to represent state machine mode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atechar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 the decomposition of a model into sub-models (see following slide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brief description of the actions is included following the ‘do’ in each st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be complemented by tables describing the states and the stimul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icrowave oven mod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1676520"/>
            <a:ext cx="7772400" cy="4647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78204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04920" y="1752480"/>
            <a:ext cx="8458200" cy="4191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icrowave oven state descrip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57200" y="2057400"/>
          <a:ext cx="8229600" cy="381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057400"/>
                    <a:ext cx="8229600" cy="38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28600" y="152388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icrowave oven stimul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04920" y="1828800"/>
          <a:ext cx="8229600" cy="380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828800"/>
                    <a:ext cx="8229600" cy="380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explain why the context of a system should be modelled as part of the RE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describe behavioural modelling, data modelling and object model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introduce some of the notations used in the Unified Modeling Language (UM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show how CASE workbenches support system model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icrowave oven oper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90720" y="1523880"/>
            <a:ext cx="739116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57400" y="1752480"/>
            <a:ext cx="518148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mantic data mode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to describe the logical structure of data processed by the syst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ntity-relation-attribute  model sets out the entities in the system, the relationships between these entities and the entity attribu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dely used in database design. Can readily be implemented using relational databa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pecific notation provided in the UML but objects and associations can be us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brary semantic mod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1676520"/>
            <a:ext cx="5867280" cy="4647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414036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ata dictionar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dictionaries are lists of all of the names used in the system models. Descriptions of the entities, relationships and attributes are also includ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t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rt name management and avoid duplication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ore of organisational knowledge linking analysis, design and implementation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y CASE workbenches support data dictionar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8088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ata dictionary entr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33520" y="1828800"/>
          <a:ext cx="8153280" cy="4062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828800"/>
                    <a:ext cx="8153280" cy="40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 mode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 models describe the system in terms of object classes and their associ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object class is an abstraction over a set of objects with common attributes and the services (operations) provided by each objec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ous object models may be produc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heritance model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ggregation model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action mode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 mode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ural ways of reflecting the real-world entities manipulated by the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abstract entities are more difficult to model using this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 class identification is recognised as a difficult process requiring a deep understanding of the application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 classes reflecting domain entities are reusable across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heritance mode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ganise the domain object classes into a hierarch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es at the top of the hierarchy reflect the common features of all clas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 classes inherit their attributes and services from one or more super-classes. these may then be specialised as necessa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 hierarchy design can be a difficult process if duplication in different branches is to be avoid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 models and the UM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 fontScale="95000"/>
          </a:bodyPr>
          <a:p>
            <a:pPr marL="464400" indent="-464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UML is a standard representation devised by the developers of widely used object-oriented analysis and design metho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4400" indent="-464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has become an effective standard for object-oriented modell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4400" indent="-464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4280" indent="-455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ject classes are rectangles with the name at the top, attributes in the middle section and operations in the bottom section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34280" indent="-455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ationships between object classes (known as associations) are shown as lines linking object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34280" indent="-455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heritance is referred to as generalisation and is shown ‘upwards’ rather than ‘downwards’ in a hierarch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brary class hierarch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1676520"/>
            <a:ext cx="7315200" cy="4647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981080" y="1752480"/>
            <a:ext cx="4876920" cy="44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pics cover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ext mod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havioural mod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od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 mod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E workbenc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er class hierarch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43000" y="1600200"/>
            <a:ext cx="716292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81080" y="1752480"/>
            <a:ext cx="5257800" cy="419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ultiple inherita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ther than inheriting the attributes and services from a single parent class, a system which supports multiple inheritance allows object classes to inherit from several super-clas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can lead to semantic conflicts where attributes/services with the same name in different super-classes have different semantic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e inheritance makes class hierarchy reorganisation more complex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ultiple inherita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1676520"/>
            <a:ext cx="7162920" cy="4647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057400" y="1981080"/>
            <a:ext cx="4952880" cy="418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 aggreg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aggregation model shows how classes that are collections are composed of other clas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gregation models are similar to the part-of relationship in semantic data mode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 aggreg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600200"/>
            <a:ext cx="75438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6400800" cy="424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 behaviour modell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behavioural model shows the interactions between objects to produce some particular system behaviour that is specified as a use-ca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quence diagrams (or collaboration diagrams) in the UML are used to model interaction between objec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ssue of electronic ite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1600200"/>
            <a:ext cx="70866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5410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ructured metho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uctured methods incorporate system modelling as an inherent part of the meth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 define a set of models, a process for deriving these models and rules and guidelines that should apply to the mode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E tools support system modelling as part of a structured meth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thod weaknes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do not model non-functional system requir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do not usually include information about whether a method is appropriate for a given probl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ay produce too much document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ystem models are sometimes too detailed and difficult for users to understa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SE workbench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oherent set of tools that is designed to support related software process activities such as analysis, design or test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ysis and design workbenches support system modelling during both requirements engineering and system desig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workbenches may support a specific design method or may provide support for a creating several different types of system mod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stem modell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tem modelling helps the analyst to understand the functionality of the system and models are used to communicate with custom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erent models present the system from different perspec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ternal perspective showing the system’s context or environmen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havioural perspective showing the behaviour of the system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uctural perspective showing the system or data architect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832356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 analysis and design workbenc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3520" y="1676520"/>
            <a:ext cx="7696080" cy="4647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6400800" cy="39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alysis workbench compon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gram edi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l analysis and checking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ository and associated query langu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dictio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ort definition and generatio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s definitio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ort/export transl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de generatio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y poi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439920" indent="-43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odel is an abstract system view. Complementary types of model provide different system inform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9920" indent="-43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ext models show the position of a system in its environment with other systems and proces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9920" indent="-43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flow models may be used to model the data processing in a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9920" indent="-43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 machine models model the system’s behaviour in response to internal or external ev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y poi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78800" indent="-478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mantic data models describe the logical structure of data which is imported to or exported by the syste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78800" indent="-478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 models describe logical system entities, their classification and aggreg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78800" indent="-478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quence models show the interactions between actors and the system objects that they 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78800" indent="-478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uctured methods provide a framework for developing system mode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del typ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processing model showing how the data is processed at different stag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osition model showing how entities are composed of other enti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chitectural model showing principal sub-syste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ification model showing how entities have common characteristic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imulus/response model showing the system’s reaction to ev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ext mode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ext models are used to illustrate the operational context of a system - they show what lies outside the system bounda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cial and organisational concerns may affect the decision on where to position system bounda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chitectural models show the system and its relationship with other syste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ontext of an ATM syst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1600200"/>
            <a:ext cx="77724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6400800" cy="39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cess mode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 models show the overall process and the processes that are supported by the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flow models may be used to show the processes and the flow of information from one process to ano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quipment procurement pro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523880"/>
            <a:ext cx="8458200" cy="4953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6705360" cy="4718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7T13:19:17Z</dcterms:created>
  <dc:creator/>
  <dc:description/>
  <dc:language>en-US</dc:language>
  <cp:lastModifiedBy>Ian Sommerville</cp:lastModifiedBy>
  <cp:lastPrinted>2004-04-25T20:13:45Z</cp:lastPrinted>
  <dcterms:modified xsi:type="dcterms:W3CDTF">2004-04-25T20:14:05Z</dcterms:modified>
  <cp:revision>31</cp:revision>
  <dc:subject/>
  <dc:title>System models</dc:title>
</cp:coreProperties>
</file>