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7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D30360B7-F13C-486B-A3F7-810A1AC52A79}" type="slidenum">
              <a:rPr b="0" lang="ar-SA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Engineer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of requirements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 don’t know what they really w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 express requirements in their own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takeholders may have conflicting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al and political factors may influence the system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ments change during the analysis process. New stakeholders may emerge and the business environme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quirements spi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05240" cy="44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ng with stakeholders to discover their requirements. Domain requirements are also discovered at this s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classification and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related requirements and organises them into coherent clus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sation and nego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sing requirements and resolving requirements confli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doc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are documented and input into the next round of the spi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dis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athering information about the proposed and existing systems and distilling the user and system requirements from thi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nformation include documentation, system stakeholders and the specifications of similar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 stakehol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s of other ba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administra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and software maintenance engin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regul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w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ints are a way of structuring the requirements to represent the perspectives of different stakeholders. Stakeholders may be classified under different view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ulti-perspective analysis is important as there is no single correct way to analyse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viewpoi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or 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or other systems that interact directly with the system. In an ATM, the customer’s and the account database are interactor V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 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keholders who do not use the system themselves but who influence the requirements. In an ATM, management and security staff are indirect view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characteristics and constraints that influence the requirements. In an ATM, an example would be standards for inter-bank commun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wpoint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viewpoints u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s and receivers of system servi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that interact directly with the system being specifi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ons and standard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business and non-functional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s who have to develop and maintain the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other business view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SYS viewpoint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ormal or informal interviewing, the RE team puts questions to stakeholders about the system that they use and the system to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 of int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interviews where a pre-defined set of questions are answ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nterviews where there is no pre-defined agenda and a range of issues are explored with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the principal requirements engineering activities and their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techniques for requirements elicita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requirements validation and the role of requirements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cuss the role of requirements management in support of other requirements engineerin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iews in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 a mix of closed and open-ended interview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 are good for getting an overall understanding of what stakeholders do and how they might interact with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 are not good for understanding domain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engineers cannot understand specific domain terminolog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omain knowledge is so familiar that people find it hard to articulate or think that it isn’t worth articul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 interview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ers should be open-minded, willing to listen to stakeholders and should not have pre-conceived ideas about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hould prompt the interviewee with a question or a proposal and should not simply expect them to respond to a question such as ‘what do you want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s are real-life examples of how a system can be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hould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the starting situ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the normal flow of ev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what can go wro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other concurrent activiti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the state when the scenario fin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SYS scenario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458200" cy="350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2057400"/>
          <a:ext cx="8076960" cy="27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807696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SYS scenario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82880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2057400"/>
          <a:ext cx="7924680" cy="29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92468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-cases are a scenario based technique in the UML which identify the actors in an interaction and which describe the interaction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use cases should describe all possible interactions with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diagrams may be used to add detail to use-cases by showing the sequence of event processing in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cle printing use-c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696080" cy="3352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60195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SYS use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752480"/>
            <a:ext cx="63244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97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cle pri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242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article sequ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1500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ility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elicita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and organisational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systems are used in a social and organisational context. This can influence or even dominate the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d organisational factors are not a single viewpoint but are influences on all view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analysts must be sensitive to these factors but currently no systematic way to tackle their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al scientists spends a considerable time observing and analysing how people actually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do not have to explain or articulate their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nd organisational factors of importance may be obser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graphic studies have shown that work is usually richer and more complex than suggested by simple system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ed ethn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 a project studying the air traffic contro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s ethnography with proto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development results in unanswered questions which focus the ethnographic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 with ethnography is that it studies existing practices which may have some historical basis which is no longer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ography and prototy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133720"/>
            <a:ext cx="8458200" cy="3352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5438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pe of ethn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that are derived from the way that people actually work rather than the way I which process definitions suggest that they ought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that are derived from cooperation and awareness of other people’s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valid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demonstrating that the requirements define the system that the customer really w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error costs are high so validation is very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ing a requirements error after delivery may cost up to 100 times the cost of fixing an implementation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che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ity. Does the system provide the functions which best support the customer’s nee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. Are there any requirements conflic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ness. Are all functions required by the customer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sm. Can the requirements be implemented given available budget and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ability. Can the requirements be check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validation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manual analysis of the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n executable model of the system to check requirements. Covered in Chapter 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-cas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tests for requirements to check test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re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reviews should be held while the requirements definition is being formu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lient and contractor staff should be involved in revie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may be formal (with completed documents) or informal. Good communications between developers, customers and users can resolve problems at an early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che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ability. Is the requirement realistically test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bility. Is the requirement properly underst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ability. Is the origin of the requirement clearly st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ility. Can the requirement be changed without a large impact on other require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engineering proc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es used for RE vary widely depending on the application domain, the people involved and the organisation developing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re are a number of generic activities common to al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elicit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analys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valid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management is the process of managing changing requirements during the requirements engineering process and system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are inevitably incomplete and in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emerge during the process as business needs change and a better understanding of the system is develop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iewpoints have different requirements and these are often contradicto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ch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ority of requirements from different viewpoints changes during the development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ustomers may specify requirements from a business perspective that conflict with end-us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and technical environment of the system changes during its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752480"/>
            <a:ext cx="8076960" cy="426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24852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ing and volatile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uring requirements. Stable requirements derived from the core activity of the customer organisation. E.g. a hospital will always have doctors, nurses, etc. May be derived from domai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atile requirements. Requirements which change during development or when the system is in use. In a hospital, requirements derived from health-care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class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2057400"/>
          <a:ext cx="822960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management plan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requirements engineering process, you have to pl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iden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requirements are individually identifi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ange management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followed when analysing a requirements chan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ability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mount of information about requirements relationships that is maintain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tool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ol support required to help manage requirements chan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ability is concerned with the relationships between requirements, their sources and the system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rac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from requirements to stakeholders who proposed these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rac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between dependent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rac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from the requirements to the desig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981080"/>
            <a:ext cx="84582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raceability matri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-228600" y="2057400"/>
          <a:ext cx="9372600" cy="35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057400"/>
                    <a:ext cx="937260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tool sup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should be managed in a secure, managed data st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of change management is a workflow process whose stages can be defined and information flow between these stages partially autom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abil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retrieval of the links between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change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pply to all proposed changes to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s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analysis. Discuss requirements problem and propose chan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analysis and costing. Assess effects of change on other requirem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mplementation. Modify requirements document and other documents to reflec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676520"/>
            <a:ext cx="762012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quirements engineer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666880"/>
            <a:ext cx="8458200" cy="213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5438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engineering process includes a feasibility study, requirements elicitation and analysis, requirements specification and requirements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elicitation and analysis is iterative involving domain understanding, requirements collection, classification, structuring,  prioritisation and valid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have multiple stakeholders with different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d organisation factors influence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validation is concerned with checks for validity, consistency, completeness, realism and verif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hanges inevitably lead to chang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management includes planning and chang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214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asibility stu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asibility study decides whether or not the proposed system is worthw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ort focused study that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ystem contributes to organisational objectiv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ystem can be engineered using current technology and within budg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ystem can be integrated with other systems that ar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asibility study implem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nformation assessment (what is required), information collection and report wri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for people in the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the system wasn’t implemen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current process probl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 proposed system hel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ill be the integration probl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ew technology needed? What skil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facilities must be supported by the proposed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citation and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requirements elicitation or requirements dis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technical staff working with customers to find out about the application domain, the services that the system should provide and the system’s operational constra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involve end-users, managers, engineers involved in maintenance, domain experts, trade unions, etc. These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7T10:52:51Z</dcterms:created>
  <dc:creator/>
  <dc:description/>
  <cp:keywords/>
  <dc:language>en-US</dc:language>
  <cp:lastModifiedBy>ghassan</cp:lastModifiedBy>
  <cp:lastPrinted>2009-04-22T19:24:48Z</cp:lastPrinted>
  <dcterms:modified xsi:type="dcterms:W3CDTF">2009-12-31T16:17:33Z</dcterms:modified>
  <cp:revision>39</cp:revision>
  <dc:subject/>
  <dc:title>Requirements Engineering Processes</dc:title>
</cp:coreProperties>
</file>