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630988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9960" y="306000"/>
            <a:ext cx="78040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911844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8440" y="6523200"/>
            <a:ext cx="815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7</a:t>
            </a: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05A3A4AF-B3DD-4CD8-8A2F-92DEC017F2C4}" type="slidenum">
              <a:rPr b="0" lang="ar-SA" sz="13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13336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Engineering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s of requirements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keholders don’t know what they really w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keholders express requirements in their own te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stakeholders may have conflicting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ional and political factors may influence the system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quirements change during the analysis process. New stakeholders may emerge and the business environme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822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quirements spir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305240" cy="44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 activ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dis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ng with stakeholders to discover their requirements. Domain requirements are also discovered at this st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classification and organi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s related requirements and organises them into coherent clus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sation and negot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sing requirements and resolving requirements confli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docu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are documented and input into the next round of the spi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discove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of gathering information about the proposed and existing systems and distilling the user and system requirements from this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of information include documentation, system stakeholders and the specifications of similar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M stakehold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ves of other ba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 manag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 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 administrato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manag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depar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and software maintenance engine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regul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ew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points are a way of structuring the requirements to represent the perspectives of different stakeholders. Stakeholders may be classified under different viewpoi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ulti-perspective analysis is important as there is no single correct way to analyse system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viewpoi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or view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or other systems that interact directly with the system. In an ATM, the customer’s and the account database are interactor V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rect view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keholders who do not use the system themselves but who influence the requirements. In an ATM, management and security staff are indirect viewpoi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 view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 characteristics and constraints that influence the requirements. In an ATM, an example would be standards for inter-bank commun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ewpoint ident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viewpoints u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rs and receivers of system servic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that interact directly with the system being specifie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ions and standard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 of business and non-functional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s who have to develop and maintain the system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and other business view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SYS viewpoint hierarc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07696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view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ormal or informal interviewing, the RE team puts questions to stakeholders about the system that they use and the system to be develop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 of int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interviews where a pre-defined set of questions are answe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interviews where there is no pre-defined agenda and a range of issues are explored with stakehol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scribe the principal requirements engineering activities and their relation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ntroduce techniques for requirements elicitation and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scribe requirements validation and the role of requirements re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iscuss the role of requirements management in support of other requirements engineering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views in 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ly a mix of closed and open-ended interview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s are good for getting an overall understanding of what stakeholders do and how they might interact with the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s are not good for understanding domain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engineers cannot understand specific domain terminolog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domain knowledge is so familiar that people find it hard to articulate or think that it isn’t worth articul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ive interview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ers should be open-minded, willing to listen to stakeholders and should not have pre-conceived ideas about the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hould prompt the interviewee with a question or a proposal and should not simply expect them to respond to a question such as ‘what do you want’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s are real-life examples of how a system can be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hould incl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cription of the starting situa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cription of the normal flow of event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cription of what can go wron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about other concurrent activiti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cription of the state when the scenario finish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SYS scenario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76520"/>
            <a:ext cx="8458200" cy="3504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62120" y="2057400"/>
          <a:ext cx="8076960" cy="270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807696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SYS scenario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828800"/>
            <a:ext cx="8458200" cy="3657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2057400"/>
          <a:ext cx="7924680" cy="297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924680" cy="29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-cases are a scenario based technique in the UML which identify the actors in an interaction and which describe the interaction it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of use cases should describe all possible interactions with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 diagrams may be used to add detail to use-cases by showing the sequence of event processing in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icle printing use-ca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696080" cy="3352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05120" y="3124080"/>
            <a:ext cx="601956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SYS use ca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1752480"/>
            <a:ext cx="632448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90920" y="1981080"/>
            <a:ext cx="3973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icle pri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72428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t article sequ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71500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ibility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elicitation and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vali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al and organisational fac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systems are used in a social and organisational context. This can influence or even dominate the system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and organisational factors are not a single viewpoint but are influences on all viewpoi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analysts must be sensitive to these factors but currently no systematic way to tackle their analy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nograp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ocial scientists spends a considerable time observing and analysing how people actually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do not have to explain or articulate their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and organisational factors of importance may be obser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nographic studies have shown that work is usually richer and more complex than suggested by simple system mod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cused ethnograp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in a project studying the air traffic control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s ethnography with prototy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type development results in unanswered questions which focus the ethnographic analy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lem with ethnography is that it studies existing practices which may have some historical basis which is no longer relev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nography and prototyp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2133720"/>
            <a:ext cx="8458200" cy="3352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7543800" cy="19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ope of ethnograp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that are derived from the way that people actually work rather than the way I which process definitions suggest that they ought to 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that are derived from cooperation and awareness of other people’s 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valid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ed with demonstrating that the requirements define the system that the customer really w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error costs are high so validation is very impor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ing a requirements error after delivery may cost up to 100 times the cost of fixing an implementation err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chec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ity. Does the system provide the functions which best support the customer’s need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. Are there any requirements conflic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ness. Are all functions required by the customer includ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sm. Can the requirements be implemented given available budget and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ability. Can the requirements be check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validation techniq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re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atic manual analysis of the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ty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n executable model of the system to check requirements. Covered in Chapter 1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-case gen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tests for requirements to check testabi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re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reviews should be held while the requirements definition is being formul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client and contractor staff should be involved in review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s may be formal (with completed documents) or informal. Good communications between developers, customers and users can resolve problems at an early s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 chec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ability. Is the requirement realistically testab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bility. Is the requirement properly understoo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eability. Is the origin of the requirement clearly sta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ability. Can the requirement be changed without a large impact on other requirem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quirements engineering proce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es used for RE vary widely depending on the application domain, the people involved and the organisation developing the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there are a number of generic activities common to all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elicita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analys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valida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manag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management is the process of managing changing requirements during the requirements engineering process and system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are inevitably incomplete and inconsis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quirements emerge during the process as business needs change and a better understanding of the system is develop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viewpoints have different requirements and these are often contradicto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chan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ority of requirements from different viewpoints changes during the development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ustomers may specify requirements from a business perspective that conflict with end-user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and technical environment of the system changes during its develop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ev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752480"/>
            <a:ext cx="8076960" cy="4267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6248520" cy="31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153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uring and volatile requir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uring requirements. Stable requirements derived from the core activity of the customer organisation. E.g. a hospital will always have doctors, nurses, etc. May be derived from domain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atile requirements. Requirements which change during development or when the system is in use. In a hospital, requirements derived from health-care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class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3520" y="2057400"/>
          <a:ext cx="8229600" cy="394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822960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quirements management plan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requirements engineering process, you have to pla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ident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requirements are individually identifie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hange management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 followed when analysing a requirements chang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ability poli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mount of information about requirements relationships that is maintaine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tool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ol support required to help manage requirements chang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ce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ability is concerned with the relationships between requirements, their sources and the system 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race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 from requirements to stakeholders who proposed these requirement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trace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 between dependent requirement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trace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 from the requirements to the desig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1981080"/>
            <a:ext cx="8458200" cy="403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traceability matri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-228600" y="2057400"/>
          <a:ext cx="9372600" cy="351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2057400"/>
                    <a:ext cx="937260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tool suppo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should be managed in a secure, managed data sto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of change management is a workflow process whose stages can be defined and information flow between these stages partially automa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ability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retrieval of the links between require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quirements change 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apply to all proposed changes to the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al s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analysis. Discuss requirements problem and propose chang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analysis and costing. Assess effects of change on other requirement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mplementation. Modify requirements document and other documents to reflec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676520"/>
            <a:ext cx="7620120" cy="449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quirements engineering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40080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2666880"/>
            <a:ext cx="8458200" cy="2133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480" y="3352680"/>
            <a:ext cx="75438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engineering process includes a feasibility study, requirements elicitation and analysis, requirements specification and requirements manag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elicitation and analysis is iterative involving domain understanding, requirements collection, classification, structuring,  prioritisation and valid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have multiple stakeholders with different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and organisation factors influence system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validation is concerned with checks for validity, consistency, completeness, realism and verifi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hanges inevitably lead to changing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management includes planning and change manag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enginee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2214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asibility stud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asibility study decides whether or not the proposed system is worthwh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ort focused study that che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ystem contributes to organisational objectiv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ystem can be engineered using current technology and within budge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ystem can be integrated with other systems that are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asibility study implemen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information assessment (what is required), information collection and report wri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for people in the organi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the system wasn’t implement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current process problem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ill the proposed system help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ill be the integration problem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new technology needed? What skil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facilities must be supported by the proposed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icitation and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called requirements elicitation or requirements discove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s technical staff working with customers to find out about the application domain, the services that the system should provide and the system’s operational constra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involve end-users, managers, engineers involved in maintenance, domain experts, trade unions, etc. These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7T10:52:51Z</dcterms:created>
  <dc:creator/>
  <dc:description/>
  <cp:keywords/>
  <dc:language>en-US</dc:language>
  <cp:lastModifiedBy>ghassan</cp:lastModifiedBy>
  <cp:lastPrinted>2009-04-22T19:24:48Z</cp:lastPrinted>
  <dcterms:modified xsi:type="dcterms:W3CDTF">2009-12-31T16:17:33Z</dcterms:modified>
  <cp:revision>39</cp:revision>
  <dc:subject/>
  <dc:title>Requirements Engineering Processes</dc:title>
</cp:coreProperties>
</file>