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04313" cy="68326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5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37F92D8E-D625-434F-8457-D3FE647CDB45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267080"/>
            <a:ext cx="91058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project pla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848720" cy="41148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057400"/>
          <a:ext cx="8991720" cy="35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899172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plann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project constra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itial assessments of the project paramet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project milestones and 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project has not been completed or cancelled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up project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activities according to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( for a while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ject prog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estimates of project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project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negotiate project constraints and 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 problems arise )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echnical review and possible re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pla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ject plan sets ou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esources available to the projec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work breakdow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chedule for the work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plan stru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rganis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analys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rdware and software resource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 breakdo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schedu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ing and reporting mechanis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tivity organiz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vities in a project should be organised to produce tangible outputs for management to judge progr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ileston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the end-point of a process activ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project results delivered to custom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waterfall process allows for the straightforward definition of progress mileston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09680"/>
            <a:ext cx="8610480" cy="29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lestones in the 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15328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lit project into tasks and estimate time and resources required to complete each ta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e tasks concurrently to make optima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of workfor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imize task dependencies to avoid delay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used by one task waiting for another to complet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endent on project managers intuition and experien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2438280"/>
            <a:ext cx="868680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schedul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heduling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mating the difficulty of problems and hence the cost of developing a solution is har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tivity is not proportional to the number of people working on a ta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ing people to a late project makes it later because of communication overhead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unexpected always happens. Always allow contingency in plann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r charts and activity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 notations used to illustrate the project schedu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project breakdown into tasks. Tasks should not be too small. They should take about a week or tw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vity charts show task dependencies and the the critical pat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show schedule against calendar tim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explain the main tasks undertaken by project manag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ntroduce software project management and to describe its distinctive characteristi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discuss project planning and the planning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how how graphical schedule representations are used by project manage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discuss the notion of risks and the risk management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600200"/>
            <a:ext cx="624816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durations and dependenc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752480"/>
          <a:ext cx="9601200" cy="44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6012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447920"/>
            <a:ext cx="7162920" cy="502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tivity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47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tivity time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59436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ff allo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 is concerned with identifying risks and drawing up plans to minimise their effect on a projec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isk is a probability that some adverse circumstance will occu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ject risks affect schedule or resourc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t risks affect the quality or performance of the software being develop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siness risks affect the organisation developing or procuring the softwa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447920"/>
            <a:ext cx="74678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are ris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90720" y="1523880"/>
          <a:ext cx="7010280" cy="47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10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risk management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project, product and business risk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ss the likelihood and consequences of these risk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plan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w up plans to avoid or minimise the effects of the risk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onito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nitor the risks throughout the projec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09680"/>
            <a:ext cx="8534520" cy="3124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risk management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848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ople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sational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ments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mation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s and risk typ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523880"/>
            <a:ext cx="8153280" cy="472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600200"/>
          <a:ext cx="701028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01028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ess probability and seriousness of each ri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ility may be very low, low, moderate, high or very hig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effects might be catastrophic, serious, tolerable or insignifica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752480"/>
            <a:ext cx="838188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nalysis (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81080"/>
          <a:ext cx="815328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1532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nalysis (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792468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981080"/>
          <a:ext cx="7467480" cy="39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467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plan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each risk and develop a strategy to manage that ri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ance strateg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robability that the risk will arise is reduc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imisation strateg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mpact of the risk on the project or product will be reduc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gency pl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the risk arises, contingency plans are plans to deal with that risk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management strategies (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1981080"/>
          <a:ext cx="8991360" cy="42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99136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600200"/>
            <a:ext cx="830556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Risk management strategies (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680" y="1752480"/>
          <a:ext cx="8534160" cy="41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752480"/>
                    <a:ext cx="853416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monitor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ess each identified risks regularly to decide whether or not it is becoming less or more prob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assess whether the effects of the risk have chang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key risk should be discussed at management progress meeting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indica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845820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828800"/>
          <a:ext cx="80773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7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ood project management is essential for project succes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tangible nature of software causes problems for manage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agers have diverse roles but their most significant activities are planning, estimating and schedul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ning and estimating are iterative process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continue throughout the course of a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jec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project milestone is a predictable state where a formal report of progress is presented to managemen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scheduling involves preparing various graphical representations showing project activities, their durations and staffing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 is concerned with identifying risks which may affect the project and planning to ensure that these risks do not develop into major threa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erned with activities involved in ensuring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t software is delivered on time and 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dule and in accordance with th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ments of the organisations developing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procuring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management is needed because software development is always subject to budget and schedule constraints that are set by the organisation developing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are project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duct is intang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duct is uniquely flex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ftware engineering is not recognized as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gineering discipline with the sane status a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chanical, electrical engineering, et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oftware development process is no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y software projects are 'one-off' projec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are management distinc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al wri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planning and schedul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co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monitoring and review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nel selection and evalu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ort writing and presenta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activities are not peculiar to softwar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y techniques of engineering projec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are equally applicable to software project manage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cally complex engineering systems tend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uffer from the same problems as softwar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agement commonal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staff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not be possible to appoint the ideal people to work on a projec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ject budget may not allow for the use of highly-paid staff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ff with the appropriate experience may not be availab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organisation may wish to develop employee skills on a software projec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agers have to work within these constraints especially when there are shortages of trained staff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the most time-consuming  project management activ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uous activity from initial concept through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ystem delivery. Plans must be regularly revised as new information becomes avail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ous different types of plan may be developed to support the main software project plan that is concerned with schedule and budge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8T17:21:36Z</dcterms:created>
  <dc:creator/>
  <dc:description/>
  <cp:keywords/>
  <dc:language>en-US</dc:language>
  <cp:lastModifiedBy>ghassan</cp:lastModifiedBy>
  <cp:lastPrinted>2000-03-27T07:45:53Z</cp:lastPrinted>
  <dcterms:modified xsi:type="dcterms:W3CDTF">2009-12-31T16:15:25Z</dcterms:modified>
  <cp:revision>28</cp:revision>
  <dc:subject/>
  <dc:title>Project management</dc:title>
</cp:coreProperties>
</file>