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0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9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36312556-0208-485F-88D1-F8DFCBCB1CE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804080" cy="917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roducts of the software process may have to be manag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c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manu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sands of separate documents may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d for a large, complex softwar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80880" y="263520"/>
            <a:ext cx="84758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 plan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types of documents to be managed and a document naming sc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who takes responsibility for the CM procedures and creation of base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policies for change control and version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CM records which must be mainta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s the tools which should be used to assist the CM process and any limitations on their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process of tool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s the CM database used to record configuration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include information such as the CM of external software, process auditing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projects typically produce thousands of documents which must be uniquely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se documents must be maintained for the lifetime of th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 naming scheme should be defin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that related documents have related n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ierarchical scheme with multi-level names i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y the most flexible appro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L-TOOLS/EDIT/FORMS/DISPLAY/AST-INTERFACE/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item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hier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32484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M information should be maintained in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 datab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hould allow queries about configurations to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has a particular system ver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platform is required for a particular vers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ersions are affected by a change to component X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reported faults in version 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 database should preferably be linked to the software being mana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figuration datab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 database implem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part of an integrated environment to support software develop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 database and the managed documents are all maintained on the sam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may be integrated with this so that there is a close relationship between the CASE tools and the CM to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monly, the CM database is maintained separately as this is cheaper and more flex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systems are subject to continu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reque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us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develop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market fo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management  is concerned with keeping track of these changes and ensuring that they are implemented in the most cost-effective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change manage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finition of a change request form is part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planning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form records the change proposed, requestor of change, the reason why change was suggested and the urgency of change(from requestor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records change evaluation, impact analysi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cost and recommendations (Syste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staf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request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importance of software configuration management (C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scribe key CM activities namely CM planning, change management, version management and system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the use of CASE tools to support configuration management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request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600200"/>
            <a:ext cx="6629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343880" b="0"/>
          <a:stretch/>
        </p:blipFill>
        <p:spPr>
          <a:xfrm>
            <a:off x="1371600" y="1676520"/>
            <a:ext cx="5867280" cy="44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jor problem in change management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change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racking tools keep track the status of each change request and automatically ensure that change requests are sent to the right people at the righ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with E-mail systems allo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change request distrib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tracking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should be reviewed by an external group who decide whether or not they are cost-effective from a strategic and organizational viewpoint rather than a technical view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independent of project responsibl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system. The group is sometimes called a change control bo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CB may include representatives from client and contractor staf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control bo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record of changes applied to a document or code compo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record, in outline, the change made, the rationale for the change, who made the change and when it was impleme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be included as a comment in code. If a standard prologue style is used for the derivation history, tools can process this automatical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ivation his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header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981080"/>
          <a:ext cx="7619760" cy="37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61976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 an identification scheme for sys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when a new system version is to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that version management procedures and tools are properly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and distribute  new system rel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rsion and release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er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 instance of a system which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ly distinct in some way from oth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insta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 instance of a system which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ly identical but non-functional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ct from other instances of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l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 instance of a system which i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to users outside of the development t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s/variants/rele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ures for version identification should define an unambiguous way of identifying component ver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basic techniques for component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 number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-based identific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-oriented ident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naming scheme uses a linear deriv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1, V1.1, V1.2, V2.1, V2.2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ual derivation structure is a tree or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rather than a seq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 are not meaning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erarchical naming scheme leads to fewer errors in version identifi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numb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derivation 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543800" cy="32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management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ion and releas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s for configura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s can be associated with a version w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bination of attributes identifying th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of attributes are Date, Creator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ming Language, Customer, Status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more flexible than an explicit naming sche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version retrieval; However, it can cause problems with uniqueness - the set of attributes have to be chosen so that all versions can be uniquely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actice, a version also needs an associated name for easy refer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tribute-based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tribute-based que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mportant advantage of attribute-based identification is that it can support queries so that you can find ‘the most recent version in Java’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uery selects a version depending on attribute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3D (language =Java, platform = XP, date = Jan 200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-oriented iden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s versions and the changes made to create these ver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systems rather than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roposed change has a change set that describes changes made to implement tha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sets are applied in sequence so that, in principle, a version of the system that incorporates an arbitrary set of changes may be cr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s must incorporate changes forced on the system by errors discovered by users and by hardware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must also incorporate new sys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planning is concerned with when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 a system version as a rel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lea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just a set of executable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uration files defining how the release is configured for a particular install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files needed for system oper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stallation program or shell script to install the system on target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and paper document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aging and associated publi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s are now normally released on optical disks (CD or DVD) or as downloadable installation files from the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may not want a new release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may be happy with their current system as the new version may provide unwanted functionalit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management should not assume that all previous releases have been accepted. All files required for a release should be re-created when a new release is instal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and distributing a system release is an expensiv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such as the technical quality of the system, competition, marketing requirements and customer change requests should all influence the decision of when to issue a new system rel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release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523880"/>
            <a:ext cx="84582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676520"/>
          <a:ext cx="6781680" cy="47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678168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ease cre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 creation involves collecting all files and documentation required to create a system rel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descriptions have to be written for different hardware and installation scripts have to be wr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cific release must be documented to record exactly what files were used to create it. This allows it to be re-created if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of compiling and linking software components into an executabl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systems are built from differen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s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cess is now always supported by automated tools that are driven by ‘build scripts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s of software systems are created as they chan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different machines/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ing different functional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ored for particular user requ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management is concerned with managing evolving software syst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change is a team activ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aims to control the costs and effort involved in making changes to a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0320" y="1523880"/>
            <a:ext cx="817272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e build instructions include all requi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n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re are many hundreds of components making u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ystem, it is easy to miss one out. This should normall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detected by the link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appropriate component vers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fi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re significant problem. A system built with the wro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 may work initially but fail after delive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ll data files avail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ild should not rely on 'standard' data files. Standard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y from place to 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3600" y="1600200"/>
            <a:ext cx="832644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ata file references within compon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edding absolute names in code almost always cause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as naming conventions differ from place to 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ystem being built for the right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you  must build for a specific OS version or hardware configu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right version of the compiler and othe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tools specifi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compiler versions may actually generate different code and the compiled component will exhibit different behavio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x0008_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82880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80010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266320" cy="1108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tools for configur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processes are standardised and involve applying pre-defined proced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amounts of data must be mana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tool support for CM is therefore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ure CASE tools to support configuration management are available ranging from stand-alone tools to integrated CM workbe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 workbe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 for each stage in the CM process are integrated through organisational procedures and scripts. Gives flexibility in tool se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workbe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whole-process, integrated support for configuration management. More tightly integrated tools so easier to use. However, the cost is less flexibility in the tools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nge management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management is a procedural process so it can be modelled and integrated with a version management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management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 editor to support processing the change request form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flow system to define who does what and to automate information transf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database that manages change proposals and is linked to a VM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reporting system that generates management reports on the status of change reque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management to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 and release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s  assign identifiers automatically when a new version is submitted to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manag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stores the differences between versions rather than all the version c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history recor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rd reasons for version cre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pendent develo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one version at a time may be checked out for change. Parallel working on different ver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nage groups of files associated with a project rather than just single f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lta-based versio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7724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ing a large system is computationally expensive and may take several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dreds of files may be invol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building tools may prov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pendency specification language and interpret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 selection and instantiation suppo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ed compila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ed object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 dependen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3412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gur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the development and application of procedures and standards to manage an evolving software pro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may be seen as part of a more general quality management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released to CM, software systems are sometimes call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asel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they are a starting point for further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 management is the management of system change to software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rmal document naming scheme should b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nd documents should be managed in a datab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figuration data base should record information about changes and change requ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istent scheme of version identification should be established using version numbers, attributes or change s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releases include executable code, data, configuration files and docu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building involves assembling components into a system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tools are available to support all CM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tools may be stand-alone tools or may be integrated systems which integrate support for version management, system building and change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famil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458200" cy="426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772400" cy="29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 standar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 should always be based on a set of standards which are applied within an organis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should define how items are identified, how changes are controlled and how new versions are manag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may be based on external CM standards (e.g. IEEE standard for C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isting standards are based on a waterfall process model - new CM standards are needed for evolutionary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urrent development and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ime (say 2pm) for delivery of system components is agr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ew version of a system is built from these components by compiling and linking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new version is delivered for testing using pre-defined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s that are discovered during testing are documented and returned to the system develop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quent system buil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asier to find problems that stem from component interactions early in the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encourages thorough unit testing - developers are under pressure not to ‘break the build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ingent change management process is required to keep track of problems that have been discovered and repa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1T19:19:00Z</dcterms:created>
  <dc:creator/>
  <dc:description/>
  <dc:language>en-US</dc:language>
  <cp:lastModifiedBy>Ian Sommerville</cp:lastModifiedBy>
  <cp:lastPrinted>2000-08-20T21:03:24Z</cp:lastPrinted>
  <dcterms:modified xsi:type="dcterms:W3CDTF">2004-06-09T18:30:51Z</dcterms:modified>
  <cp:revision>36</cp:revision>
  <dc:subject/>
  <dc:title>Configuration management</dc:title>
</cp:coreProperties>
</file>