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ct" ContentType="image/x-pict"/>
  <Override PartName="/ppt/media/image11.png" ContentType="image/png"/>
  <Override PartName="/ppt/media/image8.pct" ContentType="image/x-pict"/>
  <Override PartName="/ppt/media/image16.pct" ContentType="image/x-pict"/>
  <Override PartName="/ppt/media/image1.png" ContentType="image/png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12.png" ContentType="image/png"/>
  <Override PartName="/ppt/media/image5.pct" ContentType="image/x-pict"/>
  <Override PartName="/ppt/media/image10.pct" ContentType="image/x-pict"/>
  <Override PartName="/ppt/media/image13.png" ContentType="image/png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28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F152E5A7-D158-4A05-989B-98A238EABC7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03440" y="20570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Improve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large projects with ‘average’ capabilities, the development process determines product qu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small projects, the capabilities of the developers is the main determin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velopment technology is particularly significant for small pro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ll cases, if an unrealistic schedule is imposed then product quality will suff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detailed process model. Development team chose their own way of wor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d process model which drives the developmen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es supported by some development method suc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the R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es supported by automated CASE too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class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pplic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600200"/>
            <a:ext cx="7315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638680" cy="42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used should depend on typ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which is being develo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systems, management is usually the principal problem so you need a strictly managed proces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smaller systems, more informality is possi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no uniformly applicable process whic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standardised within an organ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sts may be incurred if you force an inappropriate process on a development tea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appropriate methods can also increase costs and lead to reduced qu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cho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tool sup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752480"/>
            <a:ext cx="8458200" cy="3733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696080" cy="23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ver possible, quantitative process dat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col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ever, where organisations do not have clearly defined process standards this is very difficult as you don’t know what to measure. A process may have to be defined before any measurement is possi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measurements should be used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 process impr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this does not mean that measurements should drive the improvements. The improvement driver should be the organizational objectiv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measu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taken for process activities to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Calendar time or effort to complete an activity or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required for processes or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Total effort in person-d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occurrences of a particular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Number of defects discove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asses of process measu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-46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rganisation trying to achieve? The objective of process improvement is to satisfy these go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-46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s about areas of uncertainty related to the goals. You need process knowledge to derive the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-46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s to be collected to answer the ques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al-Question-Metric Paradig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nalysis and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y of existing processes to understand the relationships between parts of the process and to compare them with other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mod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ocumentation of a process which records the tasks, the roles and the entities us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models may be presented from different perspec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an existing process to understand i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an abstract model of the process. You should normally represent this graphically. Several different views (e.g. activities, deliverables, etc.) may be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e the model to discover proces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. This involves discussing process activities with stakeholders and discovering problems and possible process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nalysis and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e principles of software process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how software process factors influence software quality and produ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how to develop simple models of software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e notion of process capability and the CMMI process improvemen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shed process models and proces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lways best to start process analysis with an existing model. People then may extend and chang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naires and intervi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carefully designed. Participants may tell you what they think you want to h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nographic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olves assimilating process knowledge by observation. Best for in-depth analysis of process fragments rather than for whole-process understand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nalysis techni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model elements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1828800"/>
          <a:ext cx="8610480" cy="442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61048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model elements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981080"/>
          <a:ext cx="8077320" cy="380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07732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dule testing acti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39116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vities in modul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00200"/>
            <a:ext cx="81532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10640" cy="44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excep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7000"/>
          </a:bodyPr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processes are complex and process models cannot effectively represent how to handle excep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key people becoming ill just before a critical review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breach of security that means all external communications are out of action for several day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sational reorganis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ed to respond to an unanticipated request for new propos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these circumstances, the model is suspended and managers use their initiative to deal with the excep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chan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 making modifications to existing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y invol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ing new practices, methods or process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ing the ordering of process activiti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ing or removing deliverabl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ing new roles or responsi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should be driven by measurable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ocess change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80773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change st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 ident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 prioritis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change int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change trai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tu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MMI frame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MMI framework is the current stage of work on process assessment and improvement that started at the Software Engineering Institute in the 1980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EI’s mission is to promote software technology transfer particularly to US defence contr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has had a profound influence on process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pability Maturity Model introduced in the early 1990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ised maturity framework (CMMI) introduced in 20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499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and product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analysis and mod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MMI process improvement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capabi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ded as a means to assess the extent to which an organisation’s processes follow best pract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providing a means for assessment, it is possible to identify areas of weakness for process impr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have been various process assessment and improvement models but the SEI work has been most influen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sentially uncontro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 management procedures defined and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management procedures and strategies define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y management strategies defined and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improvement strategies defined and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EI capability maturity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blems with the CM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s associated with model lev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nies could be using practices from different levels at the same time but if all practices from a lower level were not used, it was not possible to move beyond that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rete rather than continu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not recognise distinctions between the top and the bottom of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-orie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rned with how things were done (the practices) rather than the goals to be achie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MMI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tegrated capability model that includes software and systems engineering capability assess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has two instant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d where the model is expressed in terms of capability level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ous where a capability rating is compu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model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cess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process areas that are relevant to process capability and improvement are identified. These are organised into 4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s are descriptions of desirable organisational states. Each process area has associated go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tices are ways of achieving a goal - however, they are advisory and other approaches to achieve the goal may be u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process areas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2133720"/>
          <a:ext cx="7848720" cy="354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8487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process areas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2057400"/>
          <a:ext cx="7391520" cy="36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3915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go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1905120"/>
          <a:ext cx="5791320" cy="45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579132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pract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8080" y="1676520"/>
          <a:ext cx="7772400" cy="46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77240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s the processes used in an organisation and assesses their maturity in each process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a 6-point sca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perform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itatively manag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0">
              <a:spcBef>
                <a:spcPts val="499"/>
              </a:spcBef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existing processes and introducing process changes to improve product quality, reduce costs or accelerate sched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process improvement work so far ha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d on defect reduction. This reflects the increasing attention paid by industry to qu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other process attributes can also be the focus of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improv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ged CMMI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with the software CM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maturity level has process areas and goals. For example, the process area associated with the managed level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manageme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plann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monitoring and contro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r agreement manageme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and analys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and product quality assur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ged CMMI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55344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itutional pract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tutions operating at the managed level should have institutionalised practices that are geared to standardis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nd maintain  policy for performing the project management proces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dequate resources for performing the project management proces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and control the project planning proces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 the activities, status and results of the project planning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ntinuous CMMI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finer-grain model that considers individual or groups of practices and assesses their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turity assessment is not a single value but is a set of values showing the organisations maturity in each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MMI rates each process area from levels 1 to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dvantage of a continuous approach is that organisations can pick and choose process areas to improve according to their local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rocess capability prof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48765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3920" y="1600200"/>
            <a:ext cx="779472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improvement involves process analysis, standardisation, measurement and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es can be classified as informal, managed, methodical and improving. This classification can be used to identify process tool sup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cess improvement cycle involves process measurement, process analysis and process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measurement should be used to answer specific process questions, based on organisational improvement go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54080" y="1523880"/>
            <a:ext cx="8145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e types of process metrics used in the measurement process are time metrics, resource utilisation metrics and event metri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models include descriptions of tasks, activities, roles, exceptions, communications, deliverables and other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MMI process maturity model integrates software and systems engineering process impr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improvement in the CMMI model is based on reaching a set of goals related to good software engineering pract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ttribu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523880"/>
            <a:ext cx="77724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143000" y="1676520"/>
          <a:ext cx="6553080" cy="459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5530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266400"/>
            <a:ext cx="77709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ocess improvement cyc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18148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86960" y="1600200"/>
            <a:ext cx="7442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cess 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s of the current process are measured. These are a baseline for assessing improv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cess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urrent process is assessed and bottlenecks and weaknesses are iden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cess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to the process that have been identified during the analysis are introduc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improvement st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quality and product quality are closel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and process improvement benefits arise because the quality of the product depends on its development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ood process is usually required to produce 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produ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manufactured goods, process is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 quality determin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design-based activity, other factors are also involved especially the capabilities of the design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nd product qua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al product quality 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24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6T14:08:47Z</dcterms:created>
  <dc:creator/>
  <dc:description/>
  <dc:language>en-US</dc:language>
  <cp:lastModifiedBy>Ian Sommerville</cp:lastModifiedBy>
  <cp:lastPrinted>1995-11-21T09:09:21Z</cp:lastPrinted>
  <dcterms:modified xsi:type="dcterms:W3CDTF">2004-06-14T22:25:02Z</dcterms:modified>
  <cp:revision>29</cp:revision>
  <dc:subject/>
  <dc:title>Process Improvement </dc:title>
</cp:coreProperties>
</file>