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ct" ContentType="image/x-pict"/>
  <Override PartName="/ppt/media/image11.png" ContentType="image/png"/>
  <Override PartName="/ppt/media/image8.pct" ContentType="image/x-pict"/>
  <Override PartName="/ppt/media/image16.pct" ContentType="image/x-pict"/>
  <Override PartName="/ppt/media/image1.png" ContentType="image/png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12.png" ContentType="image/png"/>
  <Override PartName="/ppt/media/image5.pct" ContentType="image/x-pict"/>
  <Override PartName="/ppt/media/image10.pct" ContentType="image/x-pict"/>
  <Override PartName="/ppt/media/image13.png" ContentType="image/png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295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8320" y="167652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907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295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8320" y="3834360"/>
            <a:ext cx="251280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69960" y="306000"/>
            <a:ext cx="7804080" cy="42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89600" y="383436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89600" y="1676520"/>
            <a:ext cx="3808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90720" y="3834360"/>
            <a:ext cx="7804080" cy="19702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9118440" cy="468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449360" indent="-241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09720" indent="-239760">
              <a:spcBef>
                <a:spcPts val="700"/>
              </a:spcBef>
              <a:buClr>
                <a:srgbClr val="063de8"/>
              </a:buClr>
              <a:buSzPct val="65000"/>
              <a:buFont typeface="Monotype Sorts" charset="2"/>
              <a:buChar char="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70080" indent="-2397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68440" y="6523200"/>
            <a:ext cx="815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6800" bIns="46800" anchor="t">
            <a:spAutoFit/>
          </a:bodyPr>
          <a:p>
            <a:pPr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©Ian Sommerville 2004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300" spc="-1" strike="noStrike">
                <a:solidFill>
                  <a:srgbClr val="ffffff"/>
                </a:solidFill>
                <a:latin typeface="Times New Roman"/>
              </a:rPr>
              <a:t>Software Engineering, 7th edition. Chapter 28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                        Slide  </a:t>
            </a:r>
            <a:fld id="{E24CB333-81DF-46EA-8CF6-149137994D7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03440" y="205704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Improvement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ality 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large projects with ‘average’ capabilities, the development process determines product qua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small projects, the capabilities of the developers is the main determin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velopment technology is particularly significant for small pro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ll cases, if an unrealistic schedule is imposed then product quality will suff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detailed process model. Development team chose their own way of work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d process model which drives the development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es supported by some development method suc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the RU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es supported by automated CASE too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classif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applic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1600200"/>
            <a:ext cx="7315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638680" cy="421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used should depend on type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 which is being develo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systems, management is usually the principal problem so you need a strictly managed proces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smaller systems, more informality is possi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is no uniformly applicable process which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 standardised within an organ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 costs may be incurred if you force an inappropriate process on a development tea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appropriate methods can also increase costs and lead to reduced qual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cho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tool suppo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752480"/>
            <a:ext cx="8458200" cy="3733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696080" cy="23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ver possible, quantitative process dat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 coll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ever, where organisations do not have clearly defined process standards this is very difficult as you don’t know what to measure. A process may have to be defined before any measurement is possi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measurements should be used to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ess process impr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this does not mean that measurements should drive the improvements. The improvement driver should be the organizational objectiv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measur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taken for process activities to b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le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Calendar time or effort to complete an activity or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s required for processes or activ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Total effort in person-day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occurrences of a particular ev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Number of defects discove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asses of process measur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69080" indent="-46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-46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organisation trying to achieve? The objective of process improvement is to satisfy these go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-46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s about areas of uncertainty related to the goals. You need process knowledge to derive the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9080" indent="-469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5440" indent="-46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s to be collected to answer the ques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al-Question-Metric Paradig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analysis and mod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tudy of existing processes to understand the relationships between parts of the process and to compare them with other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mod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ocumentation of a process which records the tasks, the roles and the entities use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models may be presented from different perspect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y an existing process to understand i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 an abstract model of the process. You should normally represent this graphically. Several different views (e.g. activities, deliverables, etc.) may be requi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e the model to discover proces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. This involves discussing process activities with stakeholders and discovering problems and possible process chan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analysis and mod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the principles of software process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how software process factors influence software quality and produ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how to develop simple models of software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xplain the notion of process capability and the CMMI process improvemen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blished process models and proces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lways best to start process analysis with an existing model. People then may extend and chang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naires and intervi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be carefully designed. Participants may tell you what they think you want to he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hnographic analy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volves assimilating process knowledge by observation. Best for in-depth analysis of process fragments rather than for whole-process understand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analysis techniq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model elements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1828800"/>
          <a:ext cx="8610480" cy="442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610480" cy="44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model elements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1981080"/>
          <a:ext cx="8077320" cy="380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807732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dule testing acti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39116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tivities in module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00200"/>
            <a:ext cx="815328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010640" cy="44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excep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7000"/>
          </a:bodyPr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processes are complex and process models cannot effectively represent how to handle excep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ral key people becoming ill just before a critical review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breach of security that means all external communications are out of action for several day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sational reorganisatio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56240" indent="-465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eed to respond to an unanticipated request for new propos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74120" indent="-4741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 these circumstances, the model is suspended and managers use their initiative to deal with the excep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chang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olves making modifications to existing proces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ay involv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ing new practices, methods or process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ing the ordering of process activiti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ing or removing deliverable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ing new roles or responsib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should be driven by measurable go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ocess change proce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80773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change st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 identific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 prioritis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change introduc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change trai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tun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700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MMI frame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MMI framework is the current stage of work on process assessment and improvement that started at the Software Engineering Institute in the 1980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SEI’s mission is to promote software technology transfer particularly to US defence contracto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has had a profound influence on process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pability Maturity Model introduced in the early 1990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vised maturity framework (CMMI) introduced in 200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spcBef>
                <a:spcPts val="499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and product 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class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measu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analysis and mod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MMI process improvement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pics cove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capabi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nded as a means to assess the extent to which an organisation’s processes follow best pract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y providing a means for assessment, it is possible to identify areas of weakness for process improv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have been various process assessment and improvement models but the SEI work has been most influent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sentially uncontroll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uct management procedures defined and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management procedures and strategies define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lity management strategies defined and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mi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 improvement strategies defined and u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EI capability maturity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blems with the CM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s associated with model lev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nies could be using practices from different levels at the same time but if all practices from a lower level were not used, it was not possible to move beyond that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rete rather than continuo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not recognise distinctions between the top and the bottom of lev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-orien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rned with how things were done (the practices) rather than the goals to be achiev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MMI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integrated capability model that includes software and systems engineering capability assess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odel has two instanti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ed where the model is expressed in terms of capability level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ous where a capability rating is compu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MI model compon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cess 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 process areas that are relevant to process capability and improvement are identified. These are organised into 4 grou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als are descriptions of desirable organisational states. Each process area has associated goal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actices are ways of achieving a goal - however, they are advisory and other approaches to achieve the goal may be u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MI process areas 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2133720"/>
          <a:ext cx="7848720" cy="354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84872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MI process areas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5800" y="2057400"/>
          <a:ext cx="7391520" cy="36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739152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MI go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676520"/>
            <a:ext cx="8458200" cy="4647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1905120"/>
          <a:ext cx="5791320" cy="452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579132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MI pract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38080" y="1676520"/>
          <a:ext cx="7772400" cy="468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77240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MMI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s the processes used in an organisation and assesses their maturity in each process a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a 6-point sca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perform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fin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itatively manage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timiz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0">
              <a:spcBef>
                <a:spcPts val="499"/>
              </a:spcBef>
              <a:buNone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erstanding existing processes and introducing process changes to improve product quality, reduce costs or accelerate sched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process improvement work so far ha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cused on defect reduction. This reflects the increasing attention paid by industry to qua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other process attributes can also be the focus of impr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improv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ged CMMI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 with the software CM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maturity level has process areas and goals. For example, the process area associated with the managed level includ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ments manageme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plannin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monitoring and control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r agreement manageme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and analys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and product quality assur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ged CMMI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52388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55344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itutional practi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 fontScale="99000"/>
          </a:bodyPr>
          <a:p>
            <a:pPr marL="483840" indent="-483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itutions operating at the managed level should have institutionalised practices that are geared to standardis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and maintain  policy for performing the project management proces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adequate resources for performing the project management proces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itor and control the project planning proces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77840" indent="-474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iew the activities, status and results of the project planning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ntinuous CMMI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finer-grain model that considers individual or groups of practices and assesses their u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aturity assessment is not a single value but is a set of values showing the organisations maturity in each a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MMI rates each process area from levels 1 to 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dvantage of a continuous approach is that organisations can pick and choose process areas to improve according to their local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rocess capability profi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48765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3920" y="1600200"/>
            <a:ext cx="7794720" cy="418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improvement involves process analysis, standardisation, measurement and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es can be classified as informal, managed, methodical and improving. This classification can be used to identify process tool sup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ocess improvement cycle involves process measurement, process analysis and process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measurement should be used to answer specific process questions, based on organisational improvement go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54080" y="1523880"/>
            <a:ext cx="8145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hree types of process metrics used in the measurement process are time metrics, resource utilisation metrics and event metric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models include descriptions of tasks, activities, roles, exceptions, communications, deliverables and other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MMI process maturity model integrates software and systems engineering process improve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improvement in the CMMI model is based on reaching a set of goals related to good software engineering practi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poi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attribut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1523880"/>
            <a:ext cx="77724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143000" y="1676520"/>
          <a:ext cx="6553080" cy="459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65530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8800" y="266400"/>
            <a:ext cx="777096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ocess improvement cyc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18148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86960" y="1600200"/>
            <a:ext cx="7442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cess measu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s of the current process are measured. These are a baseline for assessing improv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cess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urrent process is assessed and bottlenecks and weaknesses are identif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cess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9000" indent="-479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s to the process that have been identified during the analysis are introduc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improvement st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90720" y="1676520"/>
            <a:ext cx="7804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cess quality and product quality are closely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ted and process improvement benefits arise because the quality of the product depends on its development pro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ood process is usually required to produce 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produc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manufactured goods, process is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al quality determina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8880" indent="-488880">
              <a:spcBef>
                <a:spcPts val="601"/>
              </a:spcBef>
              <a:buClr>
                <a:srgbClr val="ffffff"/>
              </a:buClr>
              <a:buSzPct val="50000"/>
              <a:buFont typeface="Zapf Dingbats" charset="2"/>
              <a:buChar char=""/>
              <a:tabLst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design-based activity, other factors are also involved especially the capabilities of the design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cess and product qua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0000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9960" y="306000"/>
            <a:ext cx="780408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al product quality facto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458200" cy="4648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624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16T14:08:47Z</dcterms:created>
  <dc:creator/>
  <dc:description/>
  <dc:language>en-US</dc:language>
  <cp:lastModifiedBy>Ian Sommerville</cp:lastModifiedBy>
  <cp:lastPrinted>1995-11-21T09:09:21Z</cp:lastPrinted>
  <dcterms:modified xsi:type="dcterms:W3CDTF">2004-06-14T22:25:02Z</dcterms:modified>
  <cp:revision>29</cp:revision>
  <dc:subject/>
  <dc:title>Process Improvement </dc:title>
</cp:coreProperties>
</file>