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907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73160" y="383436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057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192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9068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7316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3192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9068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5400" y="306000"/>
            <a:ext cx="845496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57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000" y="1371600"/>
            <a:ext cx="987912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5960" y="6523200"/>
            <a:ext cx="883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256F605D-1BC6-4DF8-B537-F7D3BA15058A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4553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o-techn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9061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mponent inter-dependenci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s can be propagated through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failures often occur becaus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oreseen inter-relationships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bably impossible to anticipate a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omponent relationshi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reliability measures may give a fal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of the system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reliability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 reli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robability of a hardware component failing and how long does it take to repair that compon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ftwar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ikely is it that a software component will produce an incorrect output. Software failure is usually distinct from hardware failure in that software does not wear ou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or reli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ikely is it that the operator of a system will make an err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 algn="just">
              <a:spcBef>
                <a:spcPts val="499"/>
              </a:spcBef>
              <a:spcAft>
                <a:spcPts val="624"/>
              </a:spcAft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luences on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relationsh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failure can generate spurious signals that are outside the range of inputs expected by the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rrors can cause alarms to be activated which cause operator stress and lead to operator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 in which a system is installed can affect its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‘shall-not’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such as performance and reliability can be mea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ome properties are properties that the system should not exhi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- the system should not behave in an unsafe w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- the system should not permit unauthorised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or assessing these properties is very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s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, designing, implementing, validating, deploying and maintaining socio-technical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the services provided by the system, constraints on its construction and operation and the ways in which it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ystem engineer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ollows a ‘waterfall’ model because of the need for parallel development of different parts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cope for iteration between phases because hardware changes are very expensive. Software may have to compensate for hardware probl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involves engineers from different disciplines who must work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cope for misunderstanding here. Different disciplines use a different vocabulary and much negotiation is required. Engineers may have personal agendas to fulf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676520"/>
            <a:ext cx="87627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ystems engineer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-disciplinary invol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76520"/>
            <a:ext cx="838188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2388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requirements 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requirement defined at this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functional requirements. System functions are defined in an abstract w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operties. Non-functional requirements for the system in general are defin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 characteristics. Unacceptable system behaviour is spec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lso define overall organisational objectives for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define why a system is being procured for a particular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fire and intruder alarm system for the building which will provide internal and external warning of fire or unauthorized intr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tional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the normal functioning of work carried out in the building is not seriously disrupted by events such as fire and unauthorized intr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ain what a socio-technical system is and the distinction between this and a computer-based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the concept of emergent system properties such as reliabili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ain system engineering and system procuremen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ain why the organisational context of a system affects its design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cuss legacy systems and why these are critical to many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requirements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s are usually developed to address wicke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that are not fully understoo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as the system is being spec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nticipate hardware/communica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s over the lifetime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define non-functional require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articularly) without know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structure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e requirements into related group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ub-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set of sub-systems which collectively can meet the system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requirements to sub-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particular problems when COTS are integr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sub-system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ub-system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activity for parallel sub-system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8458200" cy="441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92468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design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partitioning to hardwa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nd human components may involve a lot of negot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design problems are often assumed to be readily solved using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platforms may be inappropriate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requirements so software must compensate for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ngineering and system design are inextricably lin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posed by the system’s environment and other systems limit design choices so the actual design to be used may be a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esign may be necessary to structure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do design, you learn more about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iral model of requirements/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4771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hitectural model presents an abstract view of the sub-systems making up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clude major information flows between sub-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presented as a block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dentify different types of functional component in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853416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807696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system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53416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2286000"/>
          <a:ext cx="883908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8390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C system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876276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3341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t system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, people and computer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system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parallel projects developing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, software and commun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volve some COTS  (Commercial Off-the-Shelf) systems procu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ommunication across implement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 and slow mechanism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ng system changes means that the development schedule may be extended because of the need for re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putting hardware, softwar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ogether to mak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tackled incrementally so that sub-systems are integrated one at a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problems between sub-systems are usually found at th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problems with uncoordinated deliver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ystem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integ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mpletion, the system has to be installed in the customer’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assumptions may be incorr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human resistance to the introduc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ay have to coexist with alterna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for some ti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hysical installation problems (e.g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ing problem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training has to be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ystems have a long lifetime. They must evolve to meet changing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is inherently cos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ust be analysed from a technical and business perspect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systems interact so unanticipated problems can ar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rarely a rationale for original design decis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tructure is corrupted as changes are mad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ystems which must be maintained are sometimes called legacy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decommiss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the system out of service after its useful life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removal of materials (e.g. dangerous chemicals) which pollute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lanned for in the system design by encaps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data to be restructured and converted to be used in some ot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sations/people/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technical systems are organisational systems intended to help deliver some organisational or business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 not understand the organisational environment where a system is used, the system is less likely to meet the real needs of the business and its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and organisation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0680" y="1682640"/>
            <a:ext cx="886932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ess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ystem require changes to the work processes in the environmen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lnSpc>
                <a:spcPct val="90000"/>
              </a:lnSpc>
              <a:spcBef>
                <a:spcPts val="700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b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ystem de-skill the users in an environment or cause them to change the way they work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lnSpc>
                <a:spcPct val="90000"/>
              </a:lnSpc>
              <a:spcBef>
                <a:spcPts val="700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ganisational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ystem change the political power structure in an organisation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 algn="just">
              <a:lnSpc>
                <a:spcPct val="90000"/>
              </a:lnSpc>
              <a:spcBef>
                <a:spcPts val="601"/>
              </a:spcBef>
              <a:spcAft>
                <a:spcPts val="624"/>
              </a:spcAft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sational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es of systems engineering overlap and interact with organisational procurement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processes are the processes involved in using the system for its intended purpose. For new systems, these have to be defined as part of the system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processes should be designed to be flexible and should not force operations to be done in a particular way. It is important that human operators can use their initiative if problems a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5040" y="306000"/>
            <a:ext cx="87994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urement/development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752480"/>
            <a:ext cx="845820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4008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proc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quiring a system for an organization to meet some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ystem specification and architectural design is usually necessary before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a specification to let a contract for system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ecification may allow you to buy a commercial off-the-shelf (COTS) system. Almost always cheaper than developing a system from scr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omplex systems usually consist of a mix of off the shelf and specially designed components. The procurement processes for these different types of component are usually diffe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3480" y="1606320"/>
            <a:ext cx="8454960" cy="4128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poseful collection of inter-related components working together to achieve some common obje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may include software, mechanical, electrical and electronic hardware and be operated by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mponents are dependent on 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ties and behaviour of system components are inextricably inter-ming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ystem procure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752480"/>
            <a:ext cx="876312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8382240" cy="28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urement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ay have to be modified to match the capabilities of off-the-shel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specification may be part of the contract for the development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a contract negotiation period to agree changes after the contractor to build a system has been sel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ors and sub-contr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urement of large hardware/software systems is usually based around some principal contr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contracts are issued to other suppliers to supply parts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liases with the principal contractor and does not deal directly with sub-contr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or/Sub-contracto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76520"/>
            <a:ext cx="906768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8229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o-technical systems that have been developed using old or obsolete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to the operation of a business and it is often too risky to discard thes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customer account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maintenanc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systems constrain new business processes and consume a high proportion of company bud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601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8001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- may be obsolete mainframe hard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oftware - may rely on support software from suppliers who are no longer in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oftware - may be written in obsolete programming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ata - often incomplete and inconsis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es - may be constrained by software structure and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olicies and rules - may be implicit and embedded in the system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86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1040" y="1606320"/>
            <a:ext cx="8454960" cy="4128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o-technical systems include computer hardware, software and people and are designed to meet some business g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 properties are properties that are characteristic of the system as a whole and not its component p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s engineering process includes specification, design, development, integration and testing. System integration is particularly cri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d organisational factors have a significant effect on the operation of socio-technical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complex interactions between the processes of system procurement, development and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gacy system is an old system that continues to provide essential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systems include business processes, application software, support software and system hard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categ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computer-bas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at include hardware and software but where the operators and operational processes are not normally considered to be part of the system. The system is not self-a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techn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at include technical systems but also operational processes and people who use and interact with the technical system. Socio-technical systems are governed by organisational policies and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63520"/>
            <a:ext cx="918180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o-technical system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t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ies of the system of a whole that depend on the system components and their relation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determin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o not always produce the same output when presented with the same input because the systems’s behaviour is partially dependent on human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relationships with organisational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ent to which the system supports organisational objectives does not just depend on the system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ent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the system as a whole rather than properties that can be derived from the properties of components of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t properties are a consequence of the relationships between system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therefore only be assessed and measured once the components have been integrated into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mergent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1828800"/>
          <a:ext cx="822960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82296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emergent prope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proper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ppear when all the parts of a system work together to achieve some objective. For example, a bicycle has the functional property of being a transportation device once it has been assembled from its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unctional emergent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re reliability, performance, safety, and security. These relate to the behaviour of the system in its operational environment. They are often critical for computer-based systems as failure to achieve some minimal defined level in these properties may make the system unu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 algn="just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1T10:58:14Z</dcterms:created>
  <dc:creator/>
  <dc:description/>
  <cp:keywords/>
  <dc:language>en-US</dc:language>
  <cp:lastModifiedBy>ghassan</cp:lastModifiedBy>
  <cp:lastPrinted>2004-04-23T15:43:23Z</cp:lastPrinted>
  <dcterms:modified xsi:type="dcterms:W3CDTF">2009-12-31T16:13:20Z</dcterms:modified>
  <cp:revision>33</cp:revision>
  <dc:subject/>
  <dc:title>Systems Engineering</dc:title>
</cp:coreProperties>
</file>