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9516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5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3A3CDAE9-30A9-4400-A131-BE42CC23D394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oftware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el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information from sensors. May buffer information collected in response to a sensor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out processing of collected information and computes the system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tor contro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control signals for the actu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-real time systems may have to programmed in assembly language to ensure that deadlines are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such as C allow efficient programs to be written but do not have constructs to support concurrency or shared resourc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as a real-time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upports lightweight concurrency (threads and synchronized methods) and can be used for some soft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2.0 is not suitable for hard RT programming but real-time versions of Java are now available that address problems such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specify thread execution ti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iming in different virtual machin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able garbage colle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discover queue sizes for shared resourc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access system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to do space or timing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both the hardware and the software associated with system. Partition functions to either hardware or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ecisions should be made on the basis on non-functional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delivers better performance but potentially longer development and less scope for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-T systems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timuli to be processed and the required responses to these stimu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timulus and response, identify the timing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the stimulus and response processing into concurrent processes. A process may be associated with each class of stimulus and respo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-T systems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lgorithms to process each class of stimulus and response. These must meet the given tim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scheduling system which will ensure that processes are started in time to meet their dead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using a real-time operat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 constra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extensive simulation and experiment to ensure that these are met by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mean that certain design strategies such as object-oriented design cannot be used because of the additional overhead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mean that low-level programming language features have to be used for performance rea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600200"/>
            <a:ext cx="780552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a stimulus in a real-time system may trigger a transition from one stat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used for modelling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FSM models  lack structure. Even simple systems can have a complex mo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L includes notations for defining state machine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hapter 8 for further examples of state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rol pump stat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7676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concept of a real-time system and why these systems are usually implemented as concurren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a design process for real-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role of a real-tim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generic process architectures for monitoring and control and data acquisi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operating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operating systems are specialised operating systems which manage the processes in the 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process managemen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(processor and memory) al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based on a standard kernel whi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unchanged or modified for a particul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normally include facilities such as file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70760" y="6424560"/>
            <a:ext cx="281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ng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formation for process schedu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aperiodic requests for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s the next process to be ru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memory and processor resou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process execu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op system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le for the dynamic reconfiguration of the sys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nd hardware. Hardware modules may be replaced and software upgraded without stopping the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le for detecting software and hardware fault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ppropriate actions (e.g. switching to backup disks) to ensure that the system continues in ope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OS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00200"/>
            <a:ext cx="68580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7656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prio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of some types of stimuli mu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ake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level priority. Highest priority which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d to processes requiring a very fa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level priority. Allocated to period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se, further levels of priority may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rupt servi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is transferred  automatically to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determined memory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cation contains an instruction to jump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rupt service rou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terrupts are disabled, the interrup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d and control returned to the interrup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service routines MUST be shor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process servi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real-time systems, there will be sever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periodic process, each with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(the time between executions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times and deadlines (the time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rocessing must be complet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l-time clock ticks periodically and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 causes an interrupt which schedule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anager for periodic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manager selects a process whi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dy for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managing the set of concurrent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processes are executed at pre-specified time inter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TOS uses the real-time clock to determine when to execute a process taking into acco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eriod - time between exec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eadline - the time by which processing must be comp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E proces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14600"/>
            <a:ext cx="845820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8487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switch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eduler chooses the next process to be executed by the processor. This depends on a scheduling strategy which may take the process priority into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ource manager allocates memory and a processor for the process to be exec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patcher takes the process from ready list, loads it onto a processor and starts exec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and contro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ing strate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pre-emptiv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process has been scheduled for execution, it runs to completion or until it is blocked for some reason (e.g. waiting for I/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emptiv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ecution of an executing processes may be stopped if a higher priority process requires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-rob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monotoni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st deadline fir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 and contro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lass of real-time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heck sensors and take a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sensor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systems examine sensor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ir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ystems take sensor values and control hardware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ic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is required to monitor sensors on doors and windows to detect the presence of intruders in a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ensor indicates a break-in, the system switches on lights around the area and calls police automat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should include provision for operation without a mains power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detectors, window sensors, door sens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window sensors, 30 door sensors and 200 mov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drop sens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intruder is detected, police are call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s are switched on in rooms with active senso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udible alarm is switched 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switches automatically to backup power when a voltage drop is detec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-T system desig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timuli and associated respo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iming constraints associated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imulus and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system functions to concur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lgorithms for stimulus process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gen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scheduling system which ensure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will always be scheduled to me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dead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muli to be proces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aperiodically by a circuit monitor. When received, the system must switch to backup power within 50 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uder al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 generated by system sensors. Response is to call the police, switch on building lights and the audible ala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573120" y="0"/>
          <a:ext cx="9717120" cy="61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3120" y="0"/>
                    <a:ext cx="97171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lar alarm system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_monitor process 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" y="1717560"/>
            <a:ext cx="61898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class BuildingMonitor extends Thread 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uildingSensor win, door, move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 = new Sire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 = new Lights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ynthesizer synthesizer = new Synthesizer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Sensors doors = new DoorSensors (3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ensors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 = new WindowSensors (5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MovementSensors movements = new MovementSensors (200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PowerMonitor pm = new PowerMonitor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uildingMonitor(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initialise all the sensors and start the proce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iren.start () ; lights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synthesizer.start () ; windows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s.start () ; movements.start () ; pm.start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which monitor and control the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vitably associated with hardwar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: Collect data from the system environ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: Change (in some way) the system'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s critical. Real-time systems MU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within specified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monitor proces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00200"/>
            <a:ext cx="845820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public void run (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nt room = 0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hile (tru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movement sensors at least twice per second (40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move = movements.getVal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window sensors at least twice/second (10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 = windows.getVal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poll the door sensors at least twice per second (60 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door = doors.getVal () ;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move.sensorVal == 1 | door.sensorVal == 1 | win.sensorVal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// a sensor has indicated an intruder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move.sensorVal == 1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move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door.sensorVal == 1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door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if (win.sensorVal == 1 ) 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room = win.room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.on (room) ; siren.on () ; synthesizer.on (room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break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_monitor process 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13372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lights.shutdown () ; siren.shutdown () ; synthesizer.shutdow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windows.shutdown () ; doors.shutdown () ; movements.shutdown () 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 // ru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2424"/>
                </a:solidFill>
                <a:latin typeface="Arial"/>
              </a:rPr>
              <a:t>} //Building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6720"/>
                <a:tab algn="l" pos="227952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rglar alarm system is primarily a monitoring system. It collects data from sensors but no real-time actuator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ystems are similar but, in response to sensor values,  the system sends control signals to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monitoring and control system is a system that monitors temperature and switches heaters on and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emperature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16256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cquisitio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data from sensors for subsequ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and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processes and proces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may have different period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may be faster than proces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ollecting information about an explo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 or ring buffers are a mechanism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 speed differ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cquisition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tor data coll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em collects data from a set of sens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the neutron flux from a nucle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 data is placed in a ring buffer for l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ng buffer is itself implemented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process so that the collec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processes may be synchron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tor flux moni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057400"/>
            <a:ext cx="84582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ing buff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133720"/>
            <a:ext cx="8458200" cy="373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4008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processes collect data and add it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ffer. Consumer processes take data from the buffer and make elements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and consumer processes must 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ly excluded from accessing the s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ffer must stop producer proces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information to a full buffer and consumer processes trying to take information from an empty b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0" y="4025880"/>
            <a:ext cx="84978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112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402760" cy="4505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al-time system is a software system where the correct functioning of the system depends on the results produced by the system and the time at which these results are 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ft real-time system is a system whose operation is degraded if results are not produced according to the specified tim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ard real-time system is a system whose operation is incorrect if results are not produced according to the timing spec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buffer implementation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class CircularBuff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bufsiz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SensorRecord [] sto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numberOfEntries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int front = 0, back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CircularBuffer (int n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bufsize = 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store = new SensorRecord [bufsize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42424"/>
                </a:solidFill>
                <a:latin typeface="Arial"/>
              </a:rPr>
              <a:t>} // Circular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buffer implementation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synchronized void put (SensorRecord rec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throws InterruptedExcep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if ( numberOfEntries == bufsiz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wait (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store [back] = new SensorRecord (rec.sensorId, rec.sensorVal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back = back +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if (back == bufsize)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back = 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numberOfEntries = numberOfEntries + 1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notify (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42424"/>
                </a:solidFill>
                <a:latin typeface="Arial"/>
              </a:rPr>
              <a:t>} //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buffer implementation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synchronized SensorRecord get () throws InterruptedExcep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SensorRecord result = new SensorRecord (-1, -1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if (numberOfEntries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wait 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result = store [front]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front = front +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if (front == bufsiz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front = 0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numberOfEntries = numberOfEntries - 1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notify (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return result ;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} //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} // CircularBuffer</a:t>
            </a:r>
            <a:r>
              <a:rPr b="0" lang="en-US" sz="2000" spc="-1" strike="noStrike">
                <a:solidFill>
                  <a:srgbClr val="24242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system correctness depends not ju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the system does but also on how fast 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 RT system model involves associating processes with sensors and actu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systems architectures are usually designed as a number of concurrent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operating systems are responsible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and resourc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and control systems poll sensors and send control signal to actu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s are usually organised according to a producer consumer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mulus/Respons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timulus, the system must produce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within a specified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stimuli. Stimuli which occur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le time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temperature sensor may be polled 10 times per seco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eriodic stimuli. Stimuli which occur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dictable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system power failure may trigger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which must be processed by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need to respond to timing demands made by different stimuli/responses, the system architecture must allow for fast switching between stimulus handl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demands of different stimuli are different so a simple sequential loop is not usually adequ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systems are therefore usually designed as cooperating processes with a real-time executive controlling these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time system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or/actuator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261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4T17:10:18Z</dcterms:created>
  <dc:creator/>
  <dc:description/>
  <cp:keywords/>
  <dc:language>en-US</dc:language>
  <cp:lastModifiedBy>ghassan</cp:lastModifiedBy>
  <cp:lastPrinted>2004-05-09T21:08:52Z</cp:lastPrinted>
  <dcterms:modified xsi:type="dcterms:W3CDTF">2009-12-30T16:26:38Z</dcterms:modified>
  <cp:revision>38</cp:revision>
  <dc:subject/>
  <dc:title>Real-time Software Design</dc:title>
</cp:coreProperties>
</file>