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9516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5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79E0174A-7787-418A-AAF6-9C9960812237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oftwar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el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information from sensors. May buffer information collected in response to a sensor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out processing of collected information and computes the system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t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control signals for the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-real time systems may have to programmed in assembly language to ensure that deadlines are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such as C allow efficient programs to be written but do not have constructs to support concurrency or share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as a real-time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upports lightweight concurrency (threads and synchronized methods) and can be used for some soft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2.0 is not suitable for hard RT programming but real-time versions of Java are now available that address problems such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specify thread execution ti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iming in different virtual machin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able garbage coll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discover queue sizes for shared resour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access system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do space or timing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both the hardware and the software associated with system. Partition functions to either hardware or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ecisions should be made on the basis on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delivers better performance but potentially longer development and less scope for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timuli to be processed and the required responses to thes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imulus and response, identify the timing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the stimulus and response processing into concurrent processes. A process may be associated with each class of stimulus and respo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lgorithms to process each class of stimulus and response. These must meet the given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scheduling system which will ensure that processes are started in time to meet their dead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using a real-time operat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 constra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extensive simulation and experiment to ensure that these are met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ean that certain design strategies such as object-oriented design cannot be used because of the additional overhead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ean that low-level programming language features have to be used for performance rea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600200"/>
            <a:ext cx="780552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a stimulus in a real-time system may trigger a transition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FSM models  lack structure. Even simple systems can have a complex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L includes notations for defining state machine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hapter 8 for further examples of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rol pump stat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concept of a real-time system and why these systems are usually implemented as concurren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a design process for real-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role of a real-tim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generic process architectures for monitoring and control and 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operating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erating systems are specialised operating systems which manage the processes in the 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process managemen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(processor and memory) al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based on a standard kernel whi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unchanged or modified for a particul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normally include facilities such as file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70760" y="6424560"/>
            <a:ext cx="281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ng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for process schedu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aperiodic requests for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s the next process to be r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memory and processor resou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process execu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op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for the dynamic reconfiguration of the sys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nd hardware. Hardware modules may be replaced and software upgraded without stopping the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for detecting software and hardware fault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ppropriate actions (e.g. switching to backup disks) to ensure that the system continues in ope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OS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00200"/>
            <a:ext cx="68580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prio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of some types of stimuli mu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ake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level priority. Highest priority which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to processes requiring a very fa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level priority. Allocated to period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se, further levels of priority may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is transferred  automatically to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determined memo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cation contains an instruction to jump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rupt service rou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terrupts are disabled, the interrup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d and control returned to the interrup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service routines MUST be shor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process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real-time systems, there will be sever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periodic process, each with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(the time between executions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times and deadlines (the time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rocessing must be complet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l-time clock ticks periodically and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 causes an interrupt which schedule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anager for periodic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manager selects a process whi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dy for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managing the set of concurrent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processes are executed at pre-specified time inter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TOS uses the real-time clock to determine when to execute a process taking into acco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eriod - time between exec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eadline - the time by which processing must be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E 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14600"/>
            <a:ext cx="84582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8487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switch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eduler chooses the next process to be executed by the processor. This depends on a scheduling strategy which may take the process priority into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ource manager allocates memory and a processor for the process to be exec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atcher takes the process from ready list, loads it onto a processor and starts exe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and contro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 strate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process has been scheduled for execution, it runs to completion or until it is blocked for some reason (e.g. waiting for I/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cution of an executing processes may be stopped if a higher priority process requires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-rob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monotoni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deadline fir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 and 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lass of real-time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heck sensors and take a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sensor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systems examine sensor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ir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s take sensor values and control hardware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ic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is required to monitor sensors on doors and windows to detect the presence of intruders in a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sor indicates a break-in, the system switches on lights around the area and calls police automat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should include provision for operation without a mains power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detectors, window sensors, door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window sensors, 30 door sensors and 200 mov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drop sens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intruder is detected, police are call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s are switched on in rooms with active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udible alarm is switched 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switches automatically to backup power when a voltage drop is detec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-T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timuli and associated respo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iming constraints associated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imulus and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system functions to concur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lgorithms for stimulus proces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gen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cheduling system which ensure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will always be scheduled to me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i to be proces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aperiodically by a circuit monitor. When received, the system must switch to backup power within 50 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uder al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 generated by system sensors. Response is to call the police, switch on building lights and the audible ala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573120" y="0"/>
          <a:ext cx="97171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3120" y="0"/>
                    <a:ext cx="97171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_monitor process 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" y="1717560"/>
            <a:ext cx="6189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class BuildingMonitor extends Thread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Sensor win, door, move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= new Sire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= new Lights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 synthesizer = new Synthesize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ensors doors = new DoorSensors (3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ensor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 = new WindowSensors (5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mentSensors movements = new MovementSensors (20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owerMonitor pm = new PowerMonito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Monitor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initialise all the sensors and start the 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.start () ; light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.start () ; window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.start () ; movements.start () ; pm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which monitor and control the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vitably associated with hardwar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: Collect data from the system 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: Change (in some way) the system'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s critical. Real-time systems MU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within specified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monitor proces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00200"/>
            <a:ext cx="84582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ublic void run 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nt room = 0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hile (tru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movement sensors at least twice per second (4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 = movement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window sensors at least twice/second (1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 = window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door sensors at least twice per second (6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 = doors.getVal () ;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 | door.sensorVal == 1 | win.sensorVal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a sensor has indicated an intruder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move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door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door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win.sensorVal == 1 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win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on (room) ; siren.on () ; synthesizer.on (room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reak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_monitor process 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13372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shutdown () ; siren.shutdown () ; synthesizer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.shutdown () ; doors.shutdown () ; movements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 r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Building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rglar alarm system is primarily a monitoring system. It collects data from sensors but no real-time actuato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s are similar but, in response to sensor values,  the system sends control signals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monitoring and control system is a system that monitors temperature and switches heaters on and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emperature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1625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cquisitio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data from sensors for subseq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and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processes and proces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may have different period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may be faster than proces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ollecting information about an explo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 or ring buffers are a mechanism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speed differ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cquisition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or data coll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collects data from a set of sens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the neutron flux from a nucle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 data is placed in a ring buffer for l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ng buffer is itself implemented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process so that the collec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processes may be synchron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or flux 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0574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ing buff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133720"/>
            <a:ext cx="8458200" cy="373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4008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processes collect data and add it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ffer. Consumer processes take data from the buffer and make elements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and consumer processes must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ly excluded from accessing the s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ffer must stop producer proces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information to a full buffer and consumer processes trying to take information from an empty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0" y="4025880"/>
            <a:ext cx="84978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402760" cy="4505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al-time system is a software system where the correct functioning of the system depends on the results produced by the system and the time at which these results are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ft real-time system is a system whose operation is degraded if results are not produced according to the specified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rd real-time system is a system whose operation is incorrect if results are not produced according to the timing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lass CircularBuff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bufsiz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ensorRecord [] sto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numberOfEntries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front = 0, 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ircularBuffer (int n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bufsize = 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tore = new SensorRecord [bufsize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ynchronized void put (SensorRecord rec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throws InterruptedExce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 numberOfEntries == bufsiz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tore [back] = new SensorRecord (rec.sensorId, rec.sensorVal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back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back == bufsize)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umberOfEntries = numberOfEntries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} //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ynchronized SensorRecord get () throws InterruptedExcep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ensorRecord result = new SensorRecord (-1, -1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numberOfEntries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sult = store [front]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front +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front == buf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0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umberOfEntries = numberOfEntries -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turn result ;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 correctness depends not ju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the system does but also on how fast 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 RT system model involves associating processes with sensors and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s architectures are usually designed as a number of concurrent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operating systems are responsible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an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and control systems poll sensors and send control signal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s are usually organised according to a producer consumer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us/Respons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timulus, the system must produce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within a specified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stimuli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le time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temperature sensor may be polled 10 times per seco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eriodic stimuli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dictabl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system power failure may trigger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which must be processed by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need to respond to timing demands made by different stimuli/responses, the system architecture must allow for fast switching between stimulus handl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emands of different stimuli are different so a simple sequential loop is not usually adequ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s are therefore usually designed as cooperating processes with a real-time executive controlling these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time system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or/actuator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26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4T17:10:18Z</dcterms:created>
  <dc:creator/>
  <dc:description/>
  <cp:keywords/>
  <dc:language>en-US</dc:language>
  <cp:lastModifiedBy>ghassan</cp:lastModifiedBy>
  <cp:lastPrinted>2004-05-09T21:08:52Z</cp:lastPrinted>
  <dcterms:modified xsi:type="dcterms:W3CDTF">2009-12-30T16:26:38Z</dcterms:modified>
  <cp:revision>38</cp:revision>
  <dc:subject/>
  <dc:title>Real-time Software Design</dc:title>
</cp:coreProperties>
</file>