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951663" cy="9229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295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83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295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83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69960" y="306000"/>
            <a:ext cx="780408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9118440" cy="4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09720" indent="-239760">
              <a:spcBef>
                <a:spcPts val="700"/>
              </a:spcBef>
              <a:buClr>
                <a:srgbClr val="063de8"/>
              </a:buClr>
              <a:buSzPct val="65000"/>
              <a:buFont typeface="Monotype Sorts" charset="2"/>
              <a:buChar char="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8440" y="6523200"/>
            <a:ext cx="815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6800" bIns="46800" anchor="t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©Ian Sommerville 2004</a:t>
            </a: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300" spc="-1" strike="noStrike">
                <a:solidFill>
                  <a:srgbClr val="ffffff"/>
                </a:solidFill>
                <a:latin typeface="Times New Roman"/>
              </a:rPr>
              <a:t>Software Engineering, 7th edition. Chapter 11</a:t>
            </a: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                        Slide  </a:t>
            </a:r>
            <a:fld id="{B0D7B595-3F13-436F-B9E6-E8BE177021BF}" type="slidenum">
              <a:rPr b="0" lang="ar-SA" sz="13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itectural De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cking robot control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1600200"/>
            <a:ext cx="6782040" cy="472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4953240" cy="441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x and line diagr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abstract - they do not show the nature of component relationships nor the externally visible properties of the sub-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useful for communication with stakeholders and for project plan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itectural design decis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al design is a creative process so the process differs depending on the type of system being develop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a number of common decisions span all design proce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itectural design decis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a generic application architecture that can be us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ll the system be distribu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chitectural styles are appropriat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pproach will be used to structure the syst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ll the system be decomposed into modul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ntrol strategy should be us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ll the architectural design be evalua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the architecture be documen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itecture re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 in the same domain often have similar architectures that reflect domain concep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product lines are built around a core architecture with variants that satisfy particular customer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architectures are covered in Chapter 13 and product lines in Chapter 1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itectural sty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chitectural model of a system may conform to a generic architectural model or sty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wareness of these styles can simplify the problem of defining system architec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most large systems are heterogeneous and do not follow a single architectural sty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itectural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9000"/>
          </a:bodyPr>
          <a:p>
            <a:pPr marL="483840" indent="-48384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document an architectural desig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structural model that shows the major system compon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rocess model that shows the process structure of the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 model that defines sub-system interfa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s model such as a data-flow model that shows sub-system relationshi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model that shows how sub-systems are distributed across compu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 organis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s the basic strategy that is used to structure a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organisational styles are widely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hared data repository styl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hared services and servers styl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bstract machine or layered sty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pository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-systems must exchange data. This may be done in two way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 data is held in a central database or repository and may be accessed by all sub-system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ub-system maintains its own database and passes data explicitly to other sub-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large amounts of data are to be shared, the repository model of sharing is most commonly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 toolset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7391160" cy="32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ntroduce architectural design and to discuss its impor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xplain the architectural design decisions that have to be m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ntroduce three complementary architectural styles covering organisation, decomposition and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iscuss reference architectures are used to communicate and compare archite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ository model characteris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way to share large amounts of dat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-systems need not be concerned with how data is produced Centralised management e.g. backup, security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model is published as the repository sche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-systems must agree on a repository data model. Inevitably a compromis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evolution is difficult and expensiv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cope for specific management polici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 to distribute efficient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ent-server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system model which shows how data and processing is distributed across a range of compon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stand-alone servers which provide specific services such as printing, data management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clients which call on these servi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which allows clients to access serv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lm and picture libra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7086600" cy="39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ent-server characteris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 of data is straightforwar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s effective use of networked systems. May require cheaper hardwa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add new servers or upgrade existing serv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hared data model so sub-systems use different data organisation. Data interchange may be inefficien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ndant management in each serve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entral register of names and services - it may be hard to find out what servers and services are avail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stract machine (layered)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model the interfacing of sub-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es the system into a set of layers (or abstract machines) each of which provide a set of serv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s the incremental development of sub-systems in different layers. When a layer interface changes, only the adjacent layer is affec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often artificial to structure systems in this w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sion management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76520"/>
            <a:ext cx="716292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029200" cy="412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ular decomposition sty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yles of decomposing sub-systems into modu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igid distinction between system organisation and modular decomposi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-systems and modu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b-system is a system in its own right whose operation is independent of the services provided by other sub-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dule is a system component that provides services to other components but would not normally be considered as a separat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ular decomposi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structural level where sub-systems are decomposed into modu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modular decomposition models cove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bject model where the system is decomposed into interacting objec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ipeline or data-flow model where the system is decomposed into functional modules which transform inputs to output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ossible, decisions about concurrency should be delayed until modules are implemen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the system into a set of loosely coupled objects with well-defined interfa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-oriented decomposition is concerned with identifying object classes, their attributes and ope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mplemented, objects are created from these classes and some control model used to coordinate object ope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ics cover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al design deci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omposition sty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sty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archite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oice processing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7010280" cy="37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 model advantag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are loosely coupled so their implementation can be modified without affecting other obje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s may reflect real-world ent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O implementation languages are widely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object interface changes may cause problems and complex entities may be hard to represent as obje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ction-oriented pipeli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transformations process their inputs to produce outpu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referred to as a pipe and filter model (as in UNIX shell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ts of this approach are very common. When transformations are sequential, this is a batch sequential model which is extensively used in data processing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really suitable for interactive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oice processing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905120"/>
            <a:ext cx="8458200" cy="3962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619760" cy="21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peline model advantag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transformation re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uitive organisation for stakeholder commun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add new transform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ly simple to implement as either a concurrent or sequential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requires a common format for data transfer along the pipeline and difficult to support event-based intera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ol sty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concerned with the control flow between sub-systems. Distinct from the system decomposition mod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ised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ub-system has overall responsibility for control and starts and stops other sub-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-based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ub-system can respond to externally generated events from other sub-systems or the system’s environ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ntralised contr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trol sub-system takes responsibility for managing the execution of other sub-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-return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-down subroutine model where control starts at the top of a subroutine hierarchy and moves downwards. Applicable to sequential syste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r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ble to concurrent systems. One system component controls the stopping, starting and coordination of other system processes. Can be implemented in sequential systems as a case state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l-return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981080"/>
            <a:ext cx="8458200" cy="4038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72392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l-time system contr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600200"/>
            <a:ext cx="762012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172200" cy="40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nt-driven 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n by externally generated events where the timing of the event is outwith the control of the sub-systems which process the ev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principal event-driven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cast models. An event is broadcast to all sub-systems. Any sub-system which can  handle the event may do s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rupt-driven models. Used in real-time systems where interrupts are detected by an interrupt handler and passed to some other component for process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event driven models include spreadsheets and production 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sign process for identifying the sub-systems making up a system and the framework for sub-system control and communication is architectural desig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utput of this design process is a description of th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architec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oadcast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in integrating sub-systems on different computers in a net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-systems register an interest in specific events. When these occur, control is transferred to the sub-system which can handle the ev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policy is not embedded in the event and message handler. Sub-systems decide on events of interest to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sub-systems don’t know if or when an event will be handl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ive broadca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133720"/>
            <a:ext cx="8458200" cy="3200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746784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rupt-driven 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in real-time systems where fast response to an event is essent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known interrupt types with a handler defined for each ty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ype is associated with a memory location and a hardware switch causes transfer to its handl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fast response but complex to program and difficult to valid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rupt-driven contr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676520"/>
            <a:ext cx="769608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5715000" cy="39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 architect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al models may be specific to some application dom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ypes of domain-specific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ic models which are abstractions from a number of real systems and which encapsulate the principal characteristics of these systems. Covered in Chapter 1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 models which are more abstract, idealised model. Provide a means of information about that class of system and of comparing different architectu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models are usually bottom-up models; Reference models are top-down mod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 architect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models are derived from a study of the application domain rather than from existing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used as a basis for system implementation or to compare different systems. It acts as a standard against which systems can be evalu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I model is a layered model for communication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SI reference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00200"/>
            <a:ext cx="792468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248160" cy="40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 reference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epository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age and management of data ite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integration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ing groups of ent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management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and enaction of process mode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ing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-tool and tool-environment communic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interface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interface develop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CMA reference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600200"/>
            <a:ext cx="792468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93432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ftware architecture is the fundamental framework for structuring the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al design decisions include decisions on the application architecture, the distribution and the architectural styles to be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architectural models such as a structural model, a control model and a decomposition model may be develop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organisational models include repository models, client-server models and abstract machine mod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itectural de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arly stage of the system design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s the link between specification and design proce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carried out in parallel with some specification 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nvolves identifying major system components and their communic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ar decomposition models include object models and pipelining mode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models include centralised control and event-driven mode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architectures may be used to communicate domain-specific architectures and to assess and compare architectural desig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itectural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architectural models may be produced during the design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model presents different perspectives on the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itecture attribu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ise operations to minimise sub-system 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 layered architecture with critical assets in inner lay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 safety-critical compon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redundant components in the archite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ine-grain, self-contained compon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vantages of explicit archite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keholder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 may be used as a focus of discussion by system stakehold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that analysis of whether the system can meet its non-functional requirements is poss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-scale re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chitecture may be reusable across a range of 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06000"/>
            <a:ext cx="830592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chitecture and system characteris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4000"/>
          </a:bodyPr>
          <a:p>
            <a:pPr marL="459360" indent="-459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3480" indent="-45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ise critical operations and minimise communications. Use large rather than fine-grain compon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9360" indent="-459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3480" indent="-45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layered architecture with critical assets in the inner lay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9360" indent="-459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3480" indent="-45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ise safety-critical features in a small number of sub-syste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9360" indent="-459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3480" indent="-45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redundant components and mechanisms for fault toler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9360" indent="-459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3480" indent="-45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fine-grain, replaceable compon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itectural confli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large-grain components improves performance but reduces maintain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ing redundant data improves availability but makes security more difficul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ising safety-related features usually means more communication so degraded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 structu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ed with decomposing the system into interacting sub-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chitectural design is normally expressed as a block diagram presenting an overview of the system struc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specific models showing how sub-systems share data, are distributed and interface with each other may also be develop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9T20:33:40Z</dcterms:created>
  <dc:creator/>
  <dc:description/>
  <cp:keywords/>
  <dc:language>en-US</dc:language>
  <cp:lastModifiedBy>ghassan</cp:lastModifiedBy>
  <cp:lastPrinted>2009-04-22T19:24:48Z</cp:lastPrinted>
  <dcterms:modified xsi:type="dcterms:W3CDTF">2009-12-30T16:26:28Z</dcterms:modified>
  <cp:revision>30</cp:revision>
  <dc:subject/>
  <dc:title>Architectural Design</dc:title>
</cp:coreProperties>
</file>