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951663" cy="922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11</a:t>
            </a:r>
            <a:r>
              <a:rPr b="0" lang="en-GB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9FCFE2A5-FC40-43F8-89E0-B8BC89FFBBB2}" type="slidenum">
              <a:rPr b="0" lang="ar-SA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cking robot control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1600200"/>
            <a:ext cx="6782040" cy="4724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495324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x and line diagra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abstract - they do not show the nature of component relationships nor the externally visible properties of the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useful for communication with stakeholders and for project plan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design is a creative process so the process differs depending on the type of system being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a number of common decisions span all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re a generic application architecture that can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system be distribu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chitectural styles are appropria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pproach will be used to structure the syst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system be decomposed into modul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ntrol strategy should be u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the architectural design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the architecture be docume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reu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in the same domain often have similar architectures that reflect domain concep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duct lines are built around a core architecture with variants that satisfy particular customer requirem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architectures are covered in Chapter 13 and product lines in Chapter 1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itectural model of a system may conform to a generic architectural model or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wareness of these styles can simplify the problem of defining system architectu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ost large systems are heterogeneous and do not follow a single architectural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document an architectural de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structural model that shows the major system compon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rocess model that shows the process structure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model that defines sub-system interf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hips model such as a data-flow model that shows sub-system relationsh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model that shows how sub-systems are distributed across compu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organis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s the basic strategy that is used to structure a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rganisational styles are widely us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data repository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hared services and servers styl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bstract machine or layered sty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epositor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systems must exchange data. This may be done in two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data is held in a central database or repository and may be accessed by all sub-syste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system maintains its own database and passes data explicitly to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large amounts of data are to be shared, the repository model of sharing i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toolset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391160" cy="32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architectural design and to discuss its impor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xplain the architectural design decisions that have to be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ntroduce three complementary architectural styles covering organisation, decomposition an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iscuss reference architectures are used to communicate and compar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sitory model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way to share large amounts of d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systems need not be concerned with how data is produced Centralised management e.g. backup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model is published as the repository sche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-systems must agree on a repository data model. Inevitably a compromi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volution is difficult and expensiv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ope for specific management polici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icult to distribute efficient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-server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ystem model which shows how data and processing is distributed across a range of com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stand-alone servers which provide specific services such as printing, data management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lients which call on these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which allows clients to access serv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m and picture libr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8660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ent-server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of data is straightforwar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effective use of networked systems. May require cheaper hardwa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add new servers or upgrade existing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hared data model so sub-systems use different data organisation. Data interchange may be inefficie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ndant management in each serv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entral register of names and services - it may be hard to find out what servers and services are avail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stract machine (layered)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del the interfacing of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es the system into a set of layers (or abstract machines) each of which provide a set of serv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incremental development of sub-systems in different layers. When a layer interface changes, only the adjacent layer is aff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often artificial to structure systems in this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sion managemen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716292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02920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ular decomposition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s of decomposing sub-systems into mo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igid distinction between system organisation and modular decomposi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-systems and modu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b-system is a system in its own right whose operation is independent of the services provided by other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odule is a system component that provides services to other components but would not normally be considered as a separate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ular decomposi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tructural level where sub-systems are decomposed into mod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ular decomposition models cov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bject model where the system is decomposed into interacting objec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peline or data-flow model where the system is decomposed into functional modules which transform inputs to output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ssible, decisions about concurrency should be delayed until modules are implemen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the system into a set of loosely coupled objects with well-defined interfa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decomposition is concerned with identifying object classes, their attributes and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mplemented, objects are created from these classes and some control model used to coordinate object oper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al design dec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omposition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sty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70102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ject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re loosely coupled so their implementation can be modified without affecting other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s may reflect real-world ent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O implementation languages are wide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object interface changes may cause problems and complex entities may be hard to represent as o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-oriented pipel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transformations process their inputs to produce outp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ferred to as a pipe and filter model (as in UNIX shel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ts of this approach are very common. When transformations are sequential, this is a batch sequential model which is extensively used in data process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lly suitable for interactive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oice processing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905120"/>
            <a:ext cx="8458200" cy="3962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619760" cy="21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peline model advan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transformation re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uitive organisation for stakeholder commun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add new transform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ly simple to implement as either a concurrent or sequential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requires a common format for data transfer along the pipeline and difficult to support event-based intera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 sty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concerned with the control flow between sub-systems. Distinct from the system decomposition mod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i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b-system has overall responsibility for control and starts and stops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based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-system can respond to externally generated events from other sub-systems or the system’s environ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lised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rol sub-system takes responsibility for managing the execution of other sub-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-retur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-down subroutine model where control starts at the top of a subroutine hierarchy and moves downwards. Applicable to sequential 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le to concurrent systems. One system component controls the stopping, starting and coordination of other system processes. Can be implemented in sequential systems as a case stat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ll-retur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81080"/>
            <a:ext cx="8458200" cy="403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9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l-time system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600200"/>
            <a:ext cx="762012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17220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externally generated events where the timing of the event is outwith the control of the sub-systems which process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principal event-driven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models. An event is broadcast to all sub-systems. Any sub-system which can  handle the event may do s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rupt-driven models. Used in real-time systems where interrupts are detected by an interrupt handler and passed to some other component for proces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event driven models include spreadsheets and production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sign process for identifying the sub-systems making up a system and the framework for sub-system control and communication is architectural desig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utput of this design process is a description of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adcast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in integrating sub-systems on different computers in a net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systems register an interest in specific events. When these occur, control is transferred to the sub-system which can handle the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policy is not embedded in the event and message handler. Sub-systems decide on events of interest to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sub-systems don’t know if or when an event will be hand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ive broadca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133720"/>
            <a:ext cx="8458200" cy="3200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74678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-driven 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real-time systems where fast response to an event is ess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nown interrupt types with a handler defined for each ty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ype is associated with a memory location and a hardware switch causes transfer to its handl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ast response but complex to program and difficult to valid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rupt-driven contr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676520"/>
            <a:ext cx="769608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models may be specific to some application doma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domain-specif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models which are abstractions from a number of real systems and which encapsulate the principal characteristics of these systems. Covered in Chapter 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models which are more abstract, idealised model. Provide a means of information about that class of system and of comparing different architectu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models are usually bottom-up models; Reference models are top-down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 architec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models are derived from a study of the application domain rather than from existing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used as a basis for system implementation or to compare different systems. It acts as a standard against which systems can be eval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I model is a layered model for communication 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SI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0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pository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 and management of data i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groups of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management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and enaction of process mod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-tool and tool-environment commun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interface develo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ECMA reference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600200"/>
            <a:ext cx="79246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343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architecture is the fundamental framework for structuring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design decisions include decisions on the application architecture, the distribution and the architectural styles to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rchitectural models such as a structural model, a control model and a decomposition model may be develop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organisational models include repository models, client-server models and abstract machine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de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arly stage of the system design proc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the link between specification and design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carried out in parallel with some specification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s identifying major system components and their communic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decomposition models include object models and pipelining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models include centralised control and event-driven mode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architectures may be used to communicate domain-specific architectures and to assess and compare architectural desig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architectural models may be produced during the desig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model presents different perspectives on th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e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se operations to minimise sub-system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layered architecture with critical assets in inner la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 safety-critical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redundant components in the archite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ine-grain, self-contained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tages of explicit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may be used as a focus of discussion by system stakehold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at analysis of whether the system can meet its non-functional requirements is pos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-scale re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may be reusable across a range of syst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830592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chitecture and system characteri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4000"/>
          </a:bodyPr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se critical operations and minimise communications. Use large rather than fine-grain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ayered architecture with critical assets in the inner lay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se safety-critical features in a small number of sub-syst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redundant components and mechanisms for fault toler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9360" indent="-459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3480" indent="-450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fine-grain, replaceable compon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chitectural confli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large-grain components improves performance but reduces maintain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ing redundant data improves availability but makes security more diffic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ising safety-related features usually means more communication so degraded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structu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rned with decomposing the system into interacting sub-syst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chitectural design is normally expressed as a block diagram presenting an overview of the system struc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pecific models showing how sub-systems share data, are distributed and interface with each other may also be develop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9T20:33:40Z</dcterms:created>
  <dc:creator/>
  <dc:description/>
  <cp:keywords/>
  <dc:language>en-US</dc:language>
  <cp:lastModifiedBy>ghassan</cp:lastModifiedBy>
  <cp:lastPrinted>2009-04-22T19:24:48Z</cp:lastPrinted>
  <dcterms:modified xsi:type="dcterms:W3CDTF">2009-12-30T16:26:28Z</dcterms:modified>
  <cp:revision>30</cp:revision>
  <dc:subject/>
  <dc:title>Architectural Design</dc:title>
</cp:coreProperties>
</file>