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4.pct" ContentType="image/x-pict"/>
  <Override PartName="/ppt/media/image1.pct" ContentType="image/x-pict"/>
  <Override PartName="/ppt/media/image4.png" ContentType="image/png"/>
  <Override PartName="/ppt/media/image2.pct" ContentType="image/x-pict"/>
  <Override PartName="/ppt/media/image3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media/image13.pct" ContentType="image/x-pi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766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720" y="3834360"/>
            <a:ext cx="7804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8960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29520" y="167652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68320" y="167652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720" y="383436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29520" y="383436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68320" y="383436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69960" y="306000"/>
            <a:ext cx="780408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72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8960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720" y="3834360"/>
            <a:ext cx="7804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5560" y="1371600"/>
            <a:ext cx="9118440" cy="468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49360" indent="-241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809720" indent="-239760">
              <a:spcBef>
                <a:spcPts val="700"/>
              </a:spcBef>
              <a:buClr>
                <a:srgbClr val="063de8"/>
              </a:buClr>
              <a:buSzPct val="65000"/>
              <a:buFont typeface="Monotype Sorts" charset="2"/>
              <a:buChar char="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170080" indent="-2397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170080" indent="-2397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170080" indent="-2397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68440" y="6523200"/>
            <a:ext cx="815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6800" bIns="46800" anchor="t">
            <a:spAutoFit/>
          </a:bodyPr>
          <a:p>
            <a:pPr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©Ian Sommerville 2004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Times New Roman"/>
              </a:rPr>
              <a:t>Software Engineering, 7th edition. Chapter 10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                        Slide  </a:t>
            </a:r>
            <a:fld id="{F327DA5B-0C03-45FA-8D4C-7326675FD292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pct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2120" y="182844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mal Specific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e of formal specific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 fontScale="98000"/>
          </a:bodyPr>
          <a:p>
            <a:pPr marL="478800" indent="-478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al specification involves investing more effort in the early phases of software develop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78800" indent="-478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reduces requirements errors as it forces a detailed analysis of the require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78800" indent="-478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ompleteness and inconsistencies can be discovered and resolv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78800" indent="-478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nce, savings as made as the amount of rework due to requirements problems is reduc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st profi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use of formal specification means that the cost profile of a project chan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are greater up front costs as more time and effort are spent developing the specification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ever, implementation and validation costs should be reduced as the specification process reduces errors and ambiguities in the require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263520"/>
            <a:ext cx="803592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ment costs with formal spec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60020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6629400" cy="414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pecification techniqu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gebraic spec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ystem is specified in terms of its operations and their relationship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l-based spec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ystem is specified in terms of a state model that is constructed using mathematical constructs such as sets and sequences. Operations are defined by modifications to the system’s sta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mal specification languag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160020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762120" y="2286000"/>
          <a:ext cx="7696080" cy="322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86000"/>
                    <a:ext cx="7696080" cy="32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terface specific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rge systems are decomposed into subsystems with well-defined interfaces between these subsyste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cification of subsystem interfaces allows independent development of the different subsyste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faces may be defined as abstract data types or object clas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lgebraic approach to formal specification is particularly well-suited to interface specification as it is focused on the defined operations in an objec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ub-system interfac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1752480"/>
            <a:ext cx="8458200" cy="4191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914400" y="2362320"/>
            <a:ext cx="739152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834228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ructure of an algebraic spec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160020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990720" y="2286000"/>
            <a:ext cx="7315200" cy="321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pecification compon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es the sort (the type name) and declares other specifications that are us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ormally describes the operations on the typ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gnatu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es the syntax of the operations in the interface and their paramet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xio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es the operation semantics by defining axioms which characterise behaviou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82472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ystematic algebraic specific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gebraic specifications of a system may be developed in a systematic w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cification structuring;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cification naming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eration selection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ormal operation specification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ntax definition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xiom defini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explain why formal specification techniques help discover problems in system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describe the use of algebraic techniques for interface spec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describe the use of model-based techniques for behavioural spec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pecification oper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Arial"/>
              </a:rPr>
              <a:t>Constructor operatio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Operations which create entities of the type being specifi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Arial"/>
              </a:rPr>
              <a:t>Inspection operatio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Operations which evaluate entities of the type being specifi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specify behaviour, define the inspector operations for each constructor oper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perations on a list AD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 fontScale="99000"/>
          </a:bodyPr>
          <a:p>
            <a:pPr marL="483840" indent="-48384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tructor operations which evaluate to sort 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77840" indent="-474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e, Cons and Tai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3840" indent="-48384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pection operations which take sort list as a parameter and return some other s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77840" indent="-474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d and Lengt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3840" indent="-48384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il can be defined using the simpler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tructors Create and Cons. No need to define Head and Length with Tai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st specific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295280" y="1600200"/>
            <a:ext cx="624852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905120" y="1676520"/>
            <a:ext cx="502920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cursion in specific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erations are often specified recursivel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il (Cons (L, v)) =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 = Cre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reate    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s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 (Tail (L), v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 ([5, 7], 9) = [5, 7, 9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il ([5, 7, 9])  =  Tail (Cons ( [5, 7], 9))  =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 (Tail ([5, 7]), 9) = Cons (Tail (Cons ([5], 7)), 9) 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 (Cons (Tail ([5]), 7), 9) =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 (Cons (Tail (Cons ([], 5)), 7), 9) 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 (Cons ([Create], 7), 9) = Cons ([7], 9) =  [7, 9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face specification in critical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n air traffic control system where aircraft fly through managed sectors of airspa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sector may include a number of aircraft but, for safety reasons, these must be separa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is example, a simple vertical separation of 300m is propos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ystem should warn the controller if aircraft are instructed to move so that the separation rule is breach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sector objec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itical operations on an object representing a controlled sector 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Ent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Add an aircraft to the controlled airspac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Leav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Remove an aircraft from the controlled airspac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Mov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Move an aircraft from one height to anothe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Looku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Given an aircraft identifier, return its current heigh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mitive oper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is sometimes necessary to introduce additional operations to simplify the specific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other operations can then be defined using these more primitive opera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mitive ope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eate. Bring an instance of a sector into existenc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ut. Add an aircraft without safety check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-space. Determine if a given aircraft is in the sector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ccupied. Given a height, determine if there is an aircraft within 300m of that heigh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ctor specification (1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160020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0" t="0" r="0" b="1929047"/>
          <a:stretch/>
        </p:blipFill>
        <p:spPr>
          <a:xfrm>
            <a:off x="1295280" y="1752480"/>
            <a:ext cx="6324840" cy="42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ctor specification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371600" y="1600200"/>
            <a:ext cx="655308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1576275" r="0" b="0"/>
          <a:stretch/>
        </p:blipFill>
        <p:spPr>
          <a:xfrm>
            <a:off x="1828800" y="1676520"/>
            <a:ext cx="556272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pecification commenta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he basic constructor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reat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u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specify other oper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Occupi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-spa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using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reat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u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use them to make checks in other operation defini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operations that result in changes to the sector must check that the safety criterion hol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opics cover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al specification in the software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-system interface spec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havioural spec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havioural specific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gebraic specification can be cumbersome when the object operations are not independent of the object sta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el-based specification exposes the system state and defines the operations in terms of changes to that sta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Z notation is a mature technique for model-based specification. It combines formal and informal description and uses graphical highlighting when presenting specifica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tructure of a Z sche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160020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769608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delling the insulin pump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Z schema for the insulin pump declares a number of state variables including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put variables such as switch? (the device switch), InsulinReservoir? (the current quantity of insulin in the reservoir) and Reading? (the reading from the sensor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utput variables such as alarm! (a system alarm), display1!, display2! (the displays on the pump) and dose! (the dose of insulin to be delivered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chema invaria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Z schema has an invariant part which defines conditions that are always tru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the insulin pump schema it is always true t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dose must be less than or equal to the capacity of the insulin reservoir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 single dose may be more than 4 units of insulin and the total dose delivered in a time period must not exceed 25 units of insulin. This is a safety constraint;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play2! shows the amount of insulin to be delivered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sulin pump sche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1523880"/>
            <a:ext cx="8458200" cy="4876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85800" y="1676520"/>
          <a:ext cx="7010280" cy="4532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010280" cy="45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ate invaria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160020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85800" y="1752480"/>
          <a:ext cx="8915400" cy="417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8915400" cy="417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dosage comput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insulin pump computes the amount of insulin required by comparing the current reading with two previous reading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these suggest that blood glucose is rising then insulin is deliver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ormation about the total dose delivered is maintained to allow the safety check invariant to be appli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e that this invariant always applies - there is no need to repeat it in the dosage comput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UN schema (1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160020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85800" y="1752480"/>
          <a:ext cx="7238880" cy="4443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238880" cy="44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UN schema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1828800"/>
            <a:ext cx="8458200" cy="441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533520" y="2133720"/>
          <a:ext cx="7924680" cy="369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133720"/>
                    <a:ext cx="7924680" cy="36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ugar OK sche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160020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609480" y="1905120"/>
          <a:ext cx="8001000" cy="3862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905120"/>
                    <a:ext cx="8001000" cy="38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mal method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mal specification is part of a more general collection of techniques that are known as ‘formal methods’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all based on mathematical representation and analysis of softwa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mal methods inclu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mal specification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fication analysis and proof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nsformational developmen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gram verific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ey poi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mal system specification complements informal specification techniq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mal specifications are precise and unambiguous. They remove areas of doubt in a specific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mal specification forces an analysis of the system requirements at an early stage. Correcting errors at this stage is cheaper than modifying a delivered syst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mal specification techniques are most applicable in the development of critical systems and standar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ey poi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gebraic techniques are suited to interface specification where the interface is defined as a set of object clas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l-based techniques model the system using sets and functions. This simplifies some types of behavioural specific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rations are defined in a model-based spec. by defining pre and post conditions on the system st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eptance of formal method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 fontScale="99000"/>
          </a:bodyPr>
          <a:p>
            <a:pPr marL="483840" indent="-483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mal methods have not become mainstream software development techniques as was once predic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7840" indent="-474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ther software engineering techniques have been successful at increasing system quality. Hence the need for formal methods has been reduced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77840" indent="-474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rket changes have made time-to-market rather than software with a low error count the key factor. Formal methods do not reduce time to marke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77840" indent="-474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cope of formal methods is limited. They are not well-suited to specifying and analysing user interfaces and user interaction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77840" indent="-474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mal methods are still hard to scale up to large system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e of formal method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incipal benefits of formal methods are in reducing the number of faults in syste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equently, their main area of applicability is in critical systems engineering. There have been several successful projects where formal methods have been used in this are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is area, the use of formal methods is most likely to be cost-effective because high system failure costs must be avoide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63520"/>
            <a:ext cx="855216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pecification in the software proc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fication and design are inextricabl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mingl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chitectural design is essential to structure a specification and the specification proc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al specifications are expressed in a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hematical notation with precisely define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cabulary, syntax and semantic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pecification and desig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81080"/>
            <a:ext cx="8458200" cy="3657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8001000" cy="237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63520"/>
            <a:ext cx="84758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pecification in the software proc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160020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14400" y="2666880"/>
            <a:ext cx="7315200" cy="2424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2T13:55:34Z</dcterms:created>
  <dc:creator/>
  <dc:description/>
  <dc:language>en-US</dc:language>
  <cp:lastModifiedBy>Ian Sommerville</cp:lastModifiedBy>
  <cp:lastPrinted>2000-08-04T11:54:54Z</cp:lastPrinted>
  <dcterms:modified xsi:type="dcterms:W3CDTF">2004-05-04T21:03:35Z</dcterms:modified>
  <cp:revision>35</cp:revision>
  <dc:subject/>
  <dc:title>Formal Specification</dc:title>
</cp:coreProperties>
</file>