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04D0-50E1-463D-9520-0A854D22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160" y="382932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47F6-EBD9-481C-A040-F19952AD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2832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4E9-B821-4710-911E-B670D598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6708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0100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3316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6708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0100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9FA4-7CAC-40AE-8D35-FBE6B8BF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64A8-052C-45FC-9CA0-3AB8A9B2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816C-2351-4243-84EA-0D5CEF05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7018-20B9-4495-BA0C-A1BBD4AA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5AE7-20B3-476D-A5B6-957602BC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55B2-9037-4B10-B2FC-1FE5502B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610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0FA6-6A9F-4DE2-898E-60C2976F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356D-1AD1-4CCF-80FE-BC5280E4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4AF-F7B6-433C-B280-79C612EF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2832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CB25-1E3B-4C7F-B689-A9B24A60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EFE1-A8D5-4B72-9523-7D0ECE9E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3160" y="382932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7F19-3562-4957-828D-9419201F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2832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37A1-F41E-4AA2-AD76-1ACF1E75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6708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0100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316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6708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0100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2842-12FA-45A3-993D-D973D9CE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F88-0F6A-4DE9-A503-30CCFDA0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AA9-5A35-4E3C-BE7E-D9433FE2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71F7-2B3B-4D18-931A-4E8E0C80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610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540-D62D-4501-BAD1-EB695F1E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3D50-2FCD-4013-9115-92B5F8CB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2832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0912-AE8F-44E5-8E64-F9621D98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64E-24C3-4044-A254-A0CFAA50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1" name="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5" name="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1219320" y="64004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7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709272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A1F9-B200-4B6F-922A-28073E92C06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6" name="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1" name="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4941-9011-4D7D-9084-63AF403AF90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pace-for-time tradeoff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wo varieties of space-for-time algorithms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input enhancem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reprocess the input (or its part) to store some info to be used later in solving the problem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nting sor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ring searching algorith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estructu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reprocess the input to make accessing its elements easi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ash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dexing schemes (e.g., B-trees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70EF-D062-4764-9863-58773DB910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Good-suffix shift in Boyer-Moore algorithm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ood-suffix shif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pplied after 0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last characters were match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the distance between matched suffix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its rightmost occurrence in the pattern that is not preceded by the same character as the suffix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ABAB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1) = 4   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re is no such occurrence, match the longest part of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character suffix with corresponding prefix;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re are no such suffix-prefix matches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WOWWOW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2) = 5,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3) = 3,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4) = 3,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5) = 3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2933-77F9-4913-9D92-6316B24CFF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Good-suffix shift in the Boyer-Moore alg. (cont.)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fter matching successfully 0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racters, the algorithm shifts the pattern right by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max 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x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1} is bad-symbol shif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is good-suffix shif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2DA6-81A0-4A6A-BE95-9EA1E54BEA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oyer-Moore Algorithm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  Fill in the bad-symbol shift t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  Fill in the good-suffix shift t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3  Align the pattern against the beginning of the tex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4  Repeat until a matching substring is found or text end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are the corresponding characters right to left.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no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s match, retrieve entr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from the bad-symbol table for the text’s charact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using the mismatch and shift the pattern to the right b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.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0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racters are matched,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etrieve entr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from the bad-symbol table for the text’s charact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using the mismatch and entr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from the good-suffix table and shift the pattern to the right b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max 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}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x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1}.</a:t>
            </a:r>
            <a:br>
              <a:rPr sz="12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B47-BE6B-48C7-BB97-FB0B91863C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9480" y="4114800"/>
            <a:ext cx="2057400" cy="243828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 of Boyer-Moore alg. applic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266480"/>
            <a:ext cx="8610480" cy="52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96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 E S S _ K N E W _ A B O U T _ B A O B A B 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 A O B A B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= 6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B A O B A B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-2 = 4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                    </a:t>
            </a:r>
            <a:r>
              <a:rPr b="1" i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(2) = 5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 A O B A B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r>
              <a:rPr b="1" i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 = </a:t>
            </a:r>
            <a:r>
              <a:rPr b="1" i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(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Courier New"/>
              </a:rPr>
              <a:t>_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)-1 = 5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1) = 2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 A O B A B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success)</a:t>
            </a:r>
            <a:r>
              <a:rPr b="1" lang="en-US" sz="1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Courier New"/>
              </a:rPr>
              <a:t>    </a:t>
            </a:r>
            <a:br>
              <a:rPr sz="1400"/>
            </a:b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09480" y="1219320"/>
            <a:ext cx="8382240" cy="1371600"/>
            <a:chOff x="609480" y="1219320"/>
            <a:chExt cx="8382240" cy="1371600"/>
          </a:xfrm>
        </p:grpSpPr>
        <p:grpSp>
          <p:nvGrpSpPr>
            <p:cNvPr id="208" name=""/>
            <p:cNvGrpSpPr/>
            <p:nvPr/>
          </p:nvGrpSpPr>
          <p:grpSpPr>
            <a:xfrm>
              <a:off x="609480" y="1219320"/>
              <a:ext cx="8305920" cy="1371600"/>
              <a:chOff x="609480" y="1219320"/>
              <a:chExt cx="8305920" cy="137160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609480" y="1219320"/>
                <a:ext cx="8001000" cy="1371240"/>
                <a:chOff x="609480" y="1219320"/>
                <a:chExt cx="8001000" cy="13712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609480" y="1219320"/>
                  <a:ext cx="8001000" cy="685440"/>
                </a:xfrm>
                <a:prstGeom prst="rect">
                  <a:avLst/>
                </a:prstGeom>
                <a:solidFill>
                  <a:srgbClr val="99ffcc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1932"/>
                      </a:solidFill>
                      <a:latin typeface="Courier New"/>
                    </a:rPr>
                    <a:t>A B C D E F G H I J K L M N O P Q R S T U V W X Y Z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09480" y="1904760"/>
                  <a:ext cx="8001000" cy="685440"/>
                </a:xfrm>
                <a:prstGeom prst="rect">
                  <a:avLst/>
                </a:prstGeom>
                <a:solidFill>
                  <a:srgbClr val="99ffcc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1932"/>
                      </a:solidFill>
                      <a:latin typeface="Courier New"/>
                    </a:rPr>
                    <a:t>1 2 6 6 6 6 6 6 6 6 6 6 6 6 3 6 6 6 6 6 6 6 6 6 6 6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9525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0003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3052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9147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2196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5245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8291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1340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4389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7435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0484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3533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6579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9628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2677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6957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3908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0859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7813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4764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1715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8669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5620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2571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57200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8610480" y="1219320"/>
                <a:ext cx="304920" cy="1371600"/>
              </a:xfrm>
              <a:prstGeom prst="rect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8610480" y="1905120"/>
              <a:ext cx="304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534520" y="1219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1932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10480" y="20574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1" name=""/>
          <p:cNvGraphicFramePr/>
          <p:nvPr/>
        </p:nvGraphicFramePr>
        <p:xfrm>
          <a:off x="609480" y="4114800"/>
          <a:ext cx="2057400" cy="2408400"/>
        </p:xfrm>
        <a:graphic>
          <a:graphicData uri="http://schemas.openxmlformats.org/drawingml/2006/table">
            <a:tbl>
              <a:tblPr/>
              <a:tblGrid>
                <a:gridCol w="457200"/>
                <a:gridCol w="1143000"/>
                <a:gridCol w="4572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patter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d</a:t>
                      </a:r>
                      <a:r>
                        <a:rPr b="1" lang="en-US" sz="2000" spc="-1" strike="noStrike" baseline="-25000">
                          <a:solidFill>
                            <a:srgbClr val="001932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AO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A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AOB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AO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A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OB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AOB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2666880" y="4114800"/>
            <a:ext cx="0" cy="2438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114800"/>
            <a:ext cx="0" cy="2438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09480" y="4114800"/>
            <a:ext cx="2057400" cy="2438280"/>
            <a:chOff x="609480" y="4114800"/>
            <a:chExt cx="2057400" cy="2438280"/>
          </a:xfrm>
        </p:grpSpPr>
        <p:sp>
          <p:nvSpPr>
            <p:cNvPr id="245" name=""/>
            <p:cNvSpPr/>
            <p:nvPr/>
          </p:nvSpPr>
          <p:spPr>
            <a:xfrm>
              <a:off x="609480" y="457200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9480" y="495288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9480" y="533412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9480" y="571500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9480" y="609588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9480" y="655308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66680" y="4114800"/>
              <a:ext cx="0" cy="243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09680" y="4114800"/>
              <a:ext cx="0" cy="243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480" y="411480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B27F-8837-48F8-A4EB-758E26E6B2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oyer-Moore example from their paper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266840"/>
            <a:ext cx="87631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nd pattern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_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HAT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WHIC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_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FINALL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_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HALTS.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_ _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_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H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39CD-FE1D-4738-A119-4EF3920773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ashing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880" y="1266840"/>
            <a:ext cx="87631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 very efficient method  for implementing a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dictionary,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.e.,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a set with the operations: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nd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Based on representation-change and space-for-time tradeoff ideas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mportant applications: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ymbol tabl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atabases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extendible hash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055-1F69-42DF-9E27-3251DD911F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ash tables and hash function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idea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ash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to map keys of a given file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t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table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,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lled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ash tabl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using a predefin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unction, called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ash func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location (cell) in the hash t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student records, key = SSN.  Hash functio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o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some integer (typically, prime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1000, where is record with SSN= 314159265 stored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enerally, a hash function should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858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 easy to compu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858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istribute keys about evenly throughout the hash t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92AC-281F-4E8F-A4A2-15254BFCAC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ollision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1266480"/>
            <a:ext cx="8839080" cy="55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= 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, there is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ollis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ood hash functions result in fewer collisions but some collisions should be expected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irthday parado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wo principal hashing schemes handle collisions differently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: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Open hashing</a:t>
            </a:r>
            <a:br>
              <a:rPr sz="2000"/>
            </a:br>
            <a:r>
              <a:rPr b="0" i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–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ach cell is a header of linked list of all keys hashed to i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Closed hashing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ne key per cell 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 case of collision, finds another cell by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linear probing: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use next free bucket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double hashing: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use second hash function to compute incremen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608A-065E-4B08-B540-5197936D8E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n hashing (Separate chaining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eys are stored in linked lists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outsid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 hash table who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lements serve as the lists’ header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, FOOL, AND, HIS, MONEY, ARE, SOON, PART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sum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‘s letters’ positions in the alphabet MOD 13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09480" y="3276720"/>
          <a:ext cx="8077320" cy="790560"/>
        </p:xfrm>
        <a:graphic>
          <a:graphicData uri="http://schemas.openxmlformats.org/drawingml/2006/table">
            <a:tbl>
              <a:tblPr/>
              <a:tblGrid>
                <a:gridCol w="762120"/>
                <a:gridCol w="457200"/>
                <a:gridCol w="914400"/>
                <a:gridCol w="762120"/>
                <a:gridCol w="766800"/>
                <a:gridCol w="1290600"/>
                <a:gridCol w="838080"/>
                <a:gridCol w="990720"/>
                <a:gridCol w="1295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K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AR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57200" y="4572000"/>
          <a:ext cx="8305920" cy="395280"/>
        </p:xfrm>
        <a:graphic>
          <a:graphicData uri="http://schemas.openxmlformats.org/drawingml/2006/table">
            <a:tbl>
              <a:tblPr/>
              <a:tblGrid>
                <a:gridCol w="665280"/>
                <a:gridCol w="582480"/>
                <a:gridCol w="655560"/>
                <a:gridCol w="582840"/>
                <a:gridCol w="509400"/>
                <a:gridCol w="509760"/>
                <a:gridCol w="655560"/>
                <a:gridCol w="874800"/>
                <a:gridCol w="363240"/>
                <a:gridCol w="801720"/>
                <a:gridCol w="509760"/>
                <a:gridCol w="728640"/>
                <a:gridCol w="86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1219320" y="52578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188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52578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O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6708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86200" y="5257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5257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H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2920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48320" y="5410080"/>
            <a:ext cx="1143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5257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ONE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525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525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AR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43800" y="556272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6600" y="5867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0773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152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199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006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848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290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623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7000" y="6248520"/>
            <a:ext cx="21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arch for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K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E87-CB8F-414E-9FDA-A696A29704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n hashing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hash function distributes keys uniformly, average length of linked list will be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/m.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ratio is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oad fact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verage number of probes in successful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and unsuccessful   searches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+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,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 =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ad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 is typically kept small (ideally, about 1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en hashing still works if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&gt; 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5D4-5EEB-440E-9DE2-459F25A7AE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view: String searching by brute forc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atter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 string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racters to search fo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ex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 (long) string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racters to search i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Brute force algorith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ign pattern at beginning of tex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ving from left to right, compare each character of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ttern to the corresponding character in text until   either all characters are found to match (successful search) or a mismatch is detec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3  While a mismatch is detected and the text is not yet exhausted, realign pattern one position to the right and repeat Step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A490-4891-4536-B41A-562E4707F4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ed hashing (Open addressing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6104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eys are stored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insid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 hash table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57200" y="3276720"/>
          <a:ext cx="8686800" cy="3162240"/>
        </p:xfrm>
        <a:graphic>
          <a:graphicData uri="http://schemas.openxmlformats.org/drawingml/2006/table">
            <a:tbl>
              <a:tblPr/>
              <a:tblGrid>
                <a:gridCol w="1281240"/>
                <a:gridCol w="365040"/>
                <a:gridCol w="335160"/>
                <a:gridCol w="304560"/>
                <a:gridCol w="304920"/>
                <a:gridCol w="304920"/>
                <a:gridCol w="838080"/>
                <a:gridCol w="1219320"/>
                <a:gridCol w="380880"/>
                <a:gridCol w="990720"/>
                <a:gridCol w="685800"/>
                <a:gridCol w="761760"/>
                <a:gridCol w="914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AR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533520" y="1828800"/>
          <a:ext cx="8610480" cy="852480"/>
        </p:xfrm>
        <a:graphic>
          <a:graphicData uri="http://schemas.openxmlformats.org/drawingml/2006/table">
            <a:tbl>
              <a:tblPr/>
              <a:tblGrid>
                <a:gridCol w="955440"/>
                <a:gridCol w="644760"/>
                <a:gridCol w="914400"/>
                <a:gridCol w="838080"/>
                <a:gridCol w="838080"/>
                <a:gridCol w="1219320"/>
                <a:gridCol w="914400"/>
                <a:gridCol w="990720"/>
                <a:gridCol w="1295280"/>
              </a:tblGrid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K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AR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/>
          <p:cNvSpPr/>
          <p:nvPr/>
        </p:nvSpPr>
        <p:spPr>
          <a:xfrm>
            <a:off x="237960" y="6248520"/>
            <a:ext cx="371520" cy="1440"/>
          </a:xfrm>
          <a:prstGeom prst="line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144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574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623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2971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81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2971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483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2971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2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0" y="297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43800" y="297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1880" y="297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D71-C2C1-41F4-8380-7D25A932CE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ed hashing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6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es not work 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&gt; 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voids point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ions a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traightforwar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probes to find/insert/delete a key depends on  load factor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hash table density) and collision resolution strategy.   For linear probing: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(½) (1+ 1/(1-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)  and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 =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½) (1+ 1/(1-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²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s the table gets filled (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pproaches 1), number of probes  in linear probing increases dramatically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143000" y="4572000"/>
            <a:ext cx="510552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F9DB-4407-4253-B50F-11690070CA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tring searching by preprocessing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ral string searching algorithms are based on the inpu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nhancement idea of  preprocessing the pattern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nuth-Morris-Pratt (KMP)  algorithm preprocesses   pattern left to right to get useful information for later search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oyer -Moore algorithm preprocesses pattern right to left and store information into two tabl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orspool’s algorithm simplifies the Boyer-Moore algorithm by using just one t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2EA9-0AE1-4315-AA3D-71D08E17D6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rspool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simplified version of Boyer-Moore algorithm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eprocesses pattern to generate a shift table that determines how much to shift the pattern when a mismatch occur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ways makes a shift based on the text’s charact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igned with th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as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racter in the pattern according to the shift table’s entry 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356D-335B-45CB-9FC3-5AF7810B8D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w far to shift?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ok at first (rightmost) character in text that was compared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haracter is not in the patter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.....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......................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not in pattern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AOBAB</a:t>
            </a:r>
            <a:br>
              <a:rPr sz="2000"/>
            </a:b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haracter is in the pattern (but not the rightmos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.....O......................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O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occurs once in pattern)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BAOBAB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.....A......................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occurs twice in pattern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AOBAB</a:t>
            </a:r>
            <a:br>
              <a:rPr sz="2000"/>
            </a:b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ightmost characters do matc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.....B......................                   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AOBAB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71A3-2A8D-4DFA-89EC-79468A90BE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hift tab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hift sizes can be precomputed by the formul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istance fro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’s rightmost occurrence in pattern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among its firs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characters to its right en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ttern’s leng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otherwi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scanning pattern before search begins and stored in a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able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hift table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hift table is indexed by text and pattern alphabet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g, for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OBAB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65640" y="5448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5181480"/>
            <a:ext cx="8001000" cy="1371240"/>
            <a:chOff x="914400" y="5181480"/>
            <a:chExt cx="8001000" cy="1371240"/>
          </a:xfrm>
        </p:grpSpPr>
        <p:sp>
          <p:nvSpPr>
            <p:cNvPr id="120" name=""/>
            <p:cNvSpPr/>
            <p:nvPr/>
          </p:nvSpPr>
          <p:spPr>
            <a:xfrm>
              <a:off x="914400" y="5181480"/>
              <a:ext cx="8001000" cy="68544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A B C D E F G H I J K L M N O P Q R S T U V W X Y 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4400" y="5866920"/>
              <a:ext cx="8001000" cy="68544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1 2 6 6 6 6 6 6 6 6 6 6 6 6 3 6 6 6 6 6 6 6 6 6 6 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574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052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101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196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245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294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340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389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438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484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533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582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628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2677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726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006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957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08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862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813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764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718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669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20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7692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885-E058-4DE9-AD2A-87A97202A2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 of Horspool’s alg. applic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RD LOVED BANANA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OBAB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OBAB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OBAB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OBAB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unsuccessful search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09480" y="1219320"/>
            <a:ext cx="8382240" cy="1371600"/>
            <a:chOff x="609480" y="1219320"/>
            <a:chExt cx="8382240" cy="1371600"/>
          </a:xfrm>
        </p:grpSpPr>
        <p:grpSp>
          <p:nvGrpSpPr>
            <p:cNvPr id="150" name=""/>
            <p:cNvGrpSpPr/>
            <p:nvPr/>
          </p:nvGrpSpPr>
          <p:grpSpPr>
            <a:xfrm>
              <a:off x="609480" y="1219320"/>
              <a:ext cx="8305920" cy="1371600"/>
              <a:chOff x="609480" y="1219320"/>
              <a:chExt cx="8305920" cy="137160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609480" y="1219320"/>
                <a:ext cx="8001000" cy="1371240"/>
                <a:chOff x="609480" y="1219320"/>
                <a:chExt cx="8001000" cy="13712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09480" y="1219320"/>
                  <a:ext cx="8001000" cy="685440"/>
                </a:xfrm>
                <a:prstGeom prst="rect">
                  <a:avLst/>
                </a:prstGeom>
                <a:solidFill>
                  <a:srgbClr val="99ffcc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1932"/>
                      </a:solidFill>
                      <a:latin typeface="Courier New"/>
                    </a:rPr>
                    <a:t>A B C D E F G H I J K L M N O P Q R S T U V W X Y Z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09480" y="1904760"/>
                  <a:ext cx="8001000" cy="685440"/>
                </a:xfrm>
                <a:prstGeom prst="rect">
                  <a:avLst/>
                </a:prstGeom>
                <a:solidFill>
                  <a:srgbClr val="99ffcc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1932"/>
                      </a:solidFill>
                      <a:latin typeface="Courier New"/>
                    </a:rPr>
                    <a:t>1 2 6 6 6 6 6 6 6 6 6 6 6 6 3 6 6 6 6 6 6 6 6 6 6 6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9525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0003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3052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9147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2196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5245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8291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1340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4389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7435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0484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3533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6579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9628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2677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6957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3908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0859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7813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4764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1715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8669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5620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2571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57200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8610480" y="1219320"/>
                <a:ext cx="304920" cy="1371600"/>
              </a:xfrm>
              <a:prstGeom prst="rect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8610480" y="1905120"/>
              <a:ext cx="304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534520" y="1219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1932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610480" y="20574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7FB5-E1A8-4ECD-AD23-CBEF46F94E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oyer-Moore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sed on same two idea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aring pattern characters to text from right to left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ecomputing shift sizes in two table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ad-symbol tabl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dicates how much to shift based on text’s character causing a mismatch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ood-suffix tabl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dicates how much to shift based on matched part (suffix) of the patter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F80F-97A6-4AB8-AFB6-B6480E62BF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Bad-symbol shift in Boyer-Moore algorithm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 rightmost character of the pattern doesn’t match, BM algorithm acts as Horspool’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 rightmost character of the pattern does match, BM compares preceding characters right to left until either all pattern’s characters match or a mismatch on text’s charact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encountered aft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gt; 0 match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ext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ttern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d-symbol shift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x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1}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3733920"/>
            <a:ext cx="6933960" cy="45720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373392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373392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373392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33920" y="4724280"/>
            <a:ext cx="2743200" cy="45720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47242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4724280"/>
            <a:ext cx="0" cy="4572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4267080"/>
            <a:ext cx="0" cy="381240"/>
          </a:xfrm>
          <a:prstGeom prst="line">
            <a:avLst/>
          </a:prstGeom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4267080"/>
            <a:ext cx="0" cy="381240"/>
          </a:xfrm>
          <a:prstGeom prst="line">
            <a:avLst/>
          </a:prstGeom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800600" y="4343040"/>
            <a:ext cx="304920" cy="152280"/>
          </a:xfrm>
          <a:prstGeom prst="line">
            <a:avLst/>
          </a:prstGeom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4267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mat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F94A-55DA-46F2-A5D9-7D135898E8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Anany Levitin</dc:creator>
  <dc:description/>
  <dc:language>en-US</dc:language>
  <cp:lastModifiedBy>usnidem</cp:lastModifiedBy>
  <dcterms:modified xsi:type="dcterms:W3CDTF">2011-12-09T22:32:50Z</dcterms:modified>
  <cp:revision>94</cp:revision>
  <dc:subject/>
  <dc:title>Chapter 7:  Space and Time Tradeoffs </dc:title>
</cp:coreProperties>
</file>