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452F-0507-45DD-B447-5577D753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3160" y="3829320"/>
            <a:ext cx="83818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8D3C-5816-4661-8028-4EF99DC5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16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2832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0CF3-E190-42C9-BA10-580DE7E8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67080" y="126684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01000" y="126684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33160" y="382932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67080" y="382932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01000" y="382932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E7F0-5A59-44BB-AADA-B5B64E3D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A038-4ECA-43DE-BED1-3428E531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440B-2398-41DC-A261-8494400E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4371-C03F-49B0-A9B5-172CF101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1EF6-A099-47E2-A299-93F61C8C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2A21-2832-4C94-BF64-4A72049C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610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404B-0472-4B2F-A6A0-7B36CEE3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316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800E-8B0C-4305-BC1D-6F1E814A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D87-F2AD-4B36-A1A7-85855F38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2832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04C9-A99C-4CC0-B4B9-D3921F16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3160" y="3829320"/>
            <a:ext cx="83818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417D-7272-4994-89C9-F6329071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3160" y="3829320"/>
            <a:ext cx="83818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3FAD-E342-487F-B104-B1131460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316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2832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6F26-85F4-414E-BCA4-92501749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67080" y="126684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01000" y="126684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3160" y="382932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67080" y="382932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01000" y="382932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5132-C2A3-42CB-AE6B-73FC64EC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1AE-4C7E-48E6-8FDD-9701CFAB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39B0-3DA3-44C0-89E9-027E53F5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EA2-55C9-4D75-89D9-20B8F8E3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610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43A3-418C-407C-841B-8EC909D4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7EA7-D7CA-463A-A739-D6DDB1CC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2832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1FA-0825-4A7A-8E35-73179995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3160" y="3829320"/>
            <a:ext cx="83818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311-4094-4651-995E-61532475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1" name="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5" name="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1219320" y="64004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7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709272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11A6-8210-4CB9-BF7E-0BF134FCF9E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6" name="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1" name="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0CE6-E48D-4D32-B779-ADB15732B08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pace-for-time tradeoff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wo varieties of space-for-time algorithms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input enhancem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—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reprocess the input (or its part) to store some info to be used later in solving the problem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unting sor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ring searching algorith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prestructu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—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reprocess the input to make accessing its elements easi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ash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dexing schemes (e.g., B-trees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980F-11E7-4A7D-898E-0A5E047612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Good-suffix shift in Boyer-Moore algorithm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822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ood-suffix shif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pplied after 0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last characters were match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the distance between matched suffix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its rightmost occurrence in the pattern that is not preceded by the same character as the suffix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ABAB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1) = 4   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re is no such occurrence, match the longest part of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character suffix with corresponding prefix;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re are no such suffix-prefix matches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WOWWOW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2) = 5,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3) = 3,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4) = 3,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5) = 3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7A7-68CB-4CB5-A75F-F50E07E91D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Good-suffix shift in the Boyer-Moore alg. (cont.)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fter matching successfully 0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haracters, the algorithm shifts the pattern right by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max 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x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1} is bad-symbol shif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is good-suffix shif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5BF-2D08-4500-A7A5-5B080891A9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oyer-Moore Algorithm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96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1  Fill in the bad-symbol shift t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2  Fill in the good-suffix shift t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3  Align the pattern against the beginning of the tex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4  Repeat until a matching substring is found or text end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are the corresponding characters right to left.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no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s match, retrieve entr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from the bad-symbol table for the text’s characte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using the mismatch and shift the pattern to the right b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.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0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haracters are matched,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etrieve entr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from the bad-symbol table for the text’s characte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using the mismatch and entr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from the good-suffix table and shift the pattern to the right b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max 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}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x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1}.</a:t>
            </a:r>
            <a:br>
              <a:rPr sz="12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C13A-E4E6-4E76-B2E9-24E8586C6E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09480" y="4114800"/>
            <a:ext cx="2057400" cy="243828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 of Boyer-Moore alg. applic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266480"/>
            <a:ext cx="8610480" cy="52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96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 E S S _ K N E W _ A B O U T _ B A O B A B 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 A O B A B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 = 6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B A O B A B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-2 = 4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                    </a:t>
            </a:r>
            <a:r>
              <a:rPr b="1" i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d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(2) = 5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 A O B A B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                     </a:t>
            </a:r>
            <a:r>
              <a:rPr b="1" i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d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 = </a:t>
            </a:r>
            <a:r>
              <a:rPr b="1" i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(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Courier New"/>
              </a:rPr>
              <a:t>_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)-1 = 5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                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1) = 2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 A O B A B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success)</a:t>
            </a:r>
            <a:r>
              <a:rPr b="1" lang="en-US" sz="1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Courier New"/>
              </a:rPr>
              <a:t>    </a:t>
            </a:r>
            <a:br>
              <a:rPr sz="1400"/>
            </a:b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09480" y="1219320"/>
            <a:ext cx="8382240" cy="1371600"/>
            <a:chOff x="609480" y="1219320"/>
            <a:chExt cx="8382240" cy="1371600"/>
          </a:xfrm>
        </p:grpSpPr>
        <p:grpSp>
          <p:nvGrpSpPr>
            <p:cNvPr id="208" name=""/>
            <p:cNvGrpSpPr/>
            <p:nvPr/>
          </p:nvGrpSpPr>
          <p:grpSpPr>
            <a:xfrm>
              <a:off x="609480" y="1219320"/>
              <a:ext cx="8305920" cy="1371600"/>
              <a:chOff x="609480" y="1219320"/>
              <a:chExt cx="8305920" cy="137160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609480" y="1219320"/>
                <a:ext cx="8001000" cy="1371240"/>
                <a:chOff x="609480" y="1219320"/>
                <a:chExt cx="8001000" cy="137124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609480" y="1219320"/>
                  <a:ext cx="8001000" cy="685440"/>
                </a:xfrm>
                <a:prstGeom prst="rect">
                  <a:avLst/>
                </a:prstGeom>
                <a:solidFill>
                  <a:srgbClr val="99ffcc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1932"/>
                      </a:solidFill>
                      <a:latin typeface="Courier New"/>
                    </a:rPr>
                    <a:t>A B C D E F G H I J K L M N O P Q R S T U V W X Y Z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09480" y="1904760"/>
                  <a:ext cx="8001000" cy="685440"/>
                </a:xfrm>
                <a:prstGeom prst="rect">
                  <a:avLst/>
                </a:prstGeom>
                <a:solidFill>
                  <a:srgbClr val="99ffcc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1932"/>
                      </a:solidFill>
                      <a:latin typeface="Courier New"/>
                    </a:rPr>
                    <a:t>1 2 6 6 6 6 6 6 6 6 6 6 6 6 3 6 6 6 6 6 6 6 6 6 6 6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9525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0003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3052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9147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2196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5245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8291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1340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4389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7435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0484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3533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6579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9628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2677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6957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3908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0859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7813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4764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1715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8669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5620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2571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57200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8610480" y="1219320"/>
                <a:ext cx="304920" cy="1371600"/>
              </a:xfrm>
              <a:prstGeom prst="rect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8610480" y="1905120"/>
              <a:ext cx="304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534520" y="1219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1932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10480" y="20574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41" name=""/>
          <p:cNvGraphicFramePr/>
          <p:nvPr/>
        </p:nvGraphicFramePr>
        <p:xfrm>
          <a:off x="609480" y="4114800"/>
          <a:ext cx="2057400" cy="2408400"/>
        </p:xfrm>
        <a:graphic>
          <a:graphicData uri="http://schemas.openxmlformats.org/drawingml/2006/table">
            <a:tbl>
              <a:tblPr/>
              <a:tblGrid>
                <a:gridCol w="457200"/>
                <a:gridCol w="1143000"/>
                <a:gridCol w="4572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patter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d</a:t>
                      </a:r>
                      <a:r>
                        <a:rPr b="1" lang="en-US" sz="2000" spc="-1" strike="noStrike" baseline="-25000">
                          <a:solidFill>
                            <a:srgbClr val="001932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AO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A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AOB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AO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A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OB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AOB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2666880" y="4114800"/>
            <a:ext cx="0" cy="2438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114800"/>
            <a:ext cx="0" cy="2438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09480" y="4114800"/>
            <a:ext cx="2057400" cy="2438280"/>
            <a:chOff x="609480" y="4114800"/>
            <a:chExt cx="2057400" cy="2438280"/>
          </a:xfrm>
        </p:grpSpPr>
        <p:sp>
          <p:nvSpPr>
            <p:cNvPr id="245" name=""/>
            <p:cNvSpPr/>
            <p:nvPr/>
          </p:nvSpPr>
          <p:spPr>
            <a:xfrm>
              <a:off x="609480" y="457200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9480" y="495288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9480" y="533412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9480" y="571500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9480" y="609588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9480" y="655308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66680" y="4114800"/>
              <a:ext cx="0" cy="2438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09680" y="4114800"/>
              <a:ext cx="0" cy="2438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9480" y="411480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E92-B9E9-460E-BFEF-ECFE20D5C0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oyer-Moore example from their paper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266840"/>
            <a:ext cx="87631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nd pattern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_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HAT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WHIC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_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FINALL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_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HALTS.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_ _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_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H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ABD2-6440-4610-AD2E-7E66FCD97F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ashing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880" y="1266840"/>
            <a:ext cx="87631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 very efficient method  for implementing a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dictionary,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i.e.,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a set with the operations: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nd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ert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Based on representation-change and space-for-time tradeoff ideas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Important applications: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ymbol tabl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atabases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extendible hash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D2A8-4891-4272-8420-C9D67F49AC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ash tables and hash function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idea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ash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to map keys of a given file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t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table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,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lled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ash tabl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using a predefin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unction, called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ash func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location (cell) in the hash t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student records, key = SSN.  Hash function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o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some integer (typically, prime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1000, where is record with SSN= 314159265 stored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enerally, a hash function should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858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e easy to comput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858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istribute keys about evenly throughout the hash t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670A-7FFE-41F8-8726-89DF9350FE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ollision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560" y="1266480"/>
            <a:ext cx="8839080" cy="55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= 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, there is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ollis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ood hash functions result in fewer collisions but some collisions should be expected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irthday parado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wo principal hashing schemes handle collisions differently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: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Open hashing</a:t>
            </a:r>
            <a:br>
              <a:rPr sz="2000"/>
            </a:br>
            <a:r>
              <a:rPr b="0" i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–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ach cell is a header of linked list of all keys hashed to i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Closed hashing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ne key per cell 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 case of collision, finds another cell by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linear probing: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use next free bucket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double hashing: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use second hash function to compute incremen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A0B-454D-4773-BC45-ED5ABFA269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n hashing (Separate chaining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eys are stored in linked lists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outsid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 hash table who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lements serve as the lists’ header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, FOOL, AND, HIS, MONEY, ARE, SOON, PART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sum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‘s letters’ positions in the alphabet MOD 13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09480" y="3276720"/>
          <a:ext cx="8077320" cy="790560"/>
        </p:xfrm>
        <a:graphic>
          <a:graphicData uri="http://schemas.openxmlformats.org/drawingml/2006/table">
            <a:tbl>
              <a:tblPr/>
              <a:tblGrid>
                <a:gridCol w="762120"/>
                <a:gridCol w="457200"/>
                <a:gridCol w="914400"/>
                <a:gridCol w="762120"/>
                <a:gridCol w="766800"/>
                <a:gridCol w="1290600"/>
                <a:gridCol w="838080"/>
                <a:gridCol w="990720"/>
                <a:gridCol w="1295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K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O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AR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57200" y="4572000"/>
          <a:ext cx="8305920" cy="395280"/>
        </p:xfrm>
        <a:graphic>
          <a:graphicData uri="http://schemas.openxmlformats.org/drawingml/2006/table">
            <a:tbl>
              <a:tblPr/>
              <a:tblGrid>
                <a:gridCol w="665280"/>
                <a:gridCol w="582480"/>
                <a:gridCol w="655560"/>
                <a:gridCol w="582840"/>
                <a:gridCol w="509400"/>
                <a:gridCol w="509760"/>
                <a:gridCol w="655560"/>
                <a:gridCol w="874800"/>
                <a:gridCol w="363240"/>
                <a:gridCol w="801720"/>
                <a:gridCol w="509760"/>
                <a:gridCol w="728640"/>
                <a:gridCol w="866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1219320" y="52578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188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1320" y="52578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O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6708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86200" y="5257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3432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5257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H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2920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48320" y="5410080"/>
            <a:ext cx="1143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5257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ONE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5257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525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AR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543800" y="5562720"/>
            <a:ext cx="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6600" y="5867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0773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152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294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199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006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3848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290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718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623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430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7000" y="6248520"/>
            <a:ext cx="21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arch for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K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5A14-FCF4-40B4-A291-3D9BC0A8C2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n hashing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hash function distributes keys uniformly, average length of linked list will be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/m.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ratio is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oad facto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verage number of probes in successful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and unsuccessful   searches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+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,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 =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ad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 is typically kept small (ideally, about 1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pen hashing still works if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&gt; 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380C-B55D-4901-948B-C02A6E3A91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eview: String searching by brute forc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961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atter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 string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haracters to search fo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1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ex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 (long) string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haracters to search i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19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1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Brute force algorith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1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ign pattern at beginning of tex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1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ving from left to right, compare each character of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ttern to the corresponding character in text until   either all characters are found to match (successful search) or a mismatch is detec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1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3  While a mismatch is detected and the text is not yet exhausted, realign pattern one position to the right and repeat Step 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EA93-E398-45DA-B715-537BAB0F8A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osed hashing (Open addressing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6104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eys are stored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insid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 hash table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57200" y="3276720"/>
          <a:ext cx="8686800" cy="3162240"/>
        </p:xfrm>
        <a:graphic>
          <a:graphicData uri="http://schemas.openxmlformats.org/drawingml/2006/table">
            <a:tbl>
              <a:tblPr/>
              <a:tblGrid>
                <a:gridCol w="1281240"/>
                <a:gridCol w="365040"/>
                <a:gridCol w="335160"/>
                <a:gridCol w="304560"/>
                <a:gridCol w="304920"/>
                <a:gridCol w="304920"/>
                <a:gridCol w="838080"/>
                <a:gridCol w="1219320"/>
                <a:gridCol w="380880"/>
                <a:gridCol w="990720"/>
                <a:gridCol w="685800"/>
                <a:gridCol w="761760"/>
                <a:gridCol w="914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O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AR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O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533520" y="1828800"/>
          <a:ext cx="8610480" cy="852480"/>
        </p:xfrm>
        <a:graphic>
          <a:graphicData uri="http://schemas.openxmlformats.org/drawingml/2006/table">
            <a:tbl>
              <a:tblPr/>
              <a:tblGrid>
                <a:gridCol w="955440"/>
                <a:gridCol w="644760"/>
                <a:gridCol w="914400"/>
                <a:gridCol w="838080"/>
                <a:gridCol w="838080"/>
                <a:gridCol w="1219320"/>
                <a:gridCol w="914400"/>
                <a:gridCol w="990720"/>
                <a:gridCol w="1295280"/>
              </a:tblGrid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K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O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AR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"/>
          <p:cNvSpPr/>
          <p:nvPr/>
        </p:nvSpPr>
        <p:spPr>
          <a:xfrm>
            <a:off x="237960" y="6248520"/>
            <a:ext cx="371520" cy="1440"/>
          </a:xfrm>
          <a:prstGeom prst="line">
            <a:avLst/>
          </a:prstGeom>
          <a:ln w="93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144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574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623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2971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81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2971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483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0080" y="2971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2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0" y="2971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43800" y="2971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1880" y="2971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42BE-F999-40A3-BEE7-712F9FA4D0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osed hashing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6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es not work i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&gt; 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voids point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ions a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straightforwar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ber of probes to find/insert/delete a key depends on  load factor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hash table density) and collision resolution strategy.   For linear probing: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(½) (1+ 1/(1-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)  and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 =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½) (1+ 1/(1-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²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s the table gets filled (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pproaches 1), number of probes  in linear probing increases dramatically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143000" y="4572000"/>
            <a:ext cx="510552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B63-E999-4723-8720-1B7E8E9738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tring searching by preprocessing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ral string searching algorithms are based on the inpu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nhancement idea of  preprocessing the pattern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nuth-Morris-Pratt (KMP)  algorithm preprocesses   pattern left to right to get useful information for later search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oyer -Moore algorithm preprocesses pattern right to left and store information into two tabl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orspool’s algorithm simplifies the Boyer-Moore algorithm by using just one t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9B41-CBDE-4E28-B1B3-79E47DBDD7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orspool’s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simplified version of Boyer-Moore algorithm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eprocesses pattern to generate a shift table that determines how much to shift the pattern when a mismatch occurs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ways makes a shift based on the text’s characte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igned with th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as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haracter in the pattern according to the shift table’s entry 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6D48-1F68-495D-B3CA-09FC215F8D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ow far to shift?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ok at first (rightmost) character in text that was compared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haracter is not in the patter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.....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......................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not in pattern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AOBAB</a:t>
            </a:r>
            <a:br>
              <a:rPr sz="2000"/>
            </a:b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haracter is in the pattern (but not the rightmos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.....O......................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O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occurs once in pattern)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BAOBAB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.....A......................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occurs twice in pattern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AOBAB</a:t>
            </a:r>
            <a:br>
              <a:rPr sz="2000"/>
            </a:b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rightmost characters do matc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.....B......................                   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AOBAB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13C0-861A-4EB3-B44E-60EBC72323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hift tab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hift sizes can be precomputed by the formul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istance fro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’s rightmost occurrence in pattern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among its firs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characters to its right en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ttern’s leng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otherwi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scanning pattern before search begins and stored in a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able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hift table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hift table is indexed by text and pattern alphabet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g, for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AOBAB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65640" y="5448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5181480"/>
            <a:ext cx="8001000" cy="1371240"/>
            <a:chOff x="914400" y="5181480"/>
            <a:chExt cx="8001000" cy="1371240"/>
          </a:xfrm>
        </p:grpSpPr>
        <p:sp>
          <p:nvSpPr>
            <p:cNvPr id="120" name=""/>
            <p:cNvSpPr/>
            <p:nvPr/>
          </p:nvSpPr>
          <p:spPr>
            <a:xfrm>
              <a:off x="914400" y="5181480"/>
              <a:ext cx="8001000" cy="68544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A B C D E F G H I J K L M N O P Q R S T U V W X Y 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14400" y="5866920"/>
              <a:ext cx="8001000" cy="68544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1 2 6 6 6 6 6 6 6 6 6 6 6 6 3 6 6 6 6 6 6 6 6 6 6 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574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052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101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196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245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294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340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389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438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484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533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582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628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2677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726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006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957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08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862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813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764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718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669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20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7692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8B3-A59F-444B-A7AA-CA5FAED6A0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 of Horspool’s alg. applic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ARD LOVED BANANA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AOBAB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AOBAB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AOBAB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AOBAB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unsuccessful search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09480" y="1219320"/>
            <a:ext cx="8382240" cy="1371600"/>
            <a:chOff x="609480" y="1219320"/>
            <a:chExt cx="8382240" cy="1371600"/>
          </a:xfrm>
        </p:grpSpPr>
        <p:grpSp>
          <p:nvGrpSpPr>
            <p:cNvPr id="150" name=""/>
            <p:cNvGrpSpPr/>
            <p:nvPr/>
          </p:nvGrpSpPr>
          <p:grpSpPr>
            <a:xfrm>
              <a:off x="609480" y="1219320"/>
              <a:ext cx="8305920" cy="1371600"/>
              <a:chOff x="609480" y="1219320"/>
              <a:chExt cx="8305920" cy="137160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609480" y="1219320"/>
                <a:ext cx="8001000" cy="1371240"/>
                <a:chOff x="609480" y="1219320"/>
                <a:chExt cx="8001000" cy="13712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09480" y="1219320"/>
                  <a:ext cx="8001000" cy="685440"/>
                </a:xfrm>
                <a:prstGeom prst="rect">
                  <a:avLst/>
                </a:prstGeom>
                <a:solidFill>
                  <a:srgbClr val="99ffcc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1932"/>
                      </a:solidFill>
                      <a:latin typeface="Courier New"/>
                    </a:rPr>
                    <a:t>A B C D E F G H I J K L M N O P Q R S T U V W X Y Z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09480" y="1904760"/>
                  <a:ext cx="8001000" cy="685440"/>
                </a:xfrm>
                <a:prstGeom prst="rect">
                  <a:avLst/>
                </a:prstGeom>
                <a:solidFill>
                  <a:srgbClr val="99ffcc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1932"/>
                      </a:solidFill>
                      <a:latin typeface="Courier New"/>
                    </a:rPr>
                    <a:t>1 2 6 6 6 6 6 6 6 6 6 6 6 6 3 6 6 6 6 6 6 6 6 6 6 6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9525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0003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3052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9147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2196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5245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8291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1340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4389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7435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0484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3533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6579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9628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2677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6957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3908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0859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7813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4764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1715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8669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5620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2571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57200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8610480" y="1219320"/>
                <a:ext cx="304920" cy="1371600"/>
              </a:xfrm>
              <a:prstGeom prst="rect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8610480" y="1905120"/>
              <a:ext cx="304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534520" y="1219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1932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610480" y="20574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6E2E-EE41-484A-9518-82C4B1A485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oyer-Moore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sed on same two idea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aring pattern characters to text from right to left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ecomputing shift sizes in two table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ad-symbol tabl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dicates how much to shift based on text’s character causing a mismatch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good-suffix tabl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dicates how much to shift based on matched part (suffix) of the patter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705E-A2C0-4E65-9B2C-47A990C5E2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Bad-symbol shift in Boyer-Moore algorithm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 rightmost character of the pattern doesn’t match, BM algorithm acts as Horspool’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 rightmost character of the pattern does match, BM compares preceding characters right to left until either all pattern’s characters match or a mismatch on text’s characte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encountered afte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&gt; 0 match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ext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ttern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d-symbol shift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x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1}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3733920"/>
            <a:ext cx="6933960" cy="45720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373392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373392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373392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33920" y="4724280"/>
            <a:ext cx="2743200" cy="45720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472428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4724280"/>
            <a:ext cx="0" cy="4572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4267080"/>
            <a:ext cx="0" cy="381240"/>
          </a:xfrm>
          <a:prstGeom prst="line">
            <a:avLst/>
          </a:prstGeom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4267080"/>
            <a:ext cx="0" cy="381240"/>
          </a:xfrm>
          <a:prstGeom prst="line">
            <a:avLst/>
          </a:prstGeom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800600" y="4343040"/>
            <a:ext cx="304920" cy="152280"/>
          </a:xfrm>
          <a:prstGeom prst="line">
            <a:avLst/>
          </a:prstGeom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4267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mat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FF5F-B5ED-4800-A606-873461E830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Anany Levitin</dc:creator>
  <dc:description/>
  <dc:language>en-US</dc:language>
  <cp:lastModifiedBy>usnidem</cp:lastModifiedBy>
  <dcterms:modified xsi:type="dcterms:W3CDTF">2011-12-09T22:32:50Z</dcterms:modified>
  <cp:revision>94</cp:revision>
  <dc:subject/>
  <dc:title>Chapter 7:  Space and Time Tradeoffs </dc:title>
</cp:coreProperties>
</file>