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2390A-910B-4CCC-A265-5873C5156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ADD09-D45E-4507-995C-9B28E026D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79176-DF81-46CF-B3F7-8B832A3F09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A8412-D520-4D92-A152-1BBB5C3E71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04B90-03DB-4A5D-B6FD-E55677489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99CF5-C74B-4C22-8161-C7FF01353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1 lg n = 2 l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0D38B-C193-47E1-A9AA-54E492D4C5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36600" y="687240"/>
            <a:ext cx="4842000" cy="3630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62FF4-A4D0-4778-96A6-E193D8BCD5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3C3C5-FB06-4686-BC20-1A9CDC946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5B6F9-80F9-4D18-B789-C74C9D1E88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69B81-E162-4ACE-B086-DCEA430E65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3DCD6-4525-43F9-9E42-4FCCD3D0B3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C19F9-6982-4C92-9E9F-49C8FCF599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BD08-D044-49EA-8B70-A4021A67E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D6B07-67BF-4905-99CB-08F1DA022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2BAD7-49BC-459E-8262-E4D1010CA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41A8-6123-494C-9E4C-65C703B1B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21F0D-C8EE-4AE2-87FA-4DA85030B5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8B091-2A71-4392-AF58-5157314418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86F1-8866-4328-8405-EC2252630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F9DF4-8A54-4DCA-91FF-1C7911F4B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A6C6E-E569-42D0-B0EE-8D74A48CE1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7DDF8-E008-401D-8C20-BB0A1C8F8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A9FFE-7CF1-4D3B-B78C-58EF2C64C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B5A02-CF27-4FEA-B8AE-FC04AC730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27EE-4C99-4C50-98D6-833D46994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F97CE-9862-4F7A-97E5-FEE214B0BE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5EA93-2563-438B-8A8D-33908F1F0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C5A39-41F6-44E3-97E8-5324E6BC3A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4A93C-74AC-4253-A5CA-EF64D7532E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FDF5E-988C-4BAE-8E6A-D5574649CC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EE6B-BD5B-46A6-9DAB-0F05F551E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080BC-C3EA-4148-B049-8544CDC4F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CFB15-5B8D-494E-AB6D-0EA6B780BA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8402E-AD89-4F9D-903F-983885FFC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5BED7-E059-4F49-94DF-49957A2993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BC77D-BEC9-449A-A857-3A28611680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92D38-768C-4CBF-99EA-E417ECC61C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3651A-38B4-477B-B8BF-41659D6E0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A0BEB-DD59-475B-BFD6-98F35D531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EC2F-6097-4E0B-A543-1CEC4F07B2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9A3D0-0943-4611-85A6-C6AC7AA1C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05B8F-B9F2-47F7-B5FC-28167A2D26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2F41E-F2B7-4722-A759-275B429F0A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92D1E-BA73-4712-8CFB-781370F43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CB7-05E3-4D95-BD5E-BC08D374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718-B999-4CBC-97A7-8F99F35D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537-91DC-4018-8712-CB6FBF7B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040-2B0A-4D5F-BB7F-CB8214AF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6C93-0BEB-4448-B4DC-7F167676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730-814F-4806-B4DF-F932DBD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6DC5-16AC-450F-8E2A-271AAEC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9AD1-2274-4ABC-BC03-E528D25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8643-C27D-40DA-92A0-3DE7534D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5202-469A-4558-9411-F3356356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E5B0-CA4E-4B64-9A14-C3B14E4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722-87EF-4F3E-A92C-6083885F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DB2-C2CB-4351-BA1C-631CDE1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73AE-DD47-4A28-B37D-841379D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C7B2-1AEE-448E-A81F-E4F2E7EA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1B0-0E1C-4548-87A9-334837C5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3837-4664-478C-A659-A20B1826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6FB-6A12-47C1-AED9-B3C031C0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6D1-9685-44A7-AFD5-867170E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9AC-EA91-4A2D-B0FB-F8DA014F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FB4-024E-49DF-A4E1-BFC59835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A49-97C1-44D5-BE26-133EEF1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092-6380-42F8-88C4-45B8551F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5D0-69BB-4879-8AD7-3FE60AE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14300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F9A-B5AE-4C98-ADC8-978535DD1A3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sign and Analysis of Algorithms - Chapter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4F0-3DB5-409C-B981-53C7452AD4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34FC-5A2E-4B2E-9B7D-8FC9311A3D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ansform and 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group of techniques solves a problem by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ransform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simpler/more convenient instance of the same  problem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stance simplific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representation of the same instanc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representation chang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problem for which an algorithm is already availabl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AC2E-68A2-4053-98C8-CD2DE9C94F2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(multi)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keys  and a searc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ke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an occurrenc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f an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must be considered in the context of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le size (internal vs. extern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s of data (static vs. dynamic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ctionary operations (dynamic data)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(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4D8-969A-4567-A64D-F82ACDA4B74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axonomy of Search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st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quential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polation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balanced trees: AVL trees, red-black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way balanced trees: 2-3 trees, 2-3-4 trees, B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(separate chain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d hashing (open address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E4FB-FE6D-4727-AA10-B64E953487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Search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nge keys in a binary tree with the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inary search tree  property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038480" y="2362320"/>
            <a:ext cx="497160" cy="5331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419720" y="2895480"/>
            <a:ext cx="42516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3580920" y="2895480"/>
            <a:ext cx="5684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933800" y="228600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933800" y="4038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705200" y="2895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04812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34340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858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5, 3, 1, 10, 12, 7,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ED1D-60BB-4227-8691-40780001C9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ctionary Operations on Binary Search Tree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–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ion – search for key, insert at leaf where search termin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 – 3 cas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a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single chi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two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depends of the tree’s height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ith height  average (random files) be about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us all three operations hav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Bonu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inorder traversal produces sorted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612A-D9CC-4290-9C37-E2587D313B9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Search Tree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ttractiveness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nary searc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marred by the bad (linear) worst-case efficiency.  Two ideas to overcome i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rebalance binary search tree when a new insertio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makes the tree “too unbalanced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d-black trees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allow more than one key per node of a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-4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-trees</a:t>
            </a:r>
            <a:br>
              <a:rPr sz="24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08DE-03A6-41D4-A393-9FBD731C57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85800" y="2666880"/>
            <a:ext cx="82296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trees: 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search tree in which, for every node, the difference between the heights of its left and right subtrees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lance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s at most 1 (with the height of an empty tree defined as -1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9" name="Picture 4" descr="Fig 6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3070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914400" y="5715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(a) is an AVL tree; tree (b) is not an AVL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CC40-3BEE-4BC0-8709-93E718623A7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09480" y="2743200"/>
            <a:ext cx="83822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ota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key insertion violates the balance requirement at some node, the subtree rooted at that node is transformed via one of the fou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tations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The rotation is always performed for a subtree rooted at an “unbalanced” node closest to the new leaf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5" name="Picture 6" descr="Fig 6"/>
          <p:cNvPicPr/>
          <p:nvPr/>
        </p:nvPicPr>
        <p:blipFill>
          <a:blip r:embed="rId1"/>
          <a:stretch/>
        </p:blipFill>
        <p:spPr>
          <a:xfrm>
            <a:off x="0" y="2743200"/>
            <a:ext cx="5029200" cy="188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Fig 6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187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11430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33412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ub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D70-31F0-490C-95E5-7DBB65A352B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Single 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1" name="Picture 4" descr="Chapter06c_23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312-0EF2-4EB0-97F6-F808FB688E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Double L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4" name="Picture 7" descr="Chapter06c_24"/>
          <p:cNvPicPr/>
          <p:nvPr/>
        </p:nvPicPr>
        <p:blipFill>
          <a:blip r:embed="rId1"/>
          <a:stretch/>
        </p:blipFill>
        <p:spPr>
          <a:xfrm>
            <a:off x="457200" y="1424160"/>
            <a:ext cx="8686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AD7B-8ACC-4D65-B514-D0DBF941B0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62120" y="1752480"/>
            <a:ext cx="8001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VL tree construction -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n AVL tree for the list  5, 6, 8, 3, 2, 4, 7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89" name="Picture 4" descr="Fig 6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2097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Fig 6"/>
          <p:cNvPicPr/>
          <p:nvPr/>
        </p:nvPicPr>
        <p:blipFill>
          <a:blip r:embed="rId2"/>
          <a:stretch/>
        </p:blipFill>
        <p:spPr>
          <a:xfrm>
            <a:off x="457200" y="4038480"/>
            <a:ext cx="8686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6300-38AA-4E83-8D1A-1420F93AC41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nce simplification -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a problem’s instance  by transforming it 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simpler/easier instance of the sam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or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involving lists are easier when list is sorted, e.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the median (selection problem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if all elements  are distinct (element uniquenes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so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pological sorting helps solving some problems for dag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 is used in many geometric algorithm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093-9758-460B-8AC9-E662A0545A0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838080" y="1219320"/>
            <a:ext cx="79250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VL tree construction - an example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5" name="Picture 7" descr="Fig 6"/>
          <p:cNvPicPr/>
          <p:nvPr/>
        </p:nvPicPr>
        <p:blipFill>
          <a:blip r:embed="rId1"/>
          <a:stretch/>
        </p:blipFill>
        <p:spPr>
          <a:xfrm>
            <a:off x="1295280" y="1143000"/>
            <a:ext cx="7010640" cy="250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ig 6"/>
          <p:cNvPicPr/>
          <p:nvPr/>
        </p:nvPicPr>
        <p:blipFill>
          <a:blip r:embed="rId2"/>
          <a:stretch/>
        </p:blipFill>
        <p:spPr>
          <a:xfrm>
            <a:off x="762120" y="3886200"/>
            <a:ext cx="83818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3D4-0F3F-4746-9B3D-E09CDE84302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1.440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2)  - 1.3277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height: 1.0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1 for larg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found empirically)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 and insertion are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letion is more complicated but is also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advantage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rot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imilar idea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d-black tre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height of subtrees is allowed to differ by up to a factor of 2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F23-1045-4B87-BD32-050C0E9EC08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way Search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ultiway search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 allow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re than one key in the same node of the tre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node of a search tree is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 contai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ordered keys (which divide the entire key range in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vals pointed to by the node’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ks to its children)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Every node in a classical binary search tree is a 2-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2895480" y="3639960"/>
            <a:ext cx="3657600" cy="8557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…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1447920" y="5029200"/>
            <a:ext cx="10666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3429000" y="5029200"/>
            <a:ext cx="12952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6095880" y="5029200"/>
            <a:ext cx="1219320" cy="533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n-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H="1">
            <a:off x="1980720" y="4343400"/>
            <a:ext cx="129564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6172200" y="4343400"/>
            <a:ext cx="53352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5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41ED-0C0A-4397-A268-0C2F1E19F49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have 2-nodes and 3-n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-balanced (all leaves are on the same leve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2-3 tree is constructed by successive insertions of keys given, with a new key always inserted into a leaf of the tree.  If the leaf is a 3-node, it’s split into two with the middle key promoted to the paren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4" name="Picture 4" descr="Fig 6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E9E5-B76B-41C0-928F-A5DD9B824FD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construction –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2-3 tree the list  9, 5, 8, 3, 2, 4, 7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8" name="Picture 4" descr="Fig 6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15C2-8CE2-4C1F-93BE-0528909C980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2-3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- 1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 -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, insertion, and deletion ar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dea of 2-3 tree can be generalized by allowing more keys per nod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3-4 tre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tre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 and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ea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tree with keys at its nodes (one key per node) such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essentially complete, i.e., all its levels are full except possibly the last level, where only some rightmost keys may be mi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key at each node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keys at its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2209680" y="3352680"/>
            <a:ext cx="2361960" cy="1295280"/>
            <a:chOff x="2209680" y="3352680"/>
            <a:chExt cx="2361960" cy="1295280"/>
          </a:xfrm>
        </p:grpSpPr>
        <p:sp>
          <p:nvSpPr>
            <p:cNvPr id="225" name="AutoShape 5"/>
            <p:cNvSpPr/>
            <p:nvPr/>
          </p:nvSpPr>
          <p:spPr>
            <a:xfrm>
              <a:off x="2361960" y="3352680"/>
              <a:ext cx="2209680" cy="1066680"/>
            </a:xfrm>
            <a:prstGeom prst="triangle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3733560" y="4419360"/>
              <a:ext cx="76320" cy="763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3581280" y="4572000"/>
              <a:ext cx="75960" cy="7596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H="1">
              <a:off x="3657240" y="4495680"/>
              <a:ext cx="76320" cy="76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9"/>
            <p:cNvGrpSpPr/>
            <p:nvPr/>
          </p:nvGrpSpPr>
          <p:grpSpPr>
            <a:xfrm>
              <a:off x="3124080" y="4419360"/>
              <a:ext cx="380880" cy="228600"/>
              <a:chOff x="3124080" y="4419360"/>
              <a:chExt cx="380880" cy="228600"/>
            </a:xfrm>
          </p:grpSpPr>
          <p:sp>
            <p:nvSpPr>
              <p:cNvPr id="230" name="Oval 10"/>
              <p:cNvSpPr/>
              <p:nvPr/>
            </p:nvSpPr>
            <p:spPr>
              <a:xfrm>
                <a:off x="32763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Oval 11"/>
              <p:cNvSpPr/>
              <p:nvPr/>
            </p:nvSpPr>
            <p:spPr>
              <a:xfrm>
                <a:off x="31240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Oval 12"/>
              <p:cNvSpPr/>
              <p:nvPr/>
            </p:nvSpPr>
            <p:spPr>
              <a:xfrm>
                <a:off x="34286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13"/>
              <p:cNvSpPr/>
              <p:nvPr/>
            </p:nvSpPr>
            <p:spPr>
              <a:xfrm flipH="1">
                <a:off x="32000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14"/>
              <p:cNvSpPr/>
              <p:nvPr/>
            </p:nvSpPr>
            <p:spPr>
              <a:xfrm>
                <a:off x="33526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15"/>
            <p:cNvGrpSpPr/>
            <p:nvPr/>
          </p:nvGrpSpPr>
          <p:grpSpPr>
            <a:xfrm>
              <a:off x="2666880" y="4419360"/>
              <a:ext cx="380880" cy="228600"/>
              <a:chOff x="2666880" y="4419360"/>
              <a:chExt cx="380880" cy="228600"/>
            </a:xfrm>
          </p:grpSpPr>
          <p:sp>
            <p:nvSpPr>
              <p:cNvPr id="236" name="Oval 16"/>
              <p:cNvSpPr/>
              <p:nvPr/>
            </p:nvSpPr>
            <p:spPr>
              <a:xfrm>
                <a:off x="28191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Oval 17"/>
              <p:cNvSpPr/>
              <p:nvPr/>
            </p:nvSpPr>
            <p:spPr>
              <a:xfrm>
                <a:off x="26668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Oval 18"/>
              <p:cNvSpPr/>
              <p:nvPr/>
            </p:nvSpPr>
            <p:spPr>
              <a:xfrm>
                <a:off x="29714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19"/>
              <p:cNvSpPr/>
              <p:nvPr/>
            </p:nvSpPr>
            <p:spPr>
              <a:xfrm flipH="1">
                <a:off x="27428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20"/>
              <p:cNvSpPr/>
              <p:nvPr/>
            </p:nvSpPr>
            <p:spPr>
              <a:xfrm>
                <a:off x="28954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"/>
            <p:cNvGrpSpPr/>
            <p:nvPr/>
          </p:nvGrpSpPr>
          <p:grpSpPr>
            <a:xfrm>
              <a:off x="2209680" y="4419360"/>
              <a:ext cx="380880" cy="228600"/>
              <a:chOff x="2209680" y="4419360"/>
              <a:chExt cx="380880" cy="228600"/>
            </a:xfrm>
          </p:grpSpPr>
          <p:sp>
            <p:nvSpPr>
              <p:cNvPr id="242" name="Oval 22"/>
              <p:cNvSpPr/>
              <p:nvPr/>
            </p:nvSpPr>
            <p:spPr>
              <a:xfrm>
                <a:off x="23619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23"/>
              <p:cNvSpPr/>
              <p:nvPr/>
            </p:nvSpPr>
            <p:spPr>
              <a:xfrm>
                <a:off x="22096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Oval 24"/>
              <p:cNvSpPr/>
              <p:nvPr/>
            </p:nvSpPr>
            <p:spPr>
              <a:xfrm>
                <a:off x="25142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25"/>
              <p:cNvSpPr/>
              <p:nvPr/>
            </p:nvSpPr>
            <p:spPr>
              <a:xfrm flipH="1">
                <a:off x="22856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26"/>
              <p:cNvSpPr/>
              <p:nvPr/>
            </p:nvSpPr>
            <p:spPr>
              <a:xfrm>
                <a:off x="24382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78D3-1EC5-477C-8B37-36500A19BF4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llustration of the heap’s defini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0" name="Picture 10" descr="Fig 6"/>
          <p:cNvPicPr/>
          <p:nvPr/>
        </p:nvPicPr>
        <p:blipFill>
          <a:blip r:embed="rId1"/>
          <a:stretch/>
        </p:blipFill>
        <p:spPr>
          <a:xfrm>
            <a:off x="457200" y="1676520"/>
            <a:ext cx="8686800" cy="1663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2"/>
          <p:cNvSpPr/>
          <p:nvPr/>
        </p:nvSpPr>
        <p:spPr>
          <a:xfrm>
            <a:off x="121932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41911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71629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83808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457200" y="4876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Heap’s elements are ordered top down (along any pat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down from its root), but they are not ordered left to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6D3-E1BD-4049-9FBA-EC023864464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Important Properties of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re exists a unique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odes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ssentially complete,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ot contains the largest k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ubtree rooted at any node of a heap is also a heap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 can be represented as an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B613-096E-4795-9C59-CFA65320D4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’s Array Represen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re heap’s elements in an array (whose elements indexed, for convenience,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op-down left-to-right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f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igh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al nodes are represented in the firs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4343400" y="563868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858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10666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 flipH="1">
            <a:off x="1295280" y="2819520"/>
            <a:ext cx="45720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>
            <a:off x="914040" y="3657600"/>
            <a:ext cx="22860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2209680" y="281952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1736640" y="2857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257184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4382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356220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20"/>
          <p:cNvSpPr/>
          <p:nvPr/>
        </p:nvSpPr>
        <p:spPr>
          <a:xfrm>
            <a:off x="13716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144792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3"/>
          <p:cNvSpPr/>
          <p:nvPr/>
        </p:nvSpPr>
        <p:spPr>
          <a:xfrm flipH="1">
            <a:off x="236196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25"/>
          <p:cNvGrpSpPr/>
          <p:nvPr/>
        </p:nvGrpSpPr>
        <p:grpSpPr>
          <a:xfrm>
            <a:off x="5715000" y="2666880"/>
            <a:ext cx="2286000" cy="993240"/>
            <a:chOff x="5715000" y="2666880"/>
            <a:chExt cx="2286000" cy="993240"/>
          </a:xfrm>
        </p:grpSpPr>
        <p:sp>
          <p:nvSpPr>
            <p:cNvPr id="279" name="Text Box 26"/>
            <p:cNvSpPr/>
            <p:nvPr/>
          </p:nvSpPr>
          <p:spPr>
            <a:xfrm>
              <a:off x="5851440" y="30862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27"/>
            <p:cNvSpPr/>
            <p:nvPr/>
          </p:nvSpPr>
          <p:spPr>
            <a:xfrm>
              <a:off x="5715000" y="3086280"/>
              <a:ext cx="2286000" cy="57132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>
              <a:off x="6095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615080" y="304812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01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647676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6858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>
              <a:off x="7238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34"/>
            <p:cNvSpPr/>
            <p:nvPr/>
          </p:nvSpPr>
          <p:spPr>
            <a:xfrm>
              <a:off x="5716440" y="266688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  2   3   4   5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35"/>
            <p:cNvSpPr/>
            <p:nvPr/>
          </p:nvSpPr>
          <p:spPr>
            <a:xfrm>
              <a:off x="5716440" y="320040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9   5   3   1   4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Line 41"/>
          <p:cNvSpPr/>
          <p:nvPr/>
        </p:nvSpPr>
        <p:spPr>
          <a:xfrm>
            <a:off x="3886200" y="3429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E1D-7371-49F4-98D8-622DA4ECE0D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st can we sort 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3616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algorithms involving sorting depends 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sortin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see Sec. 11.2):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are necessary in the worst case to sort a list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-based algorithm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Abo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s are also sufficient to sort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by mergesort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9F86-BBE3-4850-9686-DCF8E8D461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0: Initialize the structure with keys in the order giv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: Starting with the last (rightmost) parental node, fix the heap rooted at it, if it doesn’t satisfy the heap condition: keep exchanging  it with its largest child until the hea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 holds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: Repeat Step 1 for the preceding parental 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8844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 Construction (bottom-up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9579-73E8-4589-AEDC-CB710B1F51E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eap Constr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6" name="Picture 4" descr="Fig 6"/>
          <p:cNvPicPr/>
          <p:nvPr/>
        </p:nvPicPr>
        <p:blipFill>
          <a:blip r:embed="rId1"/>
          <a:stretch/>
        </p:blipFill>
        <p:spPr>
          <a:xfrm>
            <a:off x="457200" y="1981080"/>
            <a:ext cx="8686800" cy="3168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609480" y="1295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heap for the list 2, 9, 7, 6, 5,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C19-E076-4B2E-A76A-CFB67EF965A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podia of bottom-up heap constr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1" name="Picture 3" descr="heapbottomup"/>
          <p:cNvPicPr/>
          <p:nvPr/>
        </p:nvPicPr>
        <p:blipFill>
          <a:blip r:embed="rId1"/>
          <a:stretch/>
        </p:blipFill>
        <p:spPr>
          <a:xfrm>
            <a:off x="1066680" y="1143000"/>
            <a:ext cx="74678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C782-9DEE-49C8-9970-DFD4D20B61C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Construct a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keys in the root and in the last (rightmost)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heap size by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ecessary,  swap new root with larger child until the heap condition hol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A0E1-AF57-411F-8925-34A78CC0FAB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list  2,  9,  7,  6,  5,  8  by heap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(heap construction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ge 2 (root/max remov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8   2   5   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7   6   8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9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7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5   6   7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6   8   2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6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| 5  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Sorting by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1F97-2B41-4AE9-BAF0-08F635A3C2B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Build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 (fix hea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worst-case and average-case efficiency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-place: y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bility: no (e.g., 1  1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2286000" y="19810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668680" y="2057400"/>
            <a:ext cx="5865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-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i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=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(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–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1))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2860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2096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89548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nodes at leve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V="1">
            <a:off x="3505320" y="2514240"/>
            <a:ext cx="7596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362320" y="45554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2286000" y="5028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133720" y="434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438280" y="462204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CEF-C2B6-4A47-A78F-66E386F6F2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iority queu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ADT of a set of elements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erical priorities with the following oper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element with assigned priority (see below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ap is a very efficient way for implementing priority queu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ways to handle priority queue in whi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ighest priority = smallest numb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ority Que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لتذييل 5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AB5-2F75-4B96-AD29-096B94D2180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ertion of a New Element into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the new element at last position in heap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it with its parent and, if it violates heap condition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tinue comparing the new element with nodes up the tree until the heap condition is satisfi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key 1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32" name="Picture 4" descr="Fig 6"/>
          <p:cNvPicPr/>
          <p:nvPr/>
        </p:nvPicPr>
        <p:blipFill>
          <a:blip r:embed="rId1"/>
          <a:stretch/>
        </p:blipFill>
        <p:spPr>
          <a:xfrm>
            <a:off x="685800" y="4267080"/>
            <a:ext cx="84582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DFF8-EFC5-4913-9F4B-B2E4AA22135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For Polynomial Evalu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a polynomial of degre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…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a specific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t that point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brute-force algorith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wnto 0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1F60-9067-4E39-B83E-D34CA6EF6B6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x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) - 5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) + 1)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1) + 3) + 1) - 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ion into the last formula leads to a faster algorith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ame sequence of computations are obtained by simpl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rranging the coefficient in a table and proceeding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effici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65F1-39BE-415E-9776-31F5CD8FA33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Search for a 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 Sort the array by an efficient sorting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  Apply binary searc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or ba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do we have our dictionaries, telephone directories, etc. sorted?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عنصر نائب للتذييل 5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1E5A-58C7-4176-8155-A19254504F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pseudoco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Horner’s Rule: # multiplications = # additions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nthetic div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-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L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.  Fi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45" name="Picture 4" descr="6_5a"/>
          <p:cNvPicPr/>
          <p:nvPr/>
        </p:nvPicPr>
        <p:blipFill>
          <a:blip r:embed="rId1"/>
          <a:stretch/>
        </p:blipFill>
        <p:spPr>
          <a:xfrm>
            <a:off x="533520" y="1219320"/>
            <a:ext cx="8458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6BE0-9394-4CC7-BDF4-00E6454B0C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1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 (revisited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3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ft-to-righ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product accumulator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left to right and do the follow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current binary digit is 0, square the accumulator (S);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binary digit is 1, square the accumulator and multiply i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SM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 Compute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rep. of 13:              1       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SM         S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S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cumulator:   1           1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=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computed left-to-right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≤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 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BDF8-F390-4A53-89AC-949F0AE26B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0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090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Right-to-lef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right to left and comput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the product of terms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rresponding to 1’s in this expansion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right-to-left binary exponentiation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erm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*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*                     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:     produc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(computed right-to-lef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same as that of left-to-right binary exponentiatio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D95-01F8-4474-AD14-AC98F71DF95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variation of transform-and-conquer solves a problem by a transforming it into different problem for which an algorithm is already avail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e of practical value, the combined time of the transformation and solving the other problem should be smaller than solving the problem as given by another method.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6AEB-D6DE-49A5-9845-4774B46E285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amples of Solving Problems by Red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lc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via computing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number of paths of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 graph by raising the graph’s adjacency matrix to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pow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ing a maximization problem to a minimization problem and vice versa (also, min-heap construction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ear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duction to graph problems (e.g., solving puzzles via state-space graphs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8C61-A3F5-4A75-BFF8-49C3D16DD41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lement Uniqueness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1: sort by efficient sorting algorithm (e.g. 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2: scan array to check pairs of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jac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icienc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rute force algorith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Compare all pairs of ele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Efficiency: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other algorithm?  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stance simplification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–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: A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arbitrary coefficient matrix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to: An equivalent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upper triangular coefficient matrix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the latter by substitutions starting with the last equation  and moving up to the first on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,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5715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114300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aussian Elimination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ransformation is accomplished by a sequence of elementary operations on the system’s coefficient matrix  (which don’t change the system’s solution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lace each of the subsequent rows (i.e., row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, …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  difference between that row and an appropriate multipl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row to make the new coefficient in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lumn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at row 0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Gaussian Elimin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09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  6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-3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aussian elim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1   6                              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  -1   1  11  row2 – (3/2)*row1    0   5  -1/2   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1  -1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  row3 – (1/2)*row1     0   3  -3/2  -6  row3–(3/5)*row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5  -1/2   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0  -6/5 -36/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ward substitu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-36/5) / (-6/5) =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2+(1/2)*6) / 5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6 – 6 + 4*1)/2 =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code and Efficiency of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3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Reduction to an upper-triangular matr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   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*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 //improve!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Back substitution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down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123</cp:lastModifiedBy>
  <dcterms:modified xsi:type="dcterms:W3CDTF">2019-03-31T05:55:27Z</dcterms:modified>
  <cp:revision>139</cp:revision>
  <dc:subject/>
  <dc:title>Chapter 6: Transform-and-Conquer</dc:title>
</cp:coreProperties>
</file>