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4.jpeg" ContentType="image/jpeg"/>
  <Override PartName="/ppt/media/image13.wmf" ContentType="image/x-wmf"/>
  <Override PartName="/ppt/media/image16.png" ContentType="image/png"/>
  <Override PartName="/ppt/media/image15.wmf" ContentType="image/x-wmf"/>
  <Override PartName="/ppt/media/image14.jpeg" ContentType="image/jpeg"/>
  <Override PartName="/ppt/media/image1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media/image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5A345E-3398-4CF7-BC1E-EC24F8CAE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4FA742-8D68-4570-9547-B69739CD977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D14673-9586-47DB-9A74-28CD5CA0C99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D7D00A-6BD1-4B98-9054-568F5439B08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318FEA-91AA-4D92-902A-2811229CE96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D10D66-F39C-49C8-8D6D-7F74CF8665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41 lg n = 2 ln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0BB787-E9F3-41B9-92C7-AC1B99C68F4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236600" y="687240"/>
            <a:ext cx="4842000" cy="36306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BE719A-E5B4-4103-A92F-81EF789821C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61FA69-746F-4630-8201-F9866FE716F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70646B-8423-4331-ABBD-5598B71E8E9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70C364-5CAF-4D4E-997B-060AA8201F7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3B5AEB-7612-4F55-BE86-29DF73BE7A2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6DCDEF-9BF9-4920-A6EC-5858A8D6325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27D97C-6895-40D9-84BD-C8896E5D8F9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063B2F-2128-4B6E-8452-9B705FA188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73C424-016C-436D-ABC6-F82E4190C6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689AA4-179B-4AB7-AECE-3E99F893C32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14E2E9-384D-44BB-8FA1-8A850F42D1C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C84124-B73D-432D-8B4A-1A3B191915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727ED7-9320-4745-BD74-19996B62D92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91FA67-48D2-4E76-96C9-29452A92026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D99D20-2D28-41B7-AF6B-842271D19DA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2CC6D6-BA1E-4E01-AB86-D13ED3E93E4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F77F15-5541-4B42-8AAA-3492B5254EC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FB8C35-7ED5-4F0C-887D-AED7B46B734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799C28-E9A8-4BA2-812A-9C8F032D09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E6F046-9107-4B2C-A77F-DAB1F41CF98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474D39-3CD4-4A05-92C7-00939264ECD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99F5EC-B468-4951-AD7C-BFA63C45E96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128E9E-2E38-4F93-A86E-D432A7AB25A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D9F532-2EAF-4A5B-8E61-4FF2D58532E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5EBB4B-B22D-4E61-9382-40949E0EB0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2D978F-7299-44FC-901A-CB9D3285957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9A8ABB-10CA-406E-8A26-B863D3932A1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94DBB7-B8B8-4931-960B-2823C376EB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A96E1E-CED7-401F-870C-A6867CFA4CE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879807-85D7-40FA-88BA-DD8F9728DF2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3C8208-B941-4099-BFD6-229CB539687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C5D412-82D2-4A39-9377-058FDA5DA8A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DCED8B-4415-4819-93AD-83AF5EDE3B5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D4F993-5BCB-448F-9809-9F25AB6821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999BB9-5BD0-4249-BEF5-D2C0916924A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026BD4-83C2-4395-8E0E-395290CB1C7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CB2882-FFBA-4474-AFAC-CFDA4228F12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A2826F-D3D6-4A2C-980E-D973A7E9CD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5F0E-FD56-4BB5-BD4D-9030C1E66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19B8-439C-47EA-A346-B4C787A7B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86F9-C353-48BB-AEE8-530EC0BF7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41820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22656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0948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41820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22656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27C9-915B-4F6E-AABA-C4B331406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0EE3E-CD30-4CDA-989F-939F7FBC2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2D703-0C04-43AE-BB25-85D6527B2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657F6-65B0-49D7-9C7D-A7A3307C0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9D7A8-02B4-43CB-8EAC-A161AF48C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C53DF-A54B-4B0B-8E80-1F3E9C404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609120" y="151920"/>
            <a:ext cx="75884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B429E-0607-4280-B4E1-1A97E03E7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EFCD8-A838-4853-B951-1B7CFE1E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D628-8710-4B6C-A8F4-E1C4D68DC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1298B-96B8-4B0A-877B-9BF937A5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3286D-B7A9-4316-AE86-065C3637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1580B-9656-4D6B-A570-A65F01A1D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08553-CC66-454E-B449-8DFAB984E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41820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60948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41820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22656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1DDF9-AEF9-4D17-993D-1546AF8BD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9FD5-9389-4B7D-9D18-DFBEE7489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DA53-919D-43FA-B73F-1D46CACF8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8547-E7F0-44E5-A79C-81BBA9700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09120" y="151920"/>
            <a:ext cx="75884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9F3B-3F56-4A19-AF55-72A7D8358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D26A-29CB-4CCC-9A4F-5BFB872D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C749-70E6-469D-8A3C-14116696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37D3-81C2-4584-B490-76AF7BAF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"/>
          <p:cNvGrpSpPr/>
          <p:nvPr/>
        </p:nvGrpSpPr>
        <p:grpSpPr>
          <a:xfrm>
            <a:off x="8329680" y="733320"/>
            <a:ext cx="720720" cy="532080"/>
            <a:chOff x="8329680" y="733320"/>
            <a:chExt cx="720720" cy="532080"/>
          </a:xfrm>
        </p:grpSpPr>
        <p:sp>
          <p:nvSpPr>
            <p:cNvPr id="1" name="AutoShape 4"/>
            <p:cNvSpPr/>
            <p:nvPr/>
          </p:nvSpPr>
          <p:spPr>
            <a:xfrm flipH="1" rot="10800000">
              <a:off x="8832960" y="733320"/>
              <a:ext cx="21744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utoShape 5"/>
            <p:cNvSpPr/>
            <p:nvPr/>
          </p:nvSpPr>
          <p:spPr>
            <a:xfrm flipH="1" rot="10800000">
              <a:off x="8582400" y="733320"/>
              <a:ext cx="21924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AutoShape 6"/>
            <p:cNvSpPr/>
            <p:nvPr/>
          </p:nvSpPr>
          <p:spPr>
            <a:xfrm flipH="1" rot="10800000">
              <a:off x="8329680" y="733320"/>
              <a:ext cx="21888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" name="Group 7"/>
          <p:cNvGrpSpPr/>
          <p:nvPr/>
        </p:nvGrpSpPr>
        <p:grpSpPr>
          <a:xfrm>
            <a:off x="77400" y="6040440"/>
            <a:ext cx="531720" cy="726840"/>
            <a:chOff x="77400" y="6040440"/>
            <a:chExt cx="531720" cy="726840"/>
          </a:xfrm>
        </p:grpSpPr>
        <p:sp>
          <p:nvSpPr>
            <p:cNvPr id="5" name="AutoShape 8"/>
            <p:cNvSpPr/>
            <p:nvPr/>
          </p:nvSpPr>
          <p:spPr>
            <a:xfrm flipH="1" rot="5400000">
              <a:off x="234000" y="5883120"/>
              <a:ext cx="21744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AutoShape 9"/>
            <p:cNvSpPr/>
            <p:nvPr/>
          </p:nvSpPr>
          <p:spPr>
            <a:xfrm flipH="1" rot="5400000">
              <a:off x="233280" y="6142680"/>
              <a:ext cx="21888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AutoShape 10"/>
            <p:cNvSpPr/>
            <p:nvPr/>
          </p:nvSpPr>
          <p:spPr>
            <a:xfrm flipH="1" rot="5400000">
              <a:off x="233280" y="6391800"/>
              <a:ext cx="21924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body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2"/>
          </p:nvPr>
        </p:nvSpPr>
        <p:spPr>
          <a:xfrm>
            <a:off x="1143000" y="6400440"/>
            <a:ext cx="6400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A. Levitin “Introduction to the Design &amp; Analysis of Algorithms,” 3rd ed., Ch. 6 ©2012 Pearson Education, Inc. Upper Saddle River, NJ. All Rights Reserve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3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3CBF4-FF98-4A08-8B41-15E835756F2A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Rectangle 15"/>
          <p:cNvSpPr/>
          <p:nvPr/>
        </p:nvSpPr>
        <p:spPr>
          <a:xfrm>
            <a:off x="227160" y="0"/>
            <a:ext cx="22860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AutoShape 16"/>
          <p:cNvSpPr/>
          <p:nvPr/>
        </p:nvSpPr>
        <p:spPr>
          <a:xfrm flipH="1">
            <a:off x="304200" y="914400"/>
            <a:ext cx="8839080" cy="228600"/>
          </a:xfrm>
          <a:custGeom>
            <a:avLst/>
            <a:gdLst>
              <a:gd name="textAreaLeft" fmla="*/ -360 w 8839080"/>
              <a:gd name="textAreaRight" fmla="*/ 8839080 w 88390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1" y="0"/>
                </a:lnTo>
                <a:lnTo>
                  <a:pt x="21600" y="10800"/>
                </a:lnTo>
                <a:lnTo>
                  <a:pt x="2122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Rectangle 17"/>
          <p:cNvSpPr/>
          <p:nvPr/>
        </p:nvSpPr>
        <p:spPr>
          <a:xfrm>
            <a:off x="1981080" y="2179800"/>
            <a:ext cx="19080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" name="Group 18"/>
          <p:cNvGrpSpPr/>
          <p:nvPr/>
        </p:nvGrpSpPr>
        <p:grpSpPr>
          <a:xfrm>
            <a:off x="77760" y="5903640"/>
            <a:ext cx="533520" cy="749160"/>
            <a:chOff x="77760" y="5903640"/>
            <a:chExt cx="533520" cy="749160"/>
          </a:xfrm>
        </p:grpSpPr>
        <p:sp>
          <p:nvSpPr>
            <p:cNvPr id="16" name="AutoShape 19"/>
            <p:cNvSpPr/>
            <p:nvPr/>
          </p:nvSpPr>
          <p:spPr>
            <a:xfrm rot="16200000">
              <a:off x="226080" y="5756400"/>
              <a:ext cx="23796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AutoShape 20"/>
            <p:cNvSpPr/>
            <p:nvPr/>
          </p:nvSpPr>
          <p:spPr>
            <a:xfrm rot="16200000">
              <a:off x="223560" y="6010200"/>
              <a:ext cx="23976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AutoShape 21"/>
            <p:cNvSpPr/>
            <p:nvPr/>
          </p:nvSpPr>
          <p:spPr>
            <a:xfrm rot="16200000">
              <a:off x="225360" y="6266880"/>
              <a:ext cx="237960" cy="5335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5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pSp>
        <p:nvGrpSpPr>
          <p:cNvPr id="20" name="Group 23"/>
          <p:cNvGrpSpPr/>
          <p:nvPr/>
        </p:nvGrpSpPr>
        <p:grpSpPr>
          <a:xfrm>
            <a:off x="8190000" y="731880"/>
            <a:ext cx="739800" cy="533520"/>
            <a:chOff x="8190000" y="731880"/>
            <a:chExt cx="739800" cy="533520"/>
          </a:xfrm>
        </p:grpSpPr>
        <p:sp>
          <p:nvSpPr>
            <p:cNvPr id="21" name="AutoShape 24"/>
            <p:cNvSpPr/>
            <p:nvPr/>
          </p:nvSpPr>
          <p:spPr>
            <a:xfrm>
              <a:off x="8691480" y="733320"/>
              <a:ext cx="23832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AutoShape 25"/>
            <p:cNvSpPr/>
            <p:nvPr/>
          </p:nvSpPr>
          <p:spPr>
            <a:xfrm>
              <a:off x="8442360" y="733320"/>
              <a:ext cx="23976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AutoShape 26"/>
            <p:cNvSpPr/>
            <p:nvPr/>
          </p:nvSpPr>
          <p:spPr>
            <a:xfrm>
              <a:off x="8190000" y="731880"/>
              <a:ext cx="237960" cy="5335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1" name="Rectangle 3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Rectangle 4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" name="Rectangle 10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Oval 11"/>
          <p:cNvSpPr/>
          <p:nvPr/>
        </p:nvSpPr>
        <p:spPr>
          <a:xfrm>
            <a:off x="4419720" y="9907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Rectangle 12"/>
          <p:cNvSpPr/>
          <p:nvPr/>
        </p:nvSpPr>
        <p:spPr>
          <a:xfrm rot="16200000">
            <a:off x="4457520" y="-2934000"/>
            <a:ext cx="228600" cy="9144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Design and Analysis of Algorithms - Chapter 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E417-0B63-4189-BD48-46F87D2A8D37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08347-C103-4FC5-AAD6-641D80D0F364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664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Transform and Conquer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This group of techniques solves a problem by a 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transformation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to</a:t>
            </a:r>
            <a:br>
              <a:rPr sz="2800"/>
            </a:b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284400" indent="-284400"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a simpler/more convenient instance of the same  problem (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instance simplification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) </a:t>
            </a:r>
            <a:br>
              <a:rPr sz="2800"/>
            </a:b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284400" indent="-284400"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a different representation of the same instance (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representation change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)</a:t>
            </a:r>
            <a:br>
              <a:rPr sz="2800"/>
            </a:b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284400" indent="-284400"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a different problem for which an algorithm is already available (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problem reduction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) </a:t>
            </a:r>
            <a:br>
              <a:rPr sz="2800"/>
            </a:b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678EB-EE2E-4ADF-9ED7-2EFA19F31195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Searching Problem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Proble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Given a (multi)set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S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f keys  and a search 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key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find an occurrence o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if any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arching must be considered in the context of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ile size (internal vs. external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ynamics of data (static vs. dynamic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ictionary operations (dynamic data)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ind (search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ser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elet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013F1-9ABF-4DB3-A0F5-4669C1E0C06A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Taxonomy of Searching Algorithm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ist searching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quential search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inary search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terpolation search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ree searching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inary search tre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inary balanced trees: AVL trees, red-black tre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ultiway balanced trees: 2-3 trees, 2-3-4 trees, B tre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ashing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pen hashing (separate chaining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losed hashing (open addressing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عنصر نائب للتذييل 4"/>
          <p:cNvSpPr/>
          <p:nvPr/>
        </p:nvSpPr>
        <p:spPr>
          <a:xfrm>
            <a:off x="114300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. Levitin “Introduction to the Design &amp; Analysis of Algorithms,” 3rd ed., Ch. 6 ©2012 Pearson Education, Inc. Upper Saddle River, NJ. All Rights Reserved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ECDF4-4D0E-46CA-9052-A1C2B9BD1831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Binary Search Tree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Arrange keys in a binary tree with the 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binary search tree  property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9" name="Oval 4"/>
          <p:cNvSpPr/>
          <p:nvPr/>
        </p:nvSpPr>
        <p:spPr>
          <a:xfrm>
            <a:off x="4038480" y="2362320"/>
            <a:ext cx="497160" cy="53316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1932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Line 5"/>
          <p:cNvSpPr/>
          <p:nvPr/>
        </p:nvSpPr>
        <p:spPr>
          <a:xfrm>
            <a:off x="4419720" y="2895480"/>
            <a:ext cx="425160" cy="8384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Line 6"/>
          <p:cNvSpPr/>
          <p:nvPr/>
        </p:nvSpPr>
        <p:spPr>
          <a:xfrm flipH="1">
            <a:off x="3580920" y="2895480"/>
            <a:ext cx="568440" cy="8384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4933800" y="2286000"/>
            <a:ext cx="17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4933800" y="4038480"/>
            <a:ext cx="17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4705200" y="2895480"/>
            <a:ext cx="17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AutoShape 10"/>
          <p:cNvSpPr/>
          <p:nvPr/>
        </p:nvSpPr>
        <p:spPr>
          <a:xfrm>
            <a:off x="3048120" y="3733920"/>
            <a:ext cx="993600" cy="1371600"/>
          </a:xfrm>
          <a:prstGeom prst="triangle">
            <a:avLst>
              <a:gd name="adj" fmla="val 50000"/>
            </a:avLst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&lt;</a:t>
            </a:r>
            <a:r>
              <a:rPr b="0" i="1" lang="en-US" sz="2400" spc="-1" strike="noStrike">
                <a:solidFill>
                  <a:srgbClr val="001932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AutoShape 11"/>
          <p:cNvSpPr/>
          <p:nvPr/>
        </p:nvSpPr>
        <p:spPr>
          <a:xfrm>
            <a:off x="4343400" y="3733920"/>
            <a:ext cx="993600" cy="1371600"/>
          </a:xfrm>
          <a:prstGeom prst="triangle">
            <a:avLst>
              <a:gd name="adj" fmla="val 50000"/>
            </a:avLst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&gt;</a:t>
            </a:r>
            <a:r>
              <a:rPr b="0" i="1" lang="en-US" sz="2400" spc="-1" strike="noStrike">
                <a:solidFill>
                  <a:srgbClr val="001932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685800" y="57150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ample: 5, 3, 1, 10, 12, 7, 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عنصر نائب للتذييل 4"/>
          <p:cNvSpPr/>
          <p:nvPr/>
        </p:nvSpPr>
        <p:spPr>
          <a:xfrm>
            <a:off x="114300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. Levitin “Introduction to the Design &amp; Analysis of Algorithms,” 3rd ed., Ch. 6 ©2012 Pearson Education, Inc. Upper Saddle River, NJ. All Rights Reserved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0A461-9E98-4CD3-8BD2-7E43F338A28F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5327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Dictionary Operations on Binary Search Trees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763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14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arching – straightforwar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114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sertion – search for key, insert at leaf where search terminate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114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eletion – 3 case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085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eleting key at a leaf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085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eleting key at node with single chil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085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eleting key at node with two childre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085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fficiency depends of the tree’s height: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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g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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-1,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with height  average (random files) be about 3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g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hus all three operations hav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1144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worst case efficiency: </a:t>
            </a:r>
            <a:r>
              <a:rPr b="1" lang="el-GR" sz="2400" spc="-1" strike="noStrike">
                <a:solidFill>
                  <a:srgbClr val="ffff99"/>
                </a:solidFill>
                <a:latin typeface="Symbol"/>
                <a:ea typeface="Symbol"/>
              </a:rPr>
              <a:t>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1144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verage case efficiency: </a:t>
            </a:r>
            <a:r>
              <a:rPr b="1" lang="el-GR" sz="2400" spc="-1" strike="noStrike">
                <a:solidFill>
                  <a:srgbClr val="ffff99"/>
                </a:solidFill>
                <a:latin typeface="Symbol"/>
                <a:ea typeface="Symbol"/>
              </a:rPr>
              <a:t>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log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Bonu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: inorder traversal produces sorted lis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1756F-C943-42F8-B39A-58DBCDA0EC18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Balanced Search Trees 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ttractiveness o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binary search tree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s marred by the bad (linear) worst-case efficiency.  Two ideas to overcome it are: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o rebalance binary search tree when a new insertion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makes the tree “too unbalanced”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VL tre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red-black trees</a:t>
            </a:r>
            <a:br>
              <a:rPr sz="2400"/>
            </a:b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o allow more than one key per node of a search tre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2-3 tre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2-3-4 tre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B-trees</a:t>
            </a:r>
            <a:br>
              <a:rPr sz="2400"/>
            </a:b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عنصر نائب لرقم الشريحة 6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46477-B44E-42E1-BFD0-BEFCAAD54283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685800" y="2666880"/>
            <a:ext cx="8229600" cy="304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Balanced trees:  AVL tree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Definitio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A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VL tre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a binary search tree in which, for every node, the difference between the heights of its left and right subtrees, called th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balance facto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is at most 1 (with the height of an empty tree defined as -1)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69" name="Picture 4" descr="Fig 6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307044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914400" y="57150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ree (a) is an AVL tree; tree (b) is not an AVL tr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عنصر نائب لرقم الشريحة 7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9132-9536-46EE-949F-3D4F9B54E1B5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ectangle 13"/>
          <p:cNvSpPr/>
          <p:nvPr/>
        </p:nvSpPr>
        <p:spPr>
          <a:xfrm>
            <a:off x="609480" y="2743200"/>
            <a:ext cx="838224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Rotation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120" y="1266840"/>
            <a:ext cx="85345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a key insertion violates the balance requirement at some node, the subtree rooted at that node is transformed via one of the four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rotations.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The rotation is always performed for a subtree rooted at an “unbalanced” node closest to the new leaf.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75" name="Picture 6" descr="Fig 6"/>
          <p:cNvPicPr/>
          <p:nvPr/>
        </p:nvPicPr>
        <p:blipFill>
          <a:blip r:embed="rId1"/>
          <a:stretch/>
        </p:blipFill>
        <p:spPr>
          <a:xfrm>
            <a:off x="0" y="2743200"/>
            <a:ext cx="5029200" cy="18874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Fig 6"/>
          <p:cNvPicPr/>
          <p:nvPr/>
        </p:nvPicPr>
        <p:blipFill>
          <a:blip r:embed="rId2"/>
          <a:stretch/>
        </p:blipFill>
        <p:spPr>
          <a:xfrm>
            <a:off x="4572000" y="2743200"/>
            <a:ext cx="4572000" cy="187812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1"/>
          <p:cNvSpPr/>
          <p:nvPr/>
        </p:nvSpPr>
        <p:spPr>
          <a:xfrm>
            <a:off x="1143000" y="49528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ingl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R-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ro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5334120" y="49528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oubl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LR-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ro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01DC2-7A90-43A2-92EB-9E6DDEEBCA63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General case: Single R-rotation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81" name="Picture 4" descr="Chapter06c_23"/>
          <p:cNvPicPr/>
          <p:nvPr/>
        </p:nvPicPr>
        <p:blipFill>
          <a:blip r:embed="rId1"/>
          <a:stretch/>
        </p:blipFill>
        <p:spPr>
          <a:xfrm>
            <a:off x="533520" y="1600200"/>
            <a:ext cx="861048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B7FF3-3286-4590-838F-39CE0997C852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General case: Double LR-rotation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84" name="Picture 7" descr="Chapter06c_24"/>
          <p:cNvPicPr/>
          <p:nvPr/>
        </p:nvPicPr>
        <p:blipFill>
          <a:blip r:embed="rId1"/>
          <a:stretch/>
        </p:blipFill>
        <p:spPr>
          <a:xfrm>
            <a:off x="457200" y="1424160"/>
            <a:ext cx="868680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عنصر نائب لرقم الشريحة 7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2EAAA-F7DC-45ED-9DF1-A2A0E63A720E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762120" y="1752480"/>
            <a:ext cx="800100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AVL tree construction - an example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nstruct an AVL tree for the list  5, 6, 8, 3, 2, 4, 7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89" name="Picture 4" descr="Fig 6"/>
          <p:cNvPicPr/>
          <p:nvPr/>
        </p:nvPicPr>
        <p:blipFill>
          <a:blip r:embed="rId1"/>
          <a:stretch/>
        </p:blipFill>
        <p:spPr>
          <a:xfrm>
            <a:off x="457200" y="1752480"/>
            <a:ext cx="8686800" cy="20973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Fig 6"/>
          <p:cNvPicPr/>
          <p:nvPr/>
        </p:nvPicPr>
        <p:blipFill>
          <a:blip r:embed="rId2"/>
          <a:stretch/>
        </p:blipFill>
        <p:spPr>
          <a:xfrm>
            <a:off x="457200" y="4038480"/>
            <a:ext cx="868680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B4B92-2213-493D-BAB0-1338024B9564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Instance simplification - Presorting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olve a problem’s instance  by transforming it into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other simpler/easier instance of the same proble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Presorting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any problems involving lists are easier when list is sorted, e.g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arching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mputing the median (selection problem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hecking if all elements  are distinct (element uniqueness)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lso: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opological sorting helps solving some problems for dags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resorting is used in many geometric algorithms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عنصر نائب لرقم الشريحة 7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EE5C1-7321-4178-B7B6-0BA001E07FDF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Rectangle 10"/>
          <p:cNvSpPr/>
          <p:nvPr/>
        </p:nvSpPr>
        <p:spPr>
          <a:xfrm>
            <a:off x="838080" y="1219320"/>
            <a:ext cx="792504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AVL tree construction - an example (cont.)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95" name="Picture 7" descr="Fig 6"/>
          <p:cNvPicPr/>
          <p:nvPr/>
        </p:nvPicPr>
        <p:blipFill>
          <a:blip r:embed="rId1"/>
          <a:stretch/>
        </p:blipFill>
        <p:spPr>
          <a:xfrm>
            <a:off x="1295280" y="1143000"/>
            <a:ext cx="7010640" cy="2502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9" descr="Fig 6"/>
          <p:cNvPicPr/>
          <p:nvPr/>
        </p:nvPicPr>
        <p:blipFill>
          <a:blip r:embed="rId2"/>
          <a:stretch/>
        </p:blipFill>
        <p:spPr>
          <a:xfrm>
            <a:off x="762120" y="3886200"/>
            <a:ext cx="838188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33BB3-4E22-48D6-BE8D-130105FBA937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18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Analysis of AVL tree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66840"/>
            <a:ext cx="86868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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1.4404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g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+ 2)  - 1.3277                               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verage height: 1.01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g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+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0.1 for larg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found empirically)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earch and insertion are O(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g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eletion is more complicated but is also O(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g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advantages: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frequent rotation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omplexity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 similar idea: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red-black tree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(height of subtrees is allowed to differ by up to a factor of 2)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2B6C3-C510-40BB-B209-CD0F5B4CCD1D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Multiway Search Tree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Definitio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A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ultiway search tre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a search tree that allows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ore than one key in the same node of the tree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Definitio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A node of a search tree is called a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-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od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f it contains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-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1 ordered keys (which divide the entire key range into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ntervals pointed to by the node’s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n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inks to its children):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                                                                                 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ote: Every node in a classical binary search tree is a 2-nod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3" name="Oval 4"/>
          <p:cNvSpPr/>
          <p:nvPr/>
        </p:nvSpPr>
        <p:spPr>
          <a:xfrm>
            <a:off x="2895480" y="3639960"/>
            <a:ext cx="3657600" cy="85572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1932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1932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  &lt;  </a:t>
            </a:r>
            <a:r>
              <a:rPr b="0" i="1" lang="en-US" sz="2400" spc="-1" strike="noStrike">
                <a:solidFill>
                  <a:srgbClr val="001932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1932"/>
                </a:solidFill>
                <a:latin typeface="Times New Roman"/>
              </a:rPr>
              <a:t>2</a:t>
            </a:r>
            <a:r>
              <a:rPr b="0" i="1" lang="en-US" sz="2400" spc="-1" strike="noStrike" baseline="-25000">
                <a:solidFill>
                  <a:srgbClr val="001932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1932"/>
                </a:solidFill>
                <a:latin typeface="Times New Roman"/>
              </a:rPr>
              <a:t>&lt; 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… &lt;  </a:t>
            </a:r>
            <a:r>
              <a:rPr b="0" i="1" lang="en-US" sz="2400" spc="-1" strike="noStrike">
                <a:solidFill>
                  <a:srgbClr val="001932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1932"/>
                </a:solidFill>
                <a:latin typeface="Times New Roman"/>
              </a:rPr>
              <a:t>n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Oval 5"/>
          <p:cNvSpPr/>
          <p:nvPr/>
        </p:nvSpPr>
        <p:spPr>
          <a:xfrm>
            <a:off x="1447920" y="5029200"/>
            <a:ext cx="1066680" cy="60948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1932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1932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Oval 6"/>
          <p:cNvSpPr/>
          <p:nvPr/>
        </p:nvSpPr>
        <p:spPr>
          <a:xfrm>
            <a:off x="3429000" y="5029200"/>
            <a:ext cx="1295280" cy="60948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1932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1932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1932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1932"/>
                </a:solidFill>
                <a:latin typeface="Times New Roman"/>
              </a:rPr>
              <a:t>2</a:t>
            </a:r>
            <a:r>
              <a:rPr b="0" i="1" lang="en-US" sz="2400" spc="-1" strike="noStrike" baseline="-25000">
                <a:solidFill>
                  <a:srgbClr val="001932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Oval 7"/>
          <p:cNvSpPr/>
          <p:nvPr/>
        </p:nvSpPr>
        <p:spPr>
          <a:xfrm>
            <a:off x="6095880" y="5029200"/>
            <a:ext cx="1219320" cy="53352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1932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001932"/>
                </a:solidFill>
                <a:latin typeface="Times New Roman"/>
              </a:rPr>
              <a:t>n-</a:t>
            </a:r>
            <a:r>
              <a:rPr b="0" lang="en-US" sz="2400" spc="-1" strike="noStrike" baseline="-25000">
                <a:solidFill>
                  <a:srgbClr val="001932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Line 8"/>
          <p:cNvSpPr/>
          <p:nvPr/>
        </p:nvSpPr>
        <p:spPr>
          <a:xfrm flipH="1">
            <a:off x="1980720" y="4343400"/>
            <a:ext cx="1295640" cy="6858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Line 9"/>
          <p:cNvSpPr/>
          <p:nvPr/>
        </p:nvSpPr>
        <p:spPr>
          <a:xfrm>
            <a:off x="4038480" y="4495680"/>
            <a:ext cx="0" cy="5335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Line 10"/>
          <p:cNvSpPr/>
          <p:nvPr/>
        </p:nvSpPr>
        <p:spPr>
          <a:xfrm>
            <a:off x="6172200" y="4343400"/>
            <a:ext cx="533520" cy="6858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عنصر نائب للتذييل 5"/>
          <p:cNvSpPr/>
          <p:nvPr/>
        </p:nvSpPr>
        <p:spPr>
          <a:xfrm>
            <a:off x="114300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. Levitin “Introduction to the Design &amp; Analysis of Algorithms,” 3rd ed., Ch. 6 ©2012 Pearson Education, Inc. Upper Saddle River, NJ. All Rights Reserved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عنصر نائب لرقم الشريحة 6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911D9-0D7F-4D1F-BD3E-228B15464CB5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2-3 Tree 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120" y="1266840"/>
            <a:ext cx="85345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Definitio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A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2-3 tre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a search tree tha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ay have 2-nodes and 3-nod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eight-balanced (all leaves are on the same level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2-3 tree is constructed by successive insertions of keys given, with a new key always inserted into a leaf of the tree.  If the leaf is a 3-node, it’s split into two with the middle key promoted to the parent.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214" name="Picture 4" descr="Fig 6"/>
          <p:cNvPicPr/>
          <p:nvPr/>
        </p:nvPicPr>
        <p:blipFill>
          <a:blip r:embed="rId1"/>
          <a:stretch/>
        </p:blipFill>
        <p:spPr>
          <a:xfrm>
            <a:off x="1066680" y="2590920"/>
            <a:ext cx="739152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عنصر نائب لرقم الشريحة 6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CD334-CDBF-49AD-8BB2-BE39DA74B80D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2-3 tree construction – an example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120" y="1266840"/>
            <a:ext cx="85345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nstruct a 2-3 tree the list  9, 5, 8, 3, 2, 4, 7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218" name="Picture 4" descr="Fig 6"/>
          <p:cNvPicPr/>
          <p:nvPr/>
        </p:nvPicPr>
        <p:blipFill>
          <a:blip r:embed="rId1"/>
          <a:stretch/>
        </p:blipFill>
        <p:spPr>
          <a:xfrm>
            <a:off x="533520" y="1905120"/>
            <a:ext cx="8610480" cy="43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ECBF3-C0EC-43D9-8315-A709471B4017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18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Analysis of 2-3 tree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g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3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+ 1) - 1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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g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+ 1)  - 1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earch, insertion, and deletion are in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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g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he idea of 2-3 tree can be generalized by allowing more keys per node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2-3-4 trees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B-trees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Heaps and Heapsort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Definition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hea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a binary tree with keys at its nodes (one key per node) such that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t is essentially complete, i.e., all its levels are full except possibly the last level, where only some rightmost keys may be missing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key at each node is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≥ keys at its childre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224" name="Group 4"/>
          <p:cNvGrpSpPr/>
          <p:nvPr/>
        </p:nvGrpSpPr>
        <p:grpSpPr>
          <a:xfrm>
            <a:off x="2209680" y="3352680"/>
            <a:ext cx="2361960" cy="1295280"/>
            <a:chOff x="2209680" y="3352680"/>
            <a:chExt cx="2361960" cy="1295280"/>
          </a:xfrm>
        </p:grpSpPr>
        <p:sp>
          <p:nvSpPr>
            <p:cNvPr id="225" name="AutoShape 5"/>
            <p:cNvSpPr/>
            <p:nvPr/>
          </p:nvSpPr>
          <p:spPr>
            <a:xfrm>
              <a:off x="2361960" y="3352680"/>
              <a:ext cx="2209680" cy="1066680"/>
            </a:xfrm>
            <a:prstGeom prst="triangle">
              <a:avLst>
                <a:gd name="adj" fmla="val 50000"/>
              </a:avLst>
            </a:prstGeom>
            <a:solidFill>
              <a:srgbClr val="99ffcc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Oval 6"/>
            <p:cNvSpPr/>
            <p:nvPr/>
          </p:nvSpPr>
          <p:spPr>
            <a:xfrm>
              <a:off x="3733560" y="4419360"/>
              <a:ext cx="76320" cy="763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Oval 7"/>
            <p:cNvSpPr/>
            <p:nvPr/>
          </p:nvSpPr>
          <p:spPr>
            <a:xfrm>
              <a:off x="3581280" y="4572000"/>
              <a:ext cx="75960" cy="7596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Line 8"/>
            <p:cNvSpPr/>
            <p:nvPr/>
          </p:nvSpPr>
          <p:spPr>
            <a:xfrm flipH="1">
              <a:off x="3657240" y="4495680"/>
              <a:ext cx="76320" cy="763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9" name="Group 9"/>
            <p:cNvGrpSpPr/>
            <p:nvPr/>
          </p:nvGrpSpPr>
          <p:grpSpPr>
            <a:xfrm>
              <a:off x="3124080" y="4419360"/>
              <a:ext cx="380880" cy="228600"/>
              <a:chOff x="3124080" y="4419360"/>
              <a:chExt cx="380880" cy="228600"/>
            </a:xfrm>
          </p:grpSpPr>
          <p:sp>
            <p:nvSpPr>
              <p:cNvPr id="230" name="Oval 10"/>
              <p:cNvSpPr/>
              <p:nvPr/>
            </p:nvSpPr>
            <p:spPr>
              <a:xfrm>
                <a:off x="3276360" y="4419360"/>
                <a:ext cx="76320" cy="76320"/>
              </a:xfrm>
              <a:prstGeom prst="ellipse">
                <a:avLst/>
              </a:prstGeom>
              <a:solidFill>
                <a:srgbClr val="99ffcc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Oval 11"/>
              <p:cNvSpPr/>
              <p:nvPr/>
            </p:nvSpPr>
            <p:spPr>
              <a:xfrm>
                <a:off x="3124080" y="4571640"/>
                <a:ext cx="75960" cy="76320"/>
              </a:xfrm>
              <a:prstGeom prst="ellipse">
                <a:avLst/>
              </a:prstGeom>
              <a:solidFill>
                <a:srgbClr val="99ffcc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Oval 12"/>
              <p:cNvSpPr/>
              <p:nvPr/>
            </p:nvSpPr>
            <p:spPr>
              <a:xfrm>
                <a:off x="3428640" y="4571640"/>
                <a:ext cx="76320" cy="76320"/>
              </a:xfrm>
              <a:prstGeom prst="ellipse">
                <a:avLst/>
              </a:prstGeom>
              <a:solidFill>
                <a:srgbClr val="99ffcc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Line 13"/>
              <p:cNvSpPr/>
              <p:nvPr/>
            </p:nvSpPr>
            <p:spPr>
              <a:xfrm flipH="1">
                <a:off x="3200040" y="4495680"/>
                <a:ext cx="76320" cy="759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Line 14"/>
              <p:cNvSpPr/>
              <p:nvPr/>
            </p:nvSpPr>
            <p:spPr>
              <a:xfrm>
                <a:off x="3352680" y="4495680"/>
                <a:ext cx="75960" cy="759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Group 15"/>
            <p:cNvGrpSpPr/>
            <p:nvPr/>
          </p:nvGrpSpPr>
          <p:grpSpPr>
            <a:xfrm>
              <a:off x="2666880" y="4419360"/>
              <a:ext cx="380880" cy="228600"/>
              <a:chOff x="2666880" y="4419360"/>
              <a:chExt cx="380880" cy="228600"/>
            </a:xfrm>
          </p:grpSpPr>
          <p:sp>
            <p:nvSpPr>
              <p:cNvPr id="236" name="Oval 16"/>
              <p:cNvSpPr/>
              <p:nvPr/>
            </p:nvSpPr>
            <p:spPr>
              <a:xfrm>
                <a:off x="2819160" y="4419360"/>
                <a:ext cx="76320" cy="76320"/>
              </a:xfrm>
              <a:prstGeom prst="ellipse">
                <a:avLst/>
              </a:prstGeom>
              <a:solidFill>
                <a:srgbClr val="99ffcc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Oval 17"/>
              <p:cNvSpPr/>
              <p:nvPr/>
            </p:nvSpPr>
            <p:spPr>
              <a:xfrm>
                <a:off x="2666880" y="4571640"/>
                <a:ext cx="75960" cy="76320"/>
              </a:xfrm>
              <a:prstGeom prst="ellipse">
                <a:avLst/>
              </a:prstGeom>
              <a:solidFill>
                <a:srgbClr val="99ffcc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Oval 18"/>
              <p:cNvSpPr/>
              <p:nvPr/>
            </p:nvSpPr>
            <p:spPr>
              <a:xfrm>
                <a:off x="2971440" y="4571640"/>
                <a:ext cx="76320" cy="76320"/>
              </a:xfrm>
              <a:prstGeom prst="ellipse">
                <a:avLst/>
              </a:prstGeom>
              <a:solidFill>
                <a:srgbClr val="99ffcc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Line 19"/>
              <p:cNvSpPr/>
              <p:nvPr/>
            </p:nvSpPr>
            <p:spPr>
              <a:xfrm flipH="1">
                <a:off x="2742840" y="4495680"/>
                <a:ext cx="76320" cy="759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Line 20"/>
              <p:cNvSpPr/>
              <p:nvPr/>
            </p:nvSpPr>
            <p:spPr>
              <a:xfrm>
                <a:off x="2895480" y="4495680"/>
                <a:ext cx="75960" cy="759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Group 21"/>
            <p:cNvGrpSpPr/>
            <p:nvPr/>
          </p:nvGrpSpPr>
          <p:grpSpPr>
            <a:xfrm>
              <a:off x="2209680" y="4419360"/>
              <a:ext cx="380880" cy="228600"/>
              <a:chOff x="2209680" y="4419360"/>
              <a:chExt cx="380880" cy="228600"/>
            </a:xfrm>
          </p:grpSpPr>
          <p:sp>
            <p:nvSpPr>
              <p:cNvPr id="242" name="Oval 22"/>
              <p:cNvSpPr/>
              <p:nvPr/>
            </p:nvSpPr>
            <p:spPr>
              <a:xfrm>
                <a:off x="2361960" y="4419360"/>
                <a:ext cx="76320" cy="76320"/>
              </a:xfrm>
              <a:prstGeom prst="ellipse">
                <a:avLst/>
              </a:prstGeom>
              <a:solidFill>
                <a:srgbClr val="99ffcc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Oval 23"/>
              <p:cNvSpPr/>
              <p:nvPr/>
            </p:nvSpPr>
            <p:spPr>
              <a:xfrm>
                <a:off x="2209680" y="4571640"/>
                <a:ext cx="75960" cy="76320"/>
              </a:xfrm>
              <a:prstGeom prst="ellipse">
                <a:avLst/>
              </a:prstGeom>
              <a:solidFill>
                <a:srgbClr val="99ffcc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Oval 24"/>
              <p:cNvSpPr/>
              <p:nvPr/>
            </p:nvSpPr>
            <p:spPr>
              <a:xfrm>
                <a:off x="2514240" y="4571640"/>
                <a:ext cx="76320" cy="76320"/>
              </a:xfrm>
              <a:prstGeom prst="ellipse">
                <a:avLst/>
              </a:prstGeom>
              <a:solidFill>
                <a:srgbClr val="99ffcc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Line 25"/>
              <p:cNvSpPr/>
              <p:nvPr/>
            </p:nvSpPr>
            <p:spPr>
              <a:xfrm flipH="1">
                <a:off x="2285640" y="4495680"/>
                <a:ext cx="76320" cy="759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Line 26"/>
              <p:cNvSpPr/>
              <p:nvPr/>
            </p:nvSpPr>
            <p:spPr>
              <a:xfrm>
                <a:off x="2438280" y="4495680"/>
                <a:ext cx="75960" cy="759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عنصر نائب لرقم الشريحة 6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6F133-3155-46DC-9722-6CD5B5AC1AC2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Illustration of the heap’s definition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120" y="1266840"/>
            <a:ext cx="85345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250" name="Picture 10" descr="Fig 6"/>
          <p:cNvPicPr/>
          <p:nvPr/>
        </p:nvPicPr>
        <p:blipFill>
          <a:blip r:embed="rId1"/>
          <a:stretch/>
        </p:blipFill>
        <p:spPr>
          <a:xfrm>
            <a:off x="457200" y="1676520"/>
            <a:ext cx="8686800" cy="166356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12"/>
          <p:cNvSpPr/>
          <p:nvPr/>
        </p:nvSpPr>
        <p:spPr>
          <a:xfrm>
            <a:off x="1219320" y="3657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he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ext Box 13"/>
          <p:cNvSpPr/>
          <p:nvPr/>
        </p:nvSpPr>
        <p:spPr>
          <a:xfrm>
            <a:off x="4191120" y="36576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ot a he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xt Box 14"/>
          <p:cNvSpPr/>
          <p:nvPr/>
        </p:nvSpPr>
        <p:spPr>
          <a:xfrm>
            <a:off x="7162920" y="36576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ot a he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Text Box 15"/>
          <p:cNvSpPr/>
          <p:nvPr/>
        </p:nvSpPr>
        <p:spPr>
          <a:xfrm>
            <a:off x="838080" y="518148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Text Box 16"/>
          <p:cNvSpPr/>
          <p:nvPr/>
        </p:nvSpPr>
        <p:spPr>
          <a:xfrm>
            <a:off x="457200" y="4876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ote: Heap’s elements are ordered top down (along any path 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down from its root), but they are not ordered left to r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89944-8469-4B20-AE0A-D906FA89C89D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Some Important Properties of a Heap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Give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,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there exists a unique binary tree with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nodes tha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s essentially complete, with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h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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g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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root contains the largest ke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subtree rooted at any node of a heap is also a heap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heap can be represented as an arra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1EA15-9D04-4D09-9AF8-4C57212CFB3A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Heap’s Array Representation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ore heap’s elements in an array (whose elements indexed, for convenience, 1 to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in top-down left-to-right orde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ample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eft child of nod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at 2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j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Right child of nod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at 2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+1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arent of nod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at </a:t>
            </a:r>
            <a:r>
              <a:rPr b="1" lang="en-US" sz="2000" spc="-1" strike="noStrike">
                <a:solidFill>
                  <a:srgbClr val="ffff99"/>
                </a:solidFill>
                <a:latin typeface="Symbol"/>
                <a:ea typeface="Symbol"/>
              </a:rPr>
              <a:t>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/2</a:t>
            </a:r>
            <a:r>
              <a:rPr b="1" lang="en-US" sz="2000" spc="-1" strike="noStrike">
                <a:solidFill>
                  <a:srgbClr val="ffff99"/>
                </a:solidFill>
                <a:latin typeface="Symbol"/>
                <a:ea typeface="Symbol"/>
              </a:rPr>
              <a:t>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arental nodes are represented in the first </a:t>
            </a:r>
            <a:r>
              <a:rPr b="1" lang="en-US" sz="2000" spc="-1" strike="noStrike">
                <a:solidFill>
                  <a:srgbClr val="ffff99"/>
                </a:solidFill>
                <a:latin typeface="Symbol"/>
                <a:ea typeface="Symbol"/>
              </a:rPr>
              <a:t>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/2</a:t>
            </a:r>
            <a:r>
              <a:rPr b="1" lang="en-US" sz="2000" spc="-1" strike="noStrike">
                <a:solidFill>
                  <a:srgbClr val="ffff99"/>
                </a:solidFill>
                <a:latin typeface="Symbol"/>
                <a:ea typeface="Symbol"/>
              </a:rPr>
              <a:t>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cation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2" name="Line 8"/>
          <p:cNvSpPr/>
          <p:nvPr/>
        </p:nvSpPr>
        <p:spPr>
          <a:xfrm flipH="1">
            <a:off x="4343400" y="5638680"/>
            <a:ext cx="763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Oval 9"/>
          <p:cNvSpPr/>
          <p:nvPr/>
        </p:nvSpPr>
        <p:spPr>
          <a:xfrm>
            <a:off x="1752480" y="2514600"/>
            <a:ext cx="457200" cy="45720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Oval 10"/>
          <p:cNvSpPr/>
          <p:nvPr/>
        </p:nvSpPr>
        <p:spPr>
          <a:xfrm>
            <a:off x="685800" y="4038480"/>
            <a:ext cx="457200" cy="45720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Oval 11"/>
          <p:cNvSpPr/>
          <p:nvPr/>
        </p:nvSpPr>
        <p:spPr>
          <a:xfrm>
            <a:off x="1066680" y="3276720"/>
            <a:ext cx="457200" cy="45720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Oval 12"/>
          <p:cNvSpPr/>
          <p:nvPr/>
        </p:nvSpPr>
        <p:spPr>
          <a:xfrm>
            <a:off x="2438280" y="3276720"/>
            <a:ext cx="457200" cy="45720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Line 13"/>
          <p:cNvSpPr/>
          <p:nvPr/>
        </p:nvSpPr>
        <p:spPr>
          <a:xfrm flipH="1">
            <a:off x="1295280" y="2819520"/>
            <a:ext cx="45720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Line 14"/>
          <p:cNvSpPr/>
          <p:nvPr/>
        </p:nvSpPr>
        <p:spPr>
          <a:xfrm flipH="1">
            <a:off x="914040" y="3657600"/>
            <a:ext cx="228600" cy="3808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Line 15"/>
          <p:cNvSpPr/>
          <p:nvPr/>
        </p:nvSpPr>
        <p:spPr>
          <a:xfrm>
            <a:off x="2209680" y="2819520"/>
            <a:ext cx="38124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Text Box 16"/>
          <p:cNvSpPr/>
          <p:nvPr/>
        </p:nvSpPr>
        <p:spPr>
          <a:xfrm>
            <a:off x="1736640" y="2857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2571840" y="3733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Text Box 18"/>
          <p:cNvSpPr/>
          <p:nvPr/>
        </p:nvSpPr>
        <p:spPr>
          <a:xfrm>
            <a:off x="2438280" y="2971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Text Box 19"/>
          <p:cNvSpPr/>
          <p:nvPr/>
        </p:nvSpPr>
        <p:spPr>
          <a:xfrm>
            <a:off x="3562200" y="2819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Oval 20"/>
          <p:cNvSpPr/>
          <p:nvPr/>
        </p:nvSpPr>
        <p:spPr>
          <a:xfrm>
            <a:off x="1371600" y="4038480"/>
            <a:ext cx="457200" cy="45720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Oval 21"/>
          <p:cNvSpPr/>
          <p:nvPr/>
        </p:nvSpPr>
        <p:spPr>
          <a:xfrm>
            <a:off x="2133720" y="4038480"/>
            <a:ext cx="457200" cy="45720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Line 22"/>
          <p:cNvSpPr/>
          <p:nvPr/>
        </p:nvSpPr>
        <p:spPr>
          <a:xfrm>
            <a:off x="1447920" y="3657600"/>
            <a:ext cx="152280" cy="3808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Line 23"/>
          <p:cNvSpPr/>
          <p:nvPr/>
        </p:nvSpPr>
        <p:spPr>
          <a:xfrm flipH="1">
            <a:off x="2361960" y="3657600"/>
            <a:ext cx="152280" cy="3808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8" name="Group 25"/>
          <p:cNvGrpSpPr/>
          <p:nvPr/>
        </p:nvGrpSpPr>
        <p:grpSpPr>
          <a:xfrm>
            <a:off x="5715000" y="2666880"/>
            <a:ext cx="2286000" cy="993240"/>
            <a:chOff x="5715000" y="2666880"/>
            <a:chExt cx="2286000" cy="993240"/>
          </a:xfrm>
        </p:grpSpPr>
        <p:sp>
          <p:nvSpPr>
            <p:cNvPr id="279" name="Text Box 26"/>
            <p:cNvSpPr/>
            <p:nvPr/>
          </p:nvSpPr>
          <p:spPr>
            <a:xfrm>
              <a:off x="5851440" y="308628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Rectangle 27"/>
            <p:cNvSpPr/>
            <p:nvPr/>
          </p:nvSpPr>
          <p:spPr>
            <a:xfrm>
              <a:off x="5715000" y="3086280"/>
              <a:ext cx="2286000" cy="571320"/>
            </a:xfrm>
            <a:prstGeom prst="rect">
              <a:avLst/>
            </a:prstGeom>
            <a:solidFill>
              <a:srgbClr val="99ffcc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Line 28"/>
            <p:cNvSpPr/>
            <p:nvPr/>
          </p:nvSpPr>
          <p:spPr>
            <a:xfrm>
              <a:off x="6095880" y="3086280"/>
              <a:ext cx="0" cy="5713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Line 29"/>
            <p:cNvSpPr/>
            <p:nvPr/>
          </p:nvSpPr>
          <p:spPr>
            <a:xfrm>
              <a:off x="7615080" y="3048120"/>
              <a:ext cx="0" cy="5713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Line 30"/>
            <p:cNvSpPr/>
            <p:nvPr/>
          </p:nvSpPr>
          <p:spPr>
            <a:xfrm>
              <a:off x="8001000" y="3086280"/>
              <a:ext cx="0" cy="5713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Line 31"/>
            <p:cNvSpPr/>
            <p:nvPr/>
          </p:nvSpPr>
          <p:spPr>
            <a:xfrm>
              <a:off x="6476760" y="3086280"/>
              <a:ext cx="0" cy="5713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Line 32"/>
            <p:cNvSpPr/>
            <p:nvPr/>
          </p:nvSpPr>
          <p:spPr>
            <a:xfrm>
              <a:off x="6858000" y="3086280"/>
              <a:ext cx="0" cy="5713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Line 33"/>
            <p:cNvSpPr/>
            <p:nvPr/>
          </p:nvSpPr>
          <p:spPr>
            <a:xfrm>
              <a:off x="7238880" y="3086280"/>
              <a:ext cx="0" cy="5713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Text Box 34"/>
            <p:cNvSpPr/>
            <p:nvPr/>
          </p:nvSpPr>
          <p:spPr>
            <a:xfrm>
              <a:off x="5716440" y="2666880"/>
              <a:ext cx="22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   2   3   4   5   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Text Box 35"/>
            <p:cNvSpPr/>
            <p:nvPr/>
          </p:nvSpPr>
          <p:spPr>
            <a:xfrm>
              <a:off x="5716440" y="3200400"/>
              <a:ext cx="22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1932"/>
                  </a:solidFill>
                  <a:latin typeface="Times New Roman"/>
                </a:rPr>
                <a:t>9   5   3   1   4   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9" name="Line 41"/>
          <p:cNvSpPr/>
          <p:nvPr/>
        </p:nvSpPr>
        <p:spPr>
          <a:xfrm>
            <a:off x="3886200" y="3429000"/>
            <a:ext cx="9144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340CC-2075-424D-A975-11B2504982F8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How fast can we sort ?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136160"/>
            <a:ext cx="8534520" cy="55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fficiency of algorithms involving sorting depends 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290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fficiency of sorting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290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290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Theore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(see Sec. 11.2): 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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g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!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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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g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mparisons are necessary in the worst case to sort a list of siz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by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any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omparison-based algorithm.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29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ote: About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g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omparisons are also sufficient to sort array of siz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by mergesort)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عنصر نائب للتذييل 4"/>
          <p:cNvSpPr/>
          <p:nvPr/>
        </p:nvSpPr>
        <p:spPr>
          <a:xfrm>
            <a:off x="114300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. Levitin “Introduction to the Design &amp; Analysis of Algorithms,” 3rd ed., Ch. 6 ©2012 Pearson Education, Inc. Upper Saddle River, NJ. All Rights Reserved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5F39F-AA35-42E6-84A5-446D42789EFC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288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ep 0: Initialize the structure with keys in the order give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10288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10288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ep 1: Starting with the last (rightmost) parental node, fix the heap rooted at it, if it doesn’t satisfy the heap condition: keep exchanging  it with its largest child until the heap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ndition holds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10288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ep 2: Repeat Step 1 for the preceding parental nod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10288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title"/>
          </p:nvPr>
        </p:nvSpPr>
        <p:spPr>
          <a:xfrm>
            <a:off x="609120" y="228240"/>
            <a:ext cx="7588440" cy="4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Heap Construction (bottom-up)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DCFE7-DC5A-4EAA-97F0-1C377AC847AD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Example of Heap Construction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296" name="Picture 4" descr="Fig 6"/>
          <p:cNvPicPr/>
          <p:nvPr/>
        </p:nvPicPr>
        <p:blipFill>
          <a:blip r:embed="rId1"/>
          <a:stretch/>
        </p:blipFill>
        <p:spPr>
          <a:xfrm>
            <a:off x="457200" y="1981080"/>
            <a:ext cx="8686800" cy="316872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6"/>
          <p:cNvSpPr/>
          <p:nvPr/>
        </p:nvSpPr>
        <p:spPr>
          <a:xfrm>
            <a:off x="609480" y="12952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nstruct a heap for the list 2, 9, 7, 6, 5,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عنصر نائب للتذييل 4"/>
          <p:cNvSpPr/>
          <p:nvPr/>
        </p:nvSpPr>
        <p:spPr>
          <a:xfrm>
            <a:off x="114300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. Levitin “Introduction to the Design &amp; Analysis of Algorithms,” 3rd ed., Ch. 6 ©2012 Pearson Education, Inc. Upper Saddle River, NJ. All Rights Reserved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8AFE3-C3D4-47B6-B959-19E9E113E347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Pseudopodia of bottom-up heap construction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301" name="Picture 3" descr="heapbottomup"/>
          <p:cNvPicPr/>
          <p:nvPr/>
        </p:nvPicPr>
        <p:blipFill>
          <a:blip r:embed="rId1"/>
          <a:stretch/>
        </p:blipFill>
        <p:spPr>
          <a:xfrm>
            <a:off x="1066680" y="1143000"/>
            <a:ext cx="746784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عنصر نائب للتذييل 4"/>
          <p:cNvSpPr/>
          <p:nvPr/>
        </p:nvSpPr>
        <p:spPr>
          <a:xfrm>
            <a:off x="114300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. Levitin “Introduction to the Design &amp; Analysis of Algorithms,” 3rd ed., Ch. 6 ©2012 Pearson Education, Inc. Upper Saddle River, NJ. All Rights Reserved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FFBF0-02F7-43B8-B038-B9841F538EEE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age 1: Construct a heap for a given list o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key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age 2: Repeat operation of root removal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-1 time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486080" indent="-34308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change keys in the root and in the last (rightmost) leaf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486080" indent="-34308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ecrease heap size by 1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486080" indent="-34308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necessary,  swap new root with larger child until the heap condition hold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Heapsort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عنصر نائب للتذييل 4"/>
          <p:cNvSpPr/>
          <p:nvPr/>
        </p:nvSpPr>
        <p:spPr>
          <a:xfrm>
            <a:off x="114300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. Levitin “Introduction to the Design &amp; Analysis of Algorithms,” 3rd ed., Ch. 6 ©2012 Pearson Education, Inc. Upper Saddle River, NJ. All Rights Reserved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6239C-29EA-4E21-83B2-B112A6E625DE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609120" y="1266840"/>
            <a:ext cx="8534520" cy="53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ort the list  2,  9,  7,  6,  5,  8  by heapsor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age 1 (heap construction)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Stage 2 (root/max removal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1   9  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6   5   8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9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6   8   2   5   7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2  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9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8   6   5   7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7   6   8   2   5 | 9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9   8   6   5   7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8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6   7   2   5 | 9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9  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8   6   5   7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5   6   7   2 | 8   9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9   6   8   2   5   7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6   5   2 | 8   9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2   6   5 | 7   8   9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2   5 | 7   8   9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2 | 6   7   8   9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     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2 | 6   7   8   9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2 | 5   6   7   8   9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Example of Sorting by Heapsort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عنصر نائب للتذييل 4"/>
          <p:cNvSpPr/>
          <p:nvPr/>
        </p:nvSpPr>
        <p:spPr>
          <a:xfrm>
            <a:off x="114300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. Levitin “Introduction to the Design &amp; Analysis of Algorithms,” 3rd ed., Ch. 6 ©2012 Pearson Education, Inc. Upper Saddle River, NJ. All Rights Reserved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0A5BC-7521-43ED-9EBE-B186E60A649F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609120" y="129528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age 1: Build heap for a given list o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key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orst-cas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= 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age 2: Repeat operation of root removal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-1 times (fix heap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orst-cas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=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oth worst-case and average-case efficiency: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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g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-place: yes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ability: no (e.g., 1  1)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2286000" y="1981080"/>
            <a:ext cx="51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ff99"/>
                </a:solidFill>
                <a:latin typeface="Symbol"/>
                <a:ea typeface="Symbol"/>
              </a:rPr>
              <a:t>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2668680" y="2057400"/>
            <a:ext cx="58658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2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h-i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2</a:t>
            </a:r>
            <a:r>
              <a:rPr b="1" i="1" lang="en-US" sz="2400" spc="-1" strike="noStrike" baseline="30000">
                <a:solidFill>
                  <a:srgbClr val="ffff99"/>
                </a:solidFill>
                <a:latin typeface="Times New Roman"/>
              </a:rPr>
              <a:t>i 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=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2 (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– log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+ 1)) 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ffff99"/>
                </a:solidFill>
                <a:latin typeface="Symbol"/>
                <a:ea typeface="Symbol"/>
              </a:rPr>
              <a:t>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2286000" y="24382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=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2209680" y="18288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h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2895480" y="266688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nodes at level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Line 8"/>
          <p:cNvSpPr/>
          <p:nvPr/>
        </p:nvSpPr>
        <p:spPr>
          <a:xfrm flipV="1">
            <a:off x="3505320" y="2514240"/>
            <a:ext cx="75960" cy="3049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2362320" y="4555440"/>
            <a:ext cx="30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Symbol"/>
                <a:ea typeface="Symbol"/>
              </a:rPr>
              <a:t>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Text Box 10"/>
          <p:cNvSpPr/>
          <p:nvPr/>
        </p:nvSpPr>
        <p:spPr>
          <a:xfrm>
            <a:off x="2286000" y="50281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i=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Text Box 11"/>
          <p:cNvSpPr/>
          <p:nvPr/>
        </p:nvSpPr>
        <p:spPr>
          <a:xfrm>
            <a:off x="2133720" y="43423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Text Box 12"/>
          <p:cNvSpPr/>
          <p:nvPr/>
        </p:nvSpPr>
        <p:spPr>
          <a:xfrm>
            <a:off x="2438280" y="4622040"/>
            <a:ext cx="2743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2log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ffff99"/>
                </a:solidFill>
                <a:latin typeface="Symbol"/>
                <a:ea typeface="Symbol"/>
              </a:rPr>
              <a:t>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log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Analysis of Heapsort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عنصر نائب للتذييل 4"/>
          <p:cNvSpPr/>
          <p:nvPr/>
        </p:nvSpPr>
        <p:spPr>
          <a:xfrm>
            <a:off x="114300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. Levitin “Introduction to the Design &amp; Analysis of Algorithms,” 3rd ed., Ch. 6 ©2012 Pearson Education, Inc. Upper Saddle River, NJ. All Rights Reserved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6434-B694-4E32-BA33-B36D02F31CE1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609120" y="1266840"/>
            <a:ext cx="85345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riority queue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the ADT of a set of elements with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umerical priorities with the following operation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ind element with highest priorit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elete element with highest priorit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sert element with assigned priority (see below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eap is a very efficient way for implementing priority queues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wo ways to handle priority queue in which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highest priority = smallest numbe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Priority Queue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عنصر نائب للتذييل 5"/>
          <p:cNvSpPr/>
          <p:nvPr/>
        </p:nvSpPr>
        <p:spPr>
          <a:xfrm>
            <a:off x="114300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. Levitin “Introduction to the Design &amp; Analysis of Algorithms,” 3rd ed., Ch. 6 ©2012 Pearson Education, Inc. Upper Saddle River, NJ. All Rights Reserved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عنصر نائب لرقم الشريحة 6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DDE77-B544-4C1F-A8C1-D346450F4763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Insertion of a New Element into a Heap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120" y="1266840"/>
            <a:ext cx="853452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sert the new element at last position in heap.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mpare it with its parent and, if it violates heap condition,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change the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ntinue comparing the new element with nodes up the tree until the heap condition is satisfie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ample: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sert key 10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fficiency: O(log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332" name="Picture 4" descr="Fig 6"/>
          <p:cNvPicPr/>
          <p:nvPr/>
        </p:nvPicPr>
        <p:blipFill>
          <a:blip r:embed="rId1"/>
          <a:stretch/>
        </p:blipFill>
        <p:spPr>
          <a:xfrm>
            <a:off x="685800" y="4267080"/>
            <a:ext cx="845820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عنصر نائب للتذييل 4"/>
          <p:cNvSpPr/>
          <p:nvPr/>
        </p:nvSpPr>
        <p:spPr>
          <a:xfrm>
            <a:off x="114300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. Levitin “Introduction to the Design &amp; Analysis of Algorithms,” 3rd ed., Ch. 6 ©2012 Pearson Education, Inc. Upper Saddle River, NJ. All Rights Reserved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1BCB3-7492-45BC-AC7C-9BC54C0ADD9D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Horner’s Rule For Polynomial Evaluation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Given a polynomial of degre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=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i="1" lang="en-US" sz="2400" spc="-1" strike="noStrike" baseline="30000">
                <a:solidFill>
                  <a:srgbClr val="ffff99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+ a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-1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i="1" lang="en-US" sz="2400" spc="-1" strike="noStrike" baseline="30000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-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… +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0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d a specific value o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find the value o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at that point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wo brute-force algorithm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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0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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;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owe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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1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r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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ownto 0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o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for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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1 to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o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ower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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owe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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owe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*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r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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1 to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do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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*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owe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owe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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owe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*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           retur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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 + a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*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owe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retur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عنصر نائب للتذييل 4"/>
          <p:cNvSpPr/>
          <p:nvPr/>
        </p:nvSpPr>
        <p:spPr>
          <a:xfrm>
            <a:off x="114300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. Levitin “Introduction to the Design &amp; Analysis of Algorithms,” 3rd ed., Ch. 6 ©2012 Pearson Education, Inc. Upper Saddle River, NJ. All Rights Reserved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BF1EC-8C1B-460F-A593-DF8E5A58381A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Horner’s Rule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6320" y="1066680"/>
            <a:ext cx="8991360" cy="563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ample: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x) = 2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-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3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- 5 =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        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2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-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3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1) - 5 =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2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-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3) + 1) - 5 =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2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- 1) + 3) + 1) - 5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ubstitution into the last formula leads to a faster algorithm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ame sequence of computations are obtained by simply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arranging the coefficient in a table and proceeding as follow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efficient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-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3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-5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=3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618E2-BFCE-4902-8451-83CE9DD61DB6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Searching with presorting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266840"/>
            <a:ext cx="8534520" cy="53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roblem: Search for a give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n A[0..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-1]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290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290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resorting-based algorithm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290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age 1  Sort the array by an efficient sorting algorith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290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age 2  Apply binary search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290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290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fficiency: </a:t>
            </a:r>
            <a:r>
              <a:rPr b="1" lang="el-GR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Θ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log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 + O(log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 = </a:t>
            </a:r>
            <a:r>
              <a:rPr b="1" lang="el-GR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Θ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log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290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290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Good or bad?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290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hy do we have our dictionaries, telephone directories, etc. sorted?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عنصر نائب للتذييل 5"/>
          <p:cNvSpPr/>
          <p:nvPr/>
        </p:nvSpPr>
        <p:spPr>
          <a:xfrm>
            <a:off x="114300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. Levitin “Introduction to the Design &amp; Analysis of Algorithms,” 3rd ed., Ch. 6 ©2012 Pearson Education, Inc. Upper Saddle River, NJ. All Rights Reserved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عنصر نائب لرقم الشريحة 6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B928E-51DD-48D0-8E96-0284887D36DB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Horner’s Rule pseudocode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09120" y="1266480"/>
            <a:ext cx="8534520" cy="521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fficiency of Horner’s Rule: # multiplications = # additions =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ynthetic divisio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of o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by 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-x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ample: Let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= 2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-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3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x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- 5.  Find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: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-3)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345" name="Picture 4" descr="6_5a"/>
          <p:cNvPicPr/>
          <p:nvPr/>
        </p:nvPicPr>
        <p:blipFill>
          <a:blip r:embed="rId1"/>
          <a:stretch/>
        </p:blipFill>
        <p:spPr>
          <a:xfrm>
            <a:off x="533520" y="1219320"/>
            <a:ext cx="8458200" cy="33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عنصر نائب للتذييل 4"/>
          <p:cNvSpPr/>
          <p:nvPr/>
        </p:nvSpPr>
        <p:spPr>
          <a:xfrm>
            <a:off x="114300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. Levitin “Introduction to the Design &amp; Analysis of Algorithms,” 3rd ed., Ch. 6 ©2012 Pearson Education, Inc. Upper Saddle River, NJ. All Rights Reserved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7ED1-3C8A-4697-903F-3942093B186F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omputing  </a:t>
            </a:r>
            <a:r>
              <a:rPr b="1" i="1" lang="en-US" sz="4400" spc="-1" strike="noStrike">
                <a:solidFill>
                  <a:srgbClr val="ccffff"/>
                </a:solidFill>
                <a:latin typeface="Times New Roman"/>
              </a:rPr>
              <a:t>a</a:t>
            </a:r>
            <a:r>
              <a:rPr b="1" i="1" lang="en-US" sz="4400" spc="-1" strike="noStrike" baseline="30000">
                <a:solidFill>
                  <a:srgbClr val="ccffff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  (revisited)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30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Left-to-right binary exponentiatio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itialize product accumulator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y 1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ca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’s binary expansion from left to right and do the following: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the current binary digit is 0, square the accumulator (S);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the binary digit is 1, square the accumulator and multiply it by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SM)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2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ample:   Compute a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13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.  Here,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 13 = 1101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inary rep. of 13:              1             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0                1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SM         SM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S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SM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ccumulator:   1           1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=a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13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(computed left-to-right)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fficiency: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≤  M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 ≤ 2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wher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b =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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g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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1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عنصر نائب للتذييل 4"/>
          <p:cNvSpPr/>
          <p:nvPr/>
        </p:nvSpPr>
        <p:spPr>
          <a:xfrm>
            <a:off x="114300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. Levitin “Introduction to the Design &amp; Analysis of Algorithms,” 3rd ed., Ch. 6 ©2012 Pearson Education, Inc. Upper Saddle River, NJ. All Rights Reserved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CA4D6-8F25-4627-A3E8-09BFB64E5C1B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imes New Roman"/>
              </a:rPr>
              <a:t>Computing  </a:t>
            </a:r>
            <a:r>
              <a:rPr b="0" i="1" lang="en-US" sz="4400" spc="-1" strike="noStrike">
                <a:solidFill>
                  <a:srgbClr val="ccffff"/>
                </a:solidFill>
                <a:latin typeface="Times New Roman"/>
              </a:rPr>
              <a:t>a</a:t>
            </a:r>
            <a:r>
              <a:rPr b="0" i="1" lang="en-US" sz="4400" spc="-1" strike="noStrike" baseline="30000">
                <a:solidFill>
                  <a:srgbClr val="ccffff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ccffff"/>
                </a:solidFill>
                <a:latin typeface="Times New Roman"/>
              </a:rPr>
              <a:t>  (cont.)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60904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Right-to-left binary exponentiatio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ca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’s binary expansion from right to left and compute 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0" i="1" lang="en-US" sz="2400" spc="-1" strike="noStrike" baseline="30000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as the product of terms 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ffff99"/>
                </a:solidFill>
                <a:latin typeface="Times New Roman"/>
              </a:rPr>
              <a:t>2 </a:t>
            </a:r>
            <a:r>
              <a:rPr b="0" i="1" lang="en-US" sz="2400" spc="-1" strike="noStrike" baseline="50000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orresponding to 1’s in this expansion.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2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Exampl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Comput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13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y the right-to-left binary exponentiation.  Here,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 13 = 1101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. 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2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0                1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          a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8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    a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4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         a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    a 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    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ffff99"/>
                </a:solidFill>
                <a:latin typeface="Times New Roman"/>
              </a:rPr>
              <a:t>2 </a:t>
            </a:r>
            <a:r>
              <a:rPr b="0" i="1" lang="en-US" sz="2400" spc="-1" strike="noStrike" baseline="50000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terms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                a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8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    *        a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4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 *                         a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:     product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(computed right-to-left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2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fficiency: same as that of left-to-right binary exponentiation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عنصر نائب للتذييل 4"/>
          <p:cNvSpPr/>
          <p:nvPr/>
        </p:nvSpPr>
        <p:spPr>
          <a:xfrm>
            <a:off x="114300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. Levitin “Introduction to the Design &amp; Analysis of Algorithms,” 3rd ed., Ch. 6 ©2012 Pearson Education, Inc. Upper Saddle River, NJ. All Rights Reserved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50499-C0AB-4277-ADFF-1BD917EB42A1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Problem Reduction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is variation of transform-and-conquer solves a problem by a transforming it into different problem for which an algorithm is already available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o be of practical value, the combined time of the transformation and solving the other problem should be smaller than solving the problem as given by another method. 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28C61-1FAC-4895-A34E-A4ABCFFABCEB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Examples of Solving Problems by Reduction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mputing lcm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via computing gcd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, 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unting number of paths of length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 a graph by raising the graph’s adjacency matrix to th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-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 power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ransforming a maximization problem to a minimization problem and vice versa (also, min-heap construction)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inear programming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reduction to graph problems (e.g., solving puzzles via state-space graphs)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08F14-AB06-4F4B-8621-C26690650649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Element Uniqueness with presorting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120" y="1266840"/>
            <a:ext cx="853452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resorting-based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algorithm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tage 1: sort by efficient sorting algorithm (e.g. mergesort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tage 2: scan array to check pairs of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adjacen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element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Efficiency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: </a:t>
            </a:r>
            <a:r>
              <a:rPr b="1" lang="el-GR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Θ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log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 + O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 = </a:t>
            </a:r>
            <a:r>
              <a:rPr b="1" lang="el-GR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Θ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log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Brute force algorithm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Compare all pairs of elements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Efficiency: O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nother algorithm?  Hashing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Instance simplification </a:t>
            </a:r>
            <a:r>
              <a:rPr b="1" lang="en-US" sz="3200" spc="-1" strike="noStrike">
                <a:solidFill>
                  <a:srgbClr val="ccffff"/>
                </a:solidFill>
                <a:latin typeface="Times New Roman"/>
                <a:ea typeface="Times New Roman"/>
              </a:rPr>
              <a:t>– Gaussian Elimination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Given: A system o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linear equations i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unknowns with an arbitrary coefficient matrix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ransform to: An equivalent system o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linear equations i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unknowns with an upper triangular coefficient matrix.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olve the latter by substitutions starting with the last equation  and moving up to the first one.</a:t>
            </a:r>
            <a:br>
              <a:rPr sz="2400"/>
            </a:br>
            <a:br>
              <a:rPr sz="2400"/>
            </a:b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1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+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2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+ …  +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 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        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,1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+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2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+ …  +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1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2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+ …  +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 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          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2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+ …  +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            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+ …   +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n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b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         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n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b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1" name="Line 6"/>
          <p:cNvSpPr/>
          <p:nvPr/>
        </p:nvSpPr>
        <p:spPr>
          <a:xfrm>
            <a:off x="4495680" y="5715000"/>
            <a:ext cx="9144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عنصر نائب للتذييل 4"/>
          <p:cNvSpPr/>
          <p:nvPr/>
        </p:nvSpPr>
        <p:spPr>
          <a:xfrm>
            <a:off x="114300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. Levitin “Introduction to the Design &amp; Analysis of Algorithms,” 3rd ed., Ch. 6 ©2012 Pearson Education, Inc. Upper Saddle River, NJ. All Rights Reserved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Gaussian Elimination (cont.)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transformation is accomplished by a sequence of elementary operations on the system’s coefficient matrix  (which don’t change the system’s solution):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←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1 to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-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do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replace each of the subsequent rows (i.e., rows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+1, …,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by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a  difference between that row and an appropriate multiple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of th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-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 row to make the new coefficient in th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-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lumn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of that row 0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Example of Gaussian Elimination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60904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olve        2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- 4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3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=   6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3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-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+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3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= 11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-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3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= -3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br>
              <a:rPr sz="2000"/>
            </a:br>
            <a:br>
              <a:rPr sz="20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Gaussian eliminati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-4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1   6                                      2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-4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1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6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3  -1   1  11  row2 – (3/2)*row1    0   5  -1/2   2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1   1  -1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-3  row3 – (1/2)*row1     0   3  -3/2  -6  row3–(3/5)*row2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                                                              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-4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1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6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                                  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0   5  -1/2    2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                                  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0   0  -6/5 -36/5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ackward substituti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                                                   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 (-36/5) / (-6/5) = 6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                                   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 (2+(1/2)*6) / 5 = 1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                                   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 (6 – 6 + 4*1)/2 = 2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Pseudocode and Efficiency of Gaussian Elimination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308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age 1: Reduction to an upper-triangular matrix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←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1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to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-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do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j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←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+1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to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do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         for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←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to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+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do</a:t>
            </a:r>
            <a:br>
              <a:rPr sz="2400"/>
            </a:b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   A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k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]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←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k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] -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k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]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* A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i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] /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i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]  //improve!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age 2: Back substitutions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j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←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downto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1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do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←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0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←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j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+1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to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do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←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k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] *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]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]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←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+1] -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/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j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]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fficiency: </a:t>
            </a:r>
            <a:r>
              <a:rPr b="1" lang="el-GR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Θ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</a:t>
            </a:r>
            <a:r>
              <a:rPr b="1" lang="el-GR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Θ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 </a:t>
            </a:r>
            <a:r>
              <a:rPr b="1" lang="el-GR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Θ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3T17:38:43Z</dcterms:created>
  <dc:creator>Anany Levitin</dc:creator>
  <dc:description/>
  <dc:language>en-US</dc:language>
  <cp:lastModifiedBy>123</cp:lastModifiedBy>
  <dcterms:modified xsi:type="dcterms:W3CDTF">2019-03-31T05:55:27Z</dcterms:modified>
  <cp:revision>139</cp:revision>
  <dc:subject/>
  <dc:title>Chapter 6: Transform-and-Conquer</dc:title>
</cp:coreProperties>
</file>