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6EA22-3628-4B38-929B-C13A1144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5CF2E-28B2-4E8D-87B9-93584DDE8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02C4D-9E0A-41F3-BB09-269281C1A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64258-4FDE-4264-9387-686D6BB5D9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9EB33-66F5-4B48-9FF2-74FED5B728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2EA91-BA92-40B5-8F5B-EDD8D2B15E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2F135-7F64-4206-A2CA-CE874B8B18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E0394-8777-400B-99C4-2F7E7FD0E3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12F10-7490-4307-AD9C-6810547960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74B73-E6FC-45F1-99E3-045CFEEA5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D2E79-1F29-4FC9-B7DA-841FAB39C7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895DE-085B-43DC-9B74-3538F9601A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48DC1-D582-4A87-A16B-BB959CDB9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8008A-A9BE-4CAC-A53E-F08458060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2C64E-E336-480B-96A2-D9EAC71F40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F8433-E055-40A2-B3CB-A1B182238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8FB01-49DF-4B81-8203-91C78C61CC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6FF54-3AF0-4DAC-AE14-B8939367F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d is not necessarily the smallest distance between all pairs of points in S1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because a closer pair of points can lie on the opposite sides separating the line. When w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the two sets, we must examine such points. (Illustrate this on the diagr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E5705-9476-4806-B41D-1BC5B0FA70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69753-1568-4E73-90BC-0EF8D3DA8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69920-885F-47C6-9299-CE282C66BC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ABB92-C3C4-4514-A421-EBACB990FA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05CD6-6B18-453C-9570-BDEB2A352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20A3E-06D0-4F49-951C-0158F95F5D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42325-F60F-49CE-AC7C-1787C39965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C8454-4921-40F9-916E-CDDCFF753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90FBC-E58D-4230-9E71-C0AD1E4C7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ver this example in detail, then do another example of merging, something li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 2 5 7 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4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47C4A-C331-461A-A1D7-C14FE53BF8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not analyzing in detail, show the recurrence for mergesort in worst c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(n) = 2 T(n/2) + (n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t case comparisons for me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4"/>
          <p:cNvSpPr/>
          <p:nvPr/>
        </p:nvSpPr>
        <p:spPr>
          <a:xfrm flipV="1">
            <a:off x="2286000" y="670536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334-16CD-4374-A870-B9028CCB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841-2151-4EFE-BA48-1508E0AD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399-2F4D-4379-938E-8ED98F4C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9F3-7A48-44B8-BEFF-1B2F5E09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9BD3-B6F9-4991-A279-5334430A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C96-65AA-4334-BD53-C57A5053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DE1-A0E2-4036-8D9A-6B993A5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EE5-7E1D-4F9C-887B-375EAAC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4FE2-CB6C-408B-B7DA-5ECA38D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1653-9C21-44A9-8666-9D15162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2BA-9D28-4751-9169-3BA0808D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579-7CE1-44D7-9BB8-9DC5FC3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151-930D-4069-B795-01C09E11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610C-8786-4C6E-A727-82E895A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BD5D-60BD-41C1-A6EF-47B0B535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CC2E-A0A2-4990-BF5C-D38A521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F23-FCBD-44E2-B071-2EFC28DF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EFF-F3F1-4A41-BE13-DD454E7A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6C7-AFF9-41F8-B120-F8BEF07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B84-8255-48CF-8754-F259CC1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E52-892E-4BF8-AB3F-98066AB9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EA4-B86E-42DF-8869-574F07C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0EB-E7FC-4FA6-A342-5991A38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367-CCE7-416D-B0B8-1A841FF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4B9-EA80-4C5F-A9E7-CCD366F6003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sign and Analysis of Algorithms - Chapt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3B2F-B7DA-49CD-8846-B0171ED2D08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B9BA-BC2C-401B-8D86-165DDFED28E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2348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 most-well known algorithm design strategy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ivide instance of problem into two or more smaller instanc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lve smaller instances recursivel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btain solution to original (larger) instance by combining these solution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50C-87D3-4BC5-A383-4C58704985E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lect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iv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rtitioning element) – here, the first el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arrange the list so that all the elements in the firs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itions are smaller than or equal to the pivot and all the elements in the remain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itions are larger than or equal to the pivot (see next slide for an algorithm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the pivot with the last element in the first (i.e.,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subarray — the pivot is now in its final pos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rt the two subarrays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219320" y="3505320"/>
            <a:ext cx="7010280" cy="1443960"/>
            <a:chOff x="1219320" y="3505320"/>
            <a:chExt cx="7010280" cy="1443960"/>
          </a:xfrm>
        </p:grpSpPr>
        <p:grpSp>
          <p:nvGrpSpPr>
            <p:cNvPr id="166" name="Group 5"/>
            <p:cNvGrpSpPr/>
            <p:nvPr/>
          </p:nvGrpSpPr>
          <p:grpSpPr>
            <a:xfrm>
              <a:off x="1219320" y="3505320"/>
              <a:ext cx="7010280" cy="1066680"/>
              <a:chOff x="1219320" y="3505320"/>
              <a:chExt cx="7010280" cy="1066680"/>
            </a:xfrm>
          </p:grpSpPr>
          <p:sp>
            <p:nvSpPr>
              <p:cNvPr id="167" name="Rectangle 6"/>
              <p:cNvSpPr/>
              <p:nvPr/>
            </p:nvSpPr>
            <p:spPr>
              <a:xfrm>
                <a:off x="1219320" y="3505320"/>
                <a:ext cx="7010280" cy="53352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7"/>
              <p:cNvSpPr/>
              <p:nvPr/>
            </p:nvSpPr>
            <p:spPr>
              <a:xfrm>
                <a:off x="152388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8"/>
              <p:cNvSpPr/>
              <p:nvPr/>
            </p:nvSpPr>
            <p:spPr>
              <a:xfrm>
                <a:off x="403848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9"/>
              <p:cNvSpPr/>
              <p:nvPr/>
            </p:nvSpPr>
            <p:spPr>
              <a:xfrm>
                <a:off x="434340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Text Box 10"/>
              <p:cNvSpPr/>
              <p:nvPr/>
            </p:nvSpPr>
            <p:spPr>
              <a:xfrm>
                <a:off x="1219320" y="3505320"/>
                <a:ext cx="22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1932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AutoShape 11"/>
              <p:cNvSpPr/>
              <p:nvPr/>
            </p:nvSpPr>
            <p:spPr>
              <a:xfrm rot="16200000">
                <a:off x="2666520" y="2971800"/>
                <a:ext cx="457200" cy="274284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71280 h 2742840"/>
                  <a:gd name="textAreaBottom" fmla="*/ 2671560 h 274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AutoShape 12"/>
              <p:cNvSpPr/>
              <p:nvPr/>
            </p:nvSpPr>
            <p:spPr>
              <a:xfrm rot="16200000">
                <a:off x="6095520" y="2438280"/>
                <a:ext cx="457200" cy="380988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99360 h 3809880"/>
                  <a:gd name="textAreaBottom" fmla="*/ 3710520 h 380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13"/>
            <p:cNvSpPr/>
            <p:nvPr/>
          </p:nvSpPr>
          <p:spPr>
            <a:xfrm>
              <a:off x="2355480" y="445464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Text Box 14"/>
            <p:cNvSpPr/>
            <p:nvPr/>
          </p:nvSpPr>
          <p:spPr>
            <a:xfrm>
              <a:off x="5752800" y="448956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3FB4-5829-4692-86EE-55BAEA053F1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are’s Partitioning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9" name="Picture 8" descr="partition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291-7943-4B90-9995-99E78F93D69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sort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5   3   1   9   8   2   4   7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DB9-DC3E-465A-9A50-6C4C1324B2E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Quick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st case: split in the middl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: sorted array! —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case: random array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provement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etter pivot selection: median of three partition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witch to insertion sort on small subfi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limination of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se combine to 20-25% improv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nsidered the method of choice for internal sorting of large fil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≥ 1000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AA71-F3D1-4A95-8B0A-54BD3B86FC5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Tree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tree is a divide-and-conquer ready structure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. 1: Classic traversals (preorder, inorder, postorde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ef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b           c               b            c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t(roo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d        e              d      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   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 flipH="1">
            <a:off x="4419720" y="3429000"/>
            <a:ext cx="38088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952880" y="342900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 flipH="1">
            <a:off x="5028840" y="3962520"/>
            <a:ext cx="30492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56272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7086600" y="3429000"/>
            <a:ext cx="3808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7620120" y="3429000"/>
            <a:ext cx="53316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6629040" y="396252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6934320" y="396252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784836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822960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754344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784872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6"/>
          <p:cNvSpPr/>
          <p:nvPr/>
        </p:nvSpPr>
        <p:spPr>
          <a:xfrm flipH="1">
            <a:off x="830556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853452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لتذييل 5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DBB-EBB6-46C1-9B03-D8429D86BC1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Tree Algorithm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78487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. 2: Computing the height of a binary tre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0" name="Picture 4" descr="Fig 4"/>
          <p:cNvPicPr/>
          <p:nvPr/>
        </p:nvPicPr>
        <p:blipFill>
          <a:blip r:embed="rId1"/>
          <a:stretch/>
        </p:blipFill>
        <p:spPr>
          <a:xfrm>
            <a:off x="2743200" y="1447920"/>
            <a:ext cx="3657600" cy="2687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685800" y="4648320"/>
            <a:ext cx="71629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} + 1 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-1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A791-BA90-43D2-9DE3-707536C5122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ltiplication of Large Integer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problem of multiplying two (large)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digit integers represented by arrays of their digits such a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= 12345678901357986429   B = 8765432128482091283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rade-school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… … … … … …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-digit multipl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2514600" y="3962520"/>
            <a:ext cx="137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685800" y="5486400"/>
            <a:ext cx="3124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505-A910-4254-89C6-9B1D22500B3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irst Divide-and-Conquer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mall example: 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 where A = 2135 and B = 401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= (21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),  B = (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, 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 = (21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4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2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2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4 + 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)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4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general, if A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B =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where A and B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digit,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-digit numbers)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rence for the number of one-digit multiplications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F1D4-16E3-485A-A0ED-C48D46AF17A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cond Divide-and-Conquer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762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is to decrease the number of multiplications from 4 to 3: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.e.,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ch requires only 3 multiplications at the expense of (4-1) extra add/sub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rence for the  number of multiplications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3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≈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.585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5F6-0CC4-4080-A0B2-89FEFCA1A8D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Large-Integer Multiplication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3520" y="129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1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77BC-A78E-412E-A666-101C97B5B88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 Technique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5562720" y="2362320"/>
            <a:ext cx="2286000" cy="8380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subproblem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1219320" y="2362320"/>
            <a:ext cx="2286000" cy="8380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subproblem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219320" y="365760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subproblem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429000" y="541008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the original prob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562720" y="365760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subproblem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666880" y="2057400"/>
            <a:ext cx="144792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4952880" y="2057400"/>
            <a:ext cx="152424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429000" y="1295280"/>
            <a:ext cx="2286000" cy="83844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a problem 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670572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6705720" y="43434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2286000" y="4876920"/>
            <a:ext cx="4419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4572000" y="4876920"/>
            <a:ext cx="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34E5-79D4-429E-A8D1-E6F3DC1C6C4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rassen’s Matrix Multi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6684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assen observed [1969] that  the product of two matrices can be computed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=                             *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-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5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=                  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4            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-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1066680" y="2514600"/>
            <a:ext cx="4800600" cy="1143000"/>
            <a:chOff x="1066680" y="2514600"/>
            <a:chExt cx="4800600" cy="1143000"/>
          </a:xfrm>
        </p:grpSpPr>
        <p:sp>
          <p:nvSpPr>
            <p:cNvPr id="236" name="Line 5"/>
            <p:cNvSpPr/>
            <p:nvPr/>
          </p:nvSpPr>
          <p:spPr>
            <a:xfrm>
              <a:off x="1676160" y="266688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6"/>
            <p:cNvSpPr/>
            <p:nvPr/>
          </p:nvSpPr>
          <p:spPr>
            <a:xfrm>
              <a:off x="5257440" y="266688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>
              <a:off x="3504960" y="274320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1218960" y="3048120"/>
              <a:ext cx="838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4800240" y="3048120"/>
              <a:ext cx="838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>
              <a:off x="3124080" y="3048120"/>
              <a:ext cx="838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AutoShape 11"/>
            <p:cNvSpPr/>
            <p:nvPr/>
          </p:nvSpPr>
          <p:spPr>
            <a:xfrm>
              <a:off x="1066680" y="2514600"/>
              <a:ext cx="121896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AutoShape 12"/>
            <p:cNvSpPr/>
            <p:nvPr/>
          </p:nvSpPr>
          <p:spPr>
            <a:xfrm>
              <a:off x="4647960" y="2514600"/>
              <a:ext cx="121932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AutoShape 13"/>
            <p:cNvSpPr/>
            <p:nvPr/>
          </p:nvSpPr>
          <p:spPr>
            <a:xfrm>
              <a:off x="2819160" y="2514600"/>
              <a:ext cx="121932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2666880" y="3886200"/>
            <a:ext cx="5410440" cy="11430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5B2F-2344-48BB-B8B7-53149F37817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ormulas for Strassen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048C-0BF3-45D7-B472-96C1D5B2128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Strassen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26684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not a power of 2, matrices can be padded with zero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multiplic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7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7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≈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.807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s.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brute-force al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with better asymptotic efficiency are known but the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even more complex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6770-CD62-420E-8792-C826A4D8BCA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est-Pair Problem by Divide-and-Conquer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Divide the points given into two subset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 vertical li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o that half the points lie to the left or on the line and half the points lie to the right or on the lin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8" name="Picture 4" descr="ClosestPair"/>
          <p:cNvPicPr/>
          <p:nvPr/>
        </p:nvPicPr>
        <p:blipFill>
          <a:blip r:embed="rId1"/>
          <a:stretch/>
        </p:blipFill>
        <p:spPr>
          <a:xfrm>
            <a:off x="2560680" y="2568600"/>
            <a:ext cx="37638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F3AC-72C2-4506-AEEC-0224593767E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est Pair by Divide-and-Conquer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nd recursively the closest pairs for the left and righ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subse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 S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in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limit our attention to the points in the symmetric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vertical stri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width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possible closest pair. (Th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points are stored and processed in increasing order of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thei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ordinates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 Scan the points in the vertical stri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om the lowest up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For every poin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n the strip, inspect points i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in the strip that may be closer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There can b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no more than 5 such points follow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the strip list!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76F3-47AA-457F-A791-6BD0DBFDB23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fficiency of the Closest-Pair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unning time of the algorithm is described by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2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 where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the Master Theorem (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F763-EB8B-4EA0-8A55-676BB47D6A5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hull Algorithm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vex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smallest convex set that includes given poi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sume points are sorted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ordinate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dentif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reme poi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leftmost and rightmo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pper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cursivel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 point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that is farthest away from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e the upper hull of the points to the left of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e the upper hull of the points to the left of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wer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a similar man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" name="Oval 4"/>
          <p:cNvSpPr/>
          <p:nvPr/>
        </p:nvSpPr>
        <p:spPr>
          <a:xfrm>
            <a:off x="3581280" y="61722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Oval 5"/>
          <p:cNvSpPr/>
          <p:nvPr/>
        </p:nvSpPr>
        <p:spPr>
          <a:xfrm>
            <a:off x="5105520" y="53341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6"/>
          <p:cNvSpPr/>
          <p:nvPr/>
        </p:nvSpPr>
        <p:spPr>
          <a:xfrm>
            <a:off x="1371600" y="6019920"/>
            <a:ext cx="7632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7"/>
          <p:cNvSpPr/>
          <p:nvPr/>
        </p:nvSpPr>
        <p:spPr>
          <a:xfrm>
            <a:off x="1523880" y="54100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4495680" y="54864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1828800" y="57150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905120" y="4952880"/>
            <a:ext cx="7596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2133720" y="60199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2209680" y="51814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2971800" y="5334120"/>
            <a:ext cx="7632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2590920" y="57913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2743200" y="50292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3657600" y="57150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4191120" y="4800600"/>
            <a:ext cx="7596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1371600" y="6095880"/>
            <a:ext cx="2209680" cy="152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19"/>
          <p:cNvSpPr/>
          <p:nvPr/>
        </p:nvSpPr>
        <p:spPr>
          <a:xfrm flipV="1">
            <a:off x="3581280" y="5409720"/>
            <a:ext cx="152424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20"/>
          <p:cNvSpPr/>
          <p:nvPr/>
        </p:nvSpPr>
        <p:spPr>
          <a:xfrm flipH="1" flipV="1">
            <a:off x="4191120" y="4800600"/>
            <a:ext cx="91440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21"/>
          <p:cNvSpPr/>
          <p:nvPr/>
        </p:nvSpPr>
        <p:spPr>
          <a:xfrm flipH="1">
            <a:off x="1905120" y="4800600"/>
            <a:ext cx="228600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22"/>
          <p:cNvSpPr/>
          <p:nvPr/>
        </p:nvSpPr>
        <p:spPr>
          <a:xfrm flipH="1">
            <a:off x="1523520" y="5029200"/>
            <a:ext cx="3812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23"/>
          <p:cNvSpPr/>
          <p:nvPr/>
        </p:nvSpPr>
        <p:spPr>
          <a:xfrm flipV="1">
            <a:off x="1371600" y="5486040"/>
            <a:ext cx="152280" cy="609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24"/>
          <p:cNvSpPr/>
          <p:nvPr/>
        </p:nvSpPr>
        <p:spPr>
          <a:xfrm flipV="1">
            <a:off x="1371600" y="5333760"/>
            <a:ext cx="380988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923040" y="57913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5190120" y="49528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7"/>
          <p:cNvSpPr/>
          <p:nvPr/>
        </p:nvSpPr>
        <p:spPr>
          <a:xfrm>
            <a:off x="1321200" y="4419720"/>
            <a:ext cx="6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28"/>
          <p:cNvSpPr/>
          <p:nvPr/>
        </p:nvSpPr>
        <p:spPr>
          <a:xfrm flipH="1">
            <a:off x="1066680" y="4572000"/>
            <a:ext cx="1067040" cy="20574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29"/>
          <p:cNvSpPr/>
          <p:nvPr/>
        </p:nvSpPr>
        <p:spPr>
          <a:xfrm flipH="1" flipV="1">
            <a:off x="1218960" y="4876560"/>
            <a:ext cx="4800600" cy="6094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C8C4-1146-4763-BE8A-AC7529420FD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fficiency of Quickhull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ing point farthest away from li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be done in linear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efficiency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 (a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ick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case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(under reasonable assumptions abou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      distribution of points given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points are not initially sorted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ordinate value, this can be accomplished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tim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for convex hull are kn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539B-3B7E-4A18-940E-8CDA2E11046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 Exampl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ing: mergesort and quick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tree traversa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plication of large integ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trix multiplication: Strassen’s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st-pair and convex-hull algorith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: decrease-by-half (or degenerate divide&amp;conq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33520" y="5486400"/>
            <a:ext cx="6629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E812-E223-4681-B42B-F11D02B486F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57200" y="228600"/>
            <a:ext cx="758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eneral Divide-and-Conquer 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d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Master Theor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 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&lt;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=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&gt;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800" spc="-1" strike="noStrike" baseline="14000">
                <a:solidFill>
                  <a:srgbClr val="ffff99"/>
                </a:solidFill>
                <a:latin typeface="Times New Roman"/>
              </a:rPr>
              <a:t>b </a:t>
            </a:r>
            <a:r>
              <a:rPr b="1" i="1" lang="en-US" sz="3200" spc="-1" strike="noStrike" baseline="30000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The same results hold with O instead of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42BC-C187-4AF3-AF05-21911FCE584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lit array A[0..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] in two about equal halves and make copies of each half  in arrays B and 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arrays B and C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rge sorted arrays B and C into array A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eat the following until no elements remain in one of the array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the first elements in the remaining unprocessed portions of the arr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py the smaller of the two into A, while incrementing the index indicating the unprocessed portion of that arra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ce all elements in one of the arrays are processed, copy the remaining unprocessed elements from the other array into A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EFC2-7CF9-4EE1-84FD-7683116C737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6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seudocode of 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8" name="Picture 4" descr="4_1a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B39-11D1-45CA-9574-2F94D466A9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40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seudocode of Merg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2" name="Picture 4" descr="4_1b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5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AC0-9CEC-4C57-BB26-6B90EEAC147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rgesort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6" name="Picture 4" descr="Fig 4"/>
          <p:cNvPicPr/>
          <p:nvPr/>
        </p:nvPicPr>
        <p:blipFill>
          <a:blip r:embed="rId1"/>
          <a:stretch/>
        </p:blipFill>
        <p:spPr>
          <a:xfrm>
            <a:off x="2666880" y="1295280"/>
            <a:ext cx="405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عنصر نائب للتذييل 4"/>
          <p:cNvSpPr/>
          <p:nvPr/>
        </p:nvSpPr>
        <p:spPr>
          <a:xfrm>
            <a:off x="12193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656-1306-45B6-AA87-725EA6DC13E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cases have same 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umber of comparisons in the worst case is close to theoretical minimum for comparison-based sorting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≈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1.4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pace requirement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(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in-plac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n be implemented without recursion (bottom-u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123</cp:lastModifiedBy>
  <dcterms:modified xsi:type="dcterms:W3CDTF">2019-03-31T06:14:27Z</dcterms:modified>
  <cp:revision>160</cp:revision>
  <dc:subject/>
  <dc:title>Chapter 4:  Divide-and-Conquer </dc:title>
</cp:coreProperties>
</file>