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6ED3-7DD2-479C-B68C-18183F1DA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09480" y="385776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D5C4-B860-40B0-9247-DE48DEEA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65760" y="129528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85776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865760" y="385776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951C-F6CC-4170-A86F-947426F98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418200" y="129528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26560" y="129528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09480" y="385776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418200" y="385776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226560" y="385776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0A29-4714-4F00-BCF5-602CEC8D4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E0F6-6F73-474C-AE57-53854D70C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09480" y="129528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1C89-C963-44B8-BC17-1562992E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4E4D-D1DB-4B70-85ED-C64E7B72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5760" y="129528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7D02-BAD9-4F5A-B0B9-33B81D3A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91DD-C734-4726-99E0-EEBDC4D9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83822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4D66-E05A-4341-B05A-72D8F717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65760" y="129528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85776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B527-51E7-4F81-9387-7BE10D95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09480" y="129528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9597-1627-463F-AC71-0E69E92F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65760" y="129528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865760" y="385776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3BE9-13C3-4090-BBF7-A3E7624B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65760" y="129528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85776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BEFB-FB61-4B36-9C53-8D8A8D2C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09480" y="385776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F43A-48E1-4F7D-B01D-26F99CE3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65760" y="129528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9480" y="385776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865760" y="385776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662F-352C-487E-A957-0A64838D2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18200" y="129528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26560" y="129528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09480" y="385776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418200" y="385776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26560" y="385776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C590-E8F8-4457-B850-F18FE1C86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5204-AA65-4DC9-8BF6-D0A1F8AE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65760" y="129528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BF6A-FF02-4791-B658-CB2B877E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7293-4E1A-4AE3-9E81-1014EEFF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83822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2E74-3547-4626-9C48-CE709753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65760" y="129528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85776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0D63-CCF2-4D28-A304-3CD011AE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65760" y="129528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865760" y="385776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8257-190B-42D4-AAE7-58891811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65760" y="129528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480" y="385776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30C3-BB09-41A9-AF98-93EFFC06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329680" y="733320"/>
            <a:ext cx="720720" cy="532080"/>
            <a:chOff x="8329680" y="733320"/>
            <a:chExt cx="720720" cy="532080"/>
          </a:xfrm>
        </p:grpSpPr>
        <p:sp>
          <p:nvSpPr>
            <p:cNvPr id="1" name=""/>
            <p:cNvSpPr/>
            <p:nvPr/>
          </p:nvSpPr>
          <p:spPr>
            <a:xfrm flipH="1" rot="10800000">
              <a:off x="8832960" y="733320"/>
              <a:ext cx="2174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10800000">
              <a:off x="8582400" y="733320"/>
              <a:ext cx="2192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10800000">
              <a:off x="8329680" y="733320"/>
              <a:ext cx="21888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77400" y="6040440"/>
            <a:ext cx="531720" cy="726840"/>
            <a:chOff x="77400" y="6040440"/>
            <a:chExt cx="531720" cy="726840"/>
          </a:xfrm>
        </p:grpSpPr>
        <p:sp>
          <p:nvSpPr>
            <p:cNvPr id="5" name=""/>
            <p:cNvSpPr/>
            <p:nvPr/>
          </p:nvSpPr>
          <p:spPr>
            <a:xfrm flipH="1" rot="5400000">
              <a:off x="234000" y="5883120"/>
              <a:ext cx="2174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233280" y="6142680"/>
              <a:ext cx="21888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233280" y="6391800"/>
              <a:ext cx="2192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609480" y="129528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1219320" y="640044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11 ©2012 Pearson Education, Inc. Upper Saddle River, NJ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7093080" y="6552720"/>
            <a:ext cx="182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DE88-66CF-44BB-85E1-AFA398549F1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2716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304200" y="914400"/>
            <a:ext cx="8839080" cy="228600"/>
          </a:xfrm>
          <a:custGeom>
            <a:avLst/>
            <a:gdLst>
              <a:gd name="textAreaLeft" fmla="*/ -360 w 8839080"/>
              <a:gd name="textAreaRight" fmla="*/ 8839080 w 88390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1" y="0"/>
                </a:lnTo>
                <a:lnTo>
                  <a:pt x="21600" y="10800"/>
                </a:lnTo>
                <a:lnTo>
                  <a:pt x="212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981080" y="2179800"/>
            <a:ext cx="19080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" name=""/>
          <p:cNvGrpSpPr/>
          <p:nvPr/>
        </p:nvGrpSpPr>
        <p:grpSpPr>
          <a:xfrm>
            <a:off x="77760" y="5903640"/>
            <a:ext cx="533520" cy="749160"/>
            <a:chOff x="77760" y="5903640"/>
            <a:chExt cx="533520" cy="749160"/>
          </a:xfrm>
        </p:grpSpPr>
        <p:sp>
          <p:nvSpPr>
            <p:cNvPr id="16" name=""/>
            <p:cNvSpPr/>
            <p:nvPr/>
          </p:nvSpPr>
          <p:spPr>
            <a:xfrm rot="16200000">
              <a:off x="226080" y="5756400"/>
              <a:ext cx="2379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223560" y="6010200"/>
              <a:ext cx="23976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225360" y="6266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5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8190000" y="731880"/>
            <a:ext cx="739800" cy="533520"/>
            <a:chOff x="8190000" y="731880"/>
            <a:chExt cx="739800" cy="533520"/>
          </a:xfrm>
        </p:grpSpPr>
        <p:sp>
          <p:nvSpPr>
            <p:cNvPr id="21" name=""/>
            <p:cNvSpPr/>
            <p:nvPr/>
          </p:nvSpPr>
          <p:spPr>
            <a:xfrm>
              <a:off x="8691480" y="733320"/>
              <a:ext cx="23832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733320"/>
              <a:ext cx="2397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90000" y="731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1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322A-BD1C-438C-8DDF-9384CD4BDA5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19720" y="9907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4457520" y="-2934000"/>
            <a:ext cx="228600" cy="9144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Lower Bound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Lower boun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an estimate on a minimum amount of work needed to solve a given proble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umber of comparisons needed to find the largest element in a set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number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umber of comparisons needed to sort an array of siz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umber of comparisons necessary  for searching in a sorted arra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umber of multiplications needed to multiply tw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by-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trices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B807-487E-42C2-B251-01AC54CD3A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Problem Types: Optimization and Decis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266480"/>
            <a:ext cx="853452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Optimization proble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find a solution that maximizes or minimizes some objective func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Decision proble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answer yes/no to a ques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ny problems have decision and optimization versions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.g.: traveling salesman proble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optimizat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find Hamiltonian cycle of minimum length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ecis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find Hamiltonian cycle of length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cision problems are more convenient for formal investigation of their complexity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2770-2806-4CED-AD78-0C2DB42AC8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ass </a:t>
            </a:r>
            <a:r>
              <a:rPr b="1" i="1" lang="en-US" sz="3600" spc="-1" strike="noStrike">
                <a:solidFill>
                  <a:srgbClr val="ccffff"/>
                </a:solidFill>
                <a:latin typeface="Times New Roman"/>
              </a:rPr>
              <a:t>P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82240" cy="53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the class of decision problems that are solvable in O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) time, wher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is a polynomial of problem’s input siz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arching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lement uniqueness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raph connectivity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raph acyclicity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imality testing (finally proved in 2002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D401-5C39-4DEB-AC45-1FEBB59AA3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ass </a:t>
            </a:r>
            <a:r>
              <a:rPr b="1" i="1" lang="en-US" sz="3600" spc="-1" strike="noStrike">
                <a:solidFill>
                  <a:srgbClr val="ccffff"/>
                </a:solidFill>
                <a:latin typeface="Times New Roman"/>
              </a:rPr>
              <a:t>NP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266480"/>
            <a:ext cx="853452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N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</a:t>
            </a: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nondeterministic polynomia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: class of decision problems whose proposed solutions can be verified in polynomial time = solvable  by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ondeterministi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olynomial algorith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nondeterministic polynomial algorith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n abstract two-stage procedure that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enerates a random string purported to solve the proble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hecks whether this solution is correct in polynomial tim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y definition, it solves the problem if it’s capable of generating and verifying a solution on one of its tries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y this definition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ed to development of the rich theory called “computational complexity”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FE31-1180-4CED-9EE4-4802772E7E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xample: CNF satisfiability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blem: Is a boolean expression in its conjunctive normal form (CNF) satisfiable, i.e., are there values of its variables that makes it true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s problem is i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.  Nondeterministic algorithm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uess truth assignme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ubstitute the values into the CNF formula to see if it evaluates to tru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Example: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A | 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Times New Roman"/>
              </a:rPr>
              <a:t>¬B 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| 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Times New Roman"/>
              </a:rPr>
              <a:t>¬C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Times New Roman"/>
              </a:rPr>
              <a:t> &amp;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Arial Unicode MS"/>
              </a:rPr>
              <a:t> | 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Times New Roman"/>
              </a:rPr>
              <a:t>B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Arial Unicode MS"/>
              </a:rPr>
              <a:t> &amp;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Times New Roman"/>
              </a:rPr>
              <a:t>¬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Arial Unicode MS"/>
              </a:rPr>
              <a:t>B | 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Times New Roman"/>
              </a:rPr>
              <a:t>¬D |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Times New Roman"/>
              </a:rPr>
              <a:t>E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Times New Roman"/>
              </a:rPr>
              <a:t>&amp;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Times New Roman"/>
              </a:rPr>
              <a:t>¬D | ¬E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ruth assignments: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99"/>
                </a:solidFill>
                <a:uFillTx/>
                <a:latin typeface="Arial Unicode MS"/>
              </a:rPr>
              <a:t>A B C D 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0  0  0  0  0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.   .   .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1  1  1  1  1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hecking phase: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O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FBBA-3EAD-444B-A0B4-6267F051C9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What problems are in </a:t>
            </a:r>
            <a:r>
              <a:rPr b="1" i="1" lang="en-US" sz="3600" spc="-1" strike="noStrike">
                <a:solidFill>
                  <a:srgbClr val="ccffff"/>
                </a:solidFill>
                <a:latin typeface="Times New Roman"/>
              </a:rPr>
              <a:t>NP</a:t>
            </a: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?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amiltonian circuit existence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artition problem: Is it possible to partition a set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ntegers into two disjoint subsets with the same sum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cision versions of TSP, knapsack problem, graph coloring, and many other combinatorial optimization problems.  (Few exceptions include: MST, shortest paths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ll the problems i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an also be solved in this manner (no guessing is necessary), so we have: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 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</a:t>
            </a:r>
            <a:r>
              <a:rPr b="1" i="1" lang="en-US" sz="2400" spc="-1" strike="noStrike">
                <a:solidFill>
                  <a:srgbClr val="ffff99"/>
                </a:solidFill>
                <a:latin typeface="Arial Unicode MS"/>
                <a:ea typeface="Arial Unicode MS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Big question: 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NP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?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3D6D-3E6F-4093-811A-EB5E9800EE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ffff"/>
                </a:solidFill>
                <a:latin typeface="Times New Roman"/>
              </a:rPr>
              <a:t>NP</a:t>
            </a: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-Complete Problem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153640" cy="53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decision problem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</a:t>
            </a: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NP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-complet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f it’s as hard as any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blem i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i.e.,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s i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very problem i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polynomial-time reducible t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ok’s theorem (1971): CNF-sat is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complet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778120" y="3048120"/>
            <a:ext cx="4537080" cy="294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6D2E-1929-4E36-A95E-E9765EA2F0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ffff"/>
                </a:solidFill>
                <a:latin typeface="Times New Roman"/>
              </a:rPr>
              <a:t>NP</a:t>
            </a: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-Complete Problems (cont.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1266480"/>
            <a:ext cx="8534520" cy="52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the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complete problems obtained through polynomial-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ime reductions from a know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complete proble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s: TSP, knapsack, partition, graph-coloring and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hundreds of other problems of combinatorial natur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778120" y="2141640"/>
            <a:ext cx="4232160" cy="303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AF4E-A844-4FDF-A3A3-A8AD426A58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ffff"/>
                </a:solidFill>
                <a:latin typeface="Times New Roman"/>
              </a:rPr>
              <a:t>P  </a:t>
            </a: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= </a:t>
            </a:r>
            <a:r>
              <a:rPr b="1" i="1" lang="en-US" sz="3600" spc="-1" strike="noStrike">
                <a:solidFill>
                  <a:srgbClr val="ccffff"/>
                </a:solidFill>
                <a:latin typeface="Times New Roman"/>
              </a:rPr>
              <a:t>NP </a:t>
            </a: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?</a:t>
            </a:r>
            <a:r>
              <a:rPr b="1" i="1" lang="en-US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Dilemma Revisited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ould imply that every problem i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,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cluding all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-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plete problems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uld be solved in polynomial tim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a polynomial-time algorithm for just on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-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plete problem is discovered, then every problem i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an be solved in polynomial time, i.e.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ost but not all researchers believe that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i.e.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s a proper subset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666880" y="2971800"/>
            <a:ext cx="4267440" cy="258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7740-E52A-4226-9145-B5EB747071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Lower Bounds (cont.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wer bound can b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exact count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efficiency class (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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Tigh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lower bound: there exists an algorithm with the same efficiency as the lower bound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ble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Lower boun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ightnes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orting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ff99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 n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)                          y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earching in a sorted array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ff99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log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 n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)                             y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element uniqueness                              </a:t>
            </a:r>
            <a:r>
              <a:rPr b="1" lang="en-US" sz="2000" spc="-1" strike="noStrike">
                <a:solidFill>
                  <a:srgbClr val="ffff99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 n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)                          y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-digit integer multiplication              </a:t>
            </a:r>
            <a:r>
              <a:rPr b="1" lang="en-US" sz="2000" spc="-1" strike="noStrike">
                <a:solidFill>
                  <a:srgbClr val="ffff99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)                            unknow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ultiplication of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-by-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atrices       </a:t>
            </a:r>
            <a:r>
              <a:rPr b="1" lang="en-US" sz="2000" spc="-1" strike="noStrike">
                <a:solidFill>
                  <a:srgbClr val="ffff99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0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)                           unknow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E551-DCAD-4A10-880E-5FED844BFF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Methods for Establishing Lower Bound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rivial lower bound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formation-theoretic arguments (decision trees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dversary argument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blem reduc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4506-1BF1-4FEA-B256-5508831DBB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rivial Lower Bound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Trivial lower bound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based on counting the number of items that must be processed in input and generated as output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finding max element</a:t>
            </a:r>
            <a:br>
              <a:rPr sz="2000"/>
            </a:b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polynomial evaluation</a:t>
            </a:r>
            <a:br>
              <a:rPr sz="2000"/>
            </a:b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orting</a:t>
            </a:r>
            <a:br>
              <a:rPr sz="2000"/>
            </a:b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element uniqueness</a:t>
            </a:r>
            <a:br>
              <a:rPr sz="2000"/>
            </a:b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Hamiltonian circuit existenc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clusions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ay and may not be useful</a:t>
            </a:r>
            <a:br>
              <a:rPr sz="2000"/>
            </a:b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be careful in deciding how many elements </a:t>
            </a:r>
            <a:r>
              <a:rPr b="1" lang="en-US" sz="2000" spc="-1" strike="noStrike" u="sng">
                <a:solidFill>
                  <a:srgbClr val="ffff99"/>
                </a:solidFill>
                <a:uFillTx/>
                <a:latin typeface="Times New Roman"/>
              </a:rPr>
              <a:t>must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be processed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53CD-CC16-4BC9-990E-91E182CB04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62120" y="3352680"/>
            <a:ext cx="7848360" cy="3505320"/>
          </a:xfrm>
          <a:prstGeom prst="rect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Decision Tre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Decision tre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— a convenient model of algorithms involving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parisons in which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ternal nodes represent comparis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eaves represent outcomes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cision tree for 3-element insertion sor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43000" y="3352680"/>
            <a:ext cx="731520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1196-F4BD-434D-82AA-F9E6D81094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Decision Trees and Sorting Algorithm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y comparison-based sorting algorithm can be represented by a decision tree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umber of leaves (outcomes)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!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eight of binary tree with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! leaves 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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!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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Symbol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inimum number of comparisons in the worst case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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!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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for any comparison-based sorting algorithm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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!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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s lower bound is tight (mergesort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D597-16C4-44C8-B1D5-45E6DDF0F8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dversary Argument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Adversary argumen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a method of proving a lower bound by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laying role of adversary that makes algorithm work the hardes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y adjusting input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 1: “Guessing” a number between 1 an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ith yes/n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quest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dversary:  Puts the number in a larger of the two subsets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generated by last question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 2:  Merging two sorted lists of siz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  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&lt; …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and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&lt; …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dversary: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&lt; b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f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utput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&lt; …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requires 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1 comparis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f adjacent  eleme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913B-1062-4653-874A-875A582DD5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Lower Bounds by Problem Reduct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dea: If problem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s at least as hard as problem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then a low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ound fo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Q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s also a lower bound fo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.         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ence, find problem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Q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ith a known lower bound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at can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be reduced to problem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n question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finding MST fo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points in Cartesian plane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Q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s element uniqueness problem (known to be in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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C15B-F083-4E66-9230-7E4D896D9B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0920" y="198000"/>
            <a:ext cx="822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assifying Problem Complexity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s the problem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tractable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.e., is there  a polynomial-time (O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) algorithm that solves it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ossible answer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yes (give examples)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ecause it’s been proved that no algorithm exists at all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e.g.,  Turing’s </a:t>
            </a: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halting proble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ecause it’s been be proved that any algorithm takes exponential time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unknow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ign and Analysis of Algorithms - Chapter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3BE3-5856-440B-BAD3-633010C4AA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3T17:38:43Z</dcterms:created>
  <dc:creator>Anany Levitin</dc:creator>
  <dc:description/>
  <dc:language>en-US</dc:language>
  <cp:lastModifiedBy>usnidem</cp:lastModifiedBy>
  <dcterms:modified xsi:type="dcterms:W3CDTF">2011-12-09T22:34:32Z</dcterms:modified>
  <cp:revision>112</cp:revision>
  <dc:subject/>
  <dc:title>Chapter 11:  Limitations of Algorithm Power </dc:title>
</cp:coreProperties>
</file>