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9491-032A-4F0C-95F7-4DAB2CB2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09480" y="385776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22DB-5A43-45C5-A183-7CC8DD64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85776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865760" y="385776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9CA6-E081-41A4-A8A4-9660869F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18200" y="129528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26560" y="129528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09480" y="385776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418200" y="385776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226560" y="385776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E9C4-0856-4AEE-8EEA-77E1E8E8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0D73-9744-4D9F-A746-923175ED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D842-3C15-4991-B53C-89AEAF27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1EA2-191E-49D6-A9AA-9D2012FD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7D2A-63B6-49A2-86FD-DE2E2891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125F-0816-47FB-855A-2CCFF8E9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8382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08C7-B014-469E-9E41-F44E256D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85776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CCF2-298B-4EA0-A2C6-346C4E10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C2E2-DC4E-4CEF-9B03-177E9BAD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65760" y="385776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884B-D7AB-4405-ACC0-31ED0B47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85776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82A4-C588-4B3C-81B5-08B8E4CF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09480" y="385776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95BA-DE3D-40E4-8D87-FE840123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480" y="385776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865760" y="385776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DC94-54B2-4F2F-A4A2-B72F2797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18200" y="129528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26560" y="129528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09480" y="385776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418200" y="385776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26560" y="385776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3767-5B8F-4579-A392-0FA836B6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5490-1998-48BC-B227-B293404E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B5ED-8A16-4B43-8857-DA3C6FDF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285F-EE35-42FA-BF72-9CBB9893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8382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24A0-88A6-4D81-8419-195BD2CA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85776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C516-6FB5-4996-9AAB-87C4EE46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865760" y="385776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78F7-324A-4BEA-A14A-FA1B7407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85776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548B-2358-465F-8742-BF608EAA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1" name="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5" name="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1219320" y="640044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11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7093080" y="6552720"/>
            <a:ext cx="182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9AE2-59B6-4BBC-8915-A49ADD97AB1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6" name="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1" name="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34E3-4BE3-45D7-9472-39599E33200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Lower Bound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Lower boun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an estimate on a minimum amount of work needed to solve a given probl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ber of comparisons needed to find the largest element in a set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numbe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ber of comparisons needed to sort an array of s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ber of comparisons necessary  for searching in a sorted arra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ber of multiplications needed to multiply tw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by-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trices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F5A1-1FFD-4DDF-9B46-4072C64D00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roblem Types: Optimization and Decis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266480"/>
            <a:ext cx="853452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Optimization probl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find a solution that maximizes or minimizes some objective func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Decision probl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answer yes/no to a ques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ny problems have decision and optimization version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.g.: traveling salesman probl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optimiza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find Hamiltonian cycle of minimum length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ecis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find Hamiltonian cycle of length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cision problems are more convenient for formal investigation of their complexity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E11D-5C11-49E8-8DCB-65355ABCDD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ass </a:t>
            </a: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P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8224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the class of decision problems that are solvable in 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) time, whe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is a polynomial of problem’s input s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arching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lement uniquenes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raph connectivity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raph acyclicity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imality testing (finally proved in 2002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AA58-A8FC-4B3B-853E-055FFBD2AA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ass </a:t>
            </a: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NP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266480"/>
            <a:ext cx="853452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N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nondeterministic polynomia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: class of decision problems whose proposed solutions can be verified in polynomial time = solvable  by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ondeterministi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lynomial algorith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nondeterministic polynomial algorith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n abstract two-stage procedure that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enerates a random string purported to solve the probl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ecks whether this solution is correct in polynomial tim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definition, it solves the problem if it’s capable of generating and verifying a solution on one of its tries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y this definition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ed to development of the rich theory called “computational complexity”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A0F2-5F05-4AE5-8222-8C949FE509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: CNF satisfiability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: Is a boolean expression in its conjunctive normal form (CNF) satisfiable, i.e., are there values of its variables that makes it true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problem is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.  Nondeterministic algorithm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uess truth assign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ubstitute the values into the CNF formula to see if it evaluates to tru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xample: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A | 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¬B 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| 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¬C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 &amp;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 | 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B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 &amp;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¬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B | 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¬D |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E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&amp;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¬D | ¬E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ruth assignments: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99"/>
                </a:solidFill>
                <a:uFillTx/>
                <a:latin typeface="Arial Unicode MS"/>
              </a:rPr>
              <a:t>A B C D 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0  0  0  0  0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.   .   .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1  1  1  1  1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ecking phase: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7E1A-21DE-4789-BFF0-50879DF17D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What problems are in </a:t>
            </a: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NP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?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amiltonian circuit existence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artition problem: Is it possible to partition a set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tegers into two disjoint subsets with the same sum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cision versions of TSP, knapsack problem, graph coloring, and many other combinatorial optimization problems.  (Few exceptions include: MST, shortest paths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l the problems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an also be solved in this manner (no guessing is necessary), so we have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</a:t>
            </a:r>
            <a:r>
              <a:rPr b="1" i="1" lang="en-US" sz="24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Big question: 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NP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?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D245-5624-43BE-9245-FE5242F314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NP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-Complete Problem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15364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decision proble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NP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-complet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f it’s as hard as any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i.e.,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very problem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polynomial-time reducible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ok’s theorem (1971): CNF-sat i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complet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778120" y="3048120"/>
            <a:ext cx="4537080" cy="294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1DA7-A7DD-4C79-AE87-4A54C9E84E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NP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-Complete Problems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266480"/>
            <a:ext cx="8534520" cy="52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the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complete problems obtained through polynomial-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ime reductions from a know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complete probl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s: TSP, knapsack, partition, graph-coloring and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hundreds of other problems of combinatorial natur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778120" y="2141640"/>
            <a:ext cx="4232160" cy="303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47D5-8AE2-4837-A065-FC8758765B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P  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= </a:t>
            </a: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NP 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?</a:t>
            </a: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Dilemma Revisited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ould imply that every problem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,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cluding all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lete problems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uld be solved in polynomial tim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a polynomial-time algorithm for just on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lete problem is discovered, then every problem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n be solved in polynomial time, i.e.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ost but not all researchers believe tha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i.e.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a proper subset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4267440" cy="258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0198-5BDA-4AC8-9F50-506A1EDAAC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Lower Bounds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wer bound can b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exact count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efficiency class (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Tigh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lower bound: there exists an algorithm with the same efficiency as the lower bound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Lower boun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ightne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rting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 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)                          y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arching in a sorted array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log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 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)                             y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lement uniqueness                              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 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)                          y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-digit integer multiplication              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)                            unknow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ultiplication of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-by-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atrices       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0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)                           unknow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EAAC-7025-4EE7-8627-D54F15750A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ethods for Establishing Lower Bound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ivial lower bound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formation-theoretic arguments (decision trees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dversary argument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 reduc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582C-2D7E-4579-A71D-3FE245A6C5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rivial Lower Bound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Trivial lower bound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based on counting the number of items that must be processed in input and generated as output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inding max element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olynomial evaluation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rting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lement uniqueness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Hamiltonian circuit existenc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clusions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ay and may not be useful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e careful in deciding how many elements 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must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be process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5A02-850F-43A1-8B38-0C8BCB54D2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3352680"/>
            <a:ext cx="7848360" cy="350532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Decision Tre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Decision tre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— a convenient model of algorithms involving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arisons in which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ternal nodes represent comparis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eaves represent outcomes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cision tree for 3-element insertion sor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43000" y="3352680"/>
            <a:ext cx="73152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AD9D-A516-40EA-87E7-BE275062AB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Decision Trees and Sorting Algorithm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y comparison-based sorting algorithm can be represented by a decision tree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ber of leaves (outcomes)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!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eight of binary tree wit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! leaves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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!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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Symbol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inimum number of comparisons in the worst case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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!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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for any comparison-based sorting algorithm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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!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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lower bound is tight (mergesort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1BCF-2B4F-45EB-A18D-CE2EAB7FA1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dversary Argument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Adversary argum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a method of proving a lower bound by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laying role of adversary that makes algorithm work the hardes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adjusting input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 1: “Guessing” a number between 1 an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ith yes/n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ques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dversary:  Puts the number in a larger of the two subset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generated by last question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 2:  Merging two sorted lists of s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…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and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…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dversary: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&lt; b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f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utpu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…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requires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1 comparis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f adjacent  elem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DC33-B5DC-4C11-A8CF-D6EB8A6280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Lower Bounds by Problem Reduc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dea: If proble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at least as hard as proble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then a low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ound f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also a lower bound f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.        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ence, find proble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ith a known lower bound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at can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be reduced to proble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 question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finding MST f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points in Cartesian plane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element uniqueness problem (known to be in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A90E-2BDA-40C3-A454-0F03CE76C2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0920" y="198000"/>
            <a:ext cx="822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assifying Problem Complexity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the problem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tractable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.e., is there  a polynomial-time (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) algorithm that solves it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ssible answer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yes (give examples)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ecause it’s been proved that no algorithm exists at all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e.g.,  Turing’s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halting probl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ecause it’s been be proved that any algorithm takes exponential time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nknow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F95B-9AAE-45E3-8969-E1419ED29A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Anany Levitin</dc:creator>
  <dc:description/>
  <dc:language>en-US</dc:language>
  <cp:lastModifiedBy>usnidem</cp:lastModifiedBy>
  <dcterms:modified xsi:type="dcterms:W3CDTF">2011-12-09T22:34:32Z</dcterms:modified>
  <cp:revision>112</cp:revision>
  <dc:subject/>
  <dc:title>Chapter 11:  Limitations of Algorithm Power </dc:title>
</cp:coreProperties>
</file>