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92968-5745-4D61-A08A-AD7A031E9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E4C15-5FF3-4CB2-A16D-B994FEB1C4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636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14805-165E-4924-AE02-326E68B1B3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4B002-8F5F-42A3-8CD1-E6F308972E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03013-ABCE-442F-BC3B-F54D86527D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DED07-B98C-4696-886E-DB4F541FB8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clid’s algorithm is good for introducing the notion of an algorithm becaus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s a clear separation from a program that implements the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so one that is familiar to most stu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 Khowarizmi (many spellings possible...) – “algorism” (originally) and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“algorithm” come from his n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40666-104E-4743-8506-17336273FF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50EE3-BBA1-45EC-BA8F-98072B570C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ECF2C-0944-4B23-B9C6-A700773E84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9C133-F82D-4497-8C2F-129CD1F600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9304B-E12A-4C1E-9300-D5BAC9C03A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EAC86-5B46-4825-B65F-1594FD29C1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F2890-A408-47F4-94B7-F3DFD236CA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AD9-5027-4519-9EA0-F4DED4FC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D25-7515-4197-8561-F007BE7C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63A-341C-4D04-BB97-A87422E4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1504-E0F0-49E6-8AC7-9C1F5189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E91D-9684-4F34-BDCA-15EE6C08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BCEA-191E-46CB-AB19-32BEBA1F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54BE-BF69-4D1F-BE05-1D53F970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F462-5F55-49BF-B0FC-47F960E3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D74E-F809-4171-A362-19FA3E13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758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436B-E599-46EB-B2B3-DA03E36B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6BC9-4B9A-4D48-AE68-40DD6A19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8B5-34BF-47FA-BB16-69305D88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E400-F637-421F-9156-ADEC6F62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DE7D-A27A-4CB4-AAE3-06DA3B82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0690-C162-49E2-948D-F5242050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FE38-CC6E-47D3-9D36-9FAD0397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35D6-9F58-4C98-81EA-59070653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2DDB-0B92-4DC6-8A59-FE2F896B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505-1A36-4F0D-B572-42D0564F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2AA-4E97-4F32-A9CF-4C723F4E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758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6F34-DFE9-4D12-87CD-B674F695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304-10BD-49B2-A750-4C2F3B8C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5CFF-85EE-4058-A473-5D8BB7E8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D0CA-4BF4-4BC8-B04D-1C119897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1" name="AutoShape 4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5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6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Group 7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5" name="AutoShape 8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9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0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219320" y="63241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D359-4C7F-48E8-A921-38ADEB043A8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AutoShape 16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Group 18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6" name="AutoShape 19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0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1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" name="Group 23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1" name="AutoShape 24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5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6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Rectangle 1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12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esign and Analysis of Algorithms - Chapt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2C42-F764-49CF-B6F3-C2B18B34055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F37D-7B72-405D-8EE0-70B5670EA07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What is an algorithm?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n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algorithm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is a sequence of unambiguous instructions for solving a problem, i.e., for obtaining a required output for any legitimate input in a finite amount of time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3286080" y="5334120"/>
            <a:ext cx="2743200" cy="76176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omputer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4581360" y="365760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4581360" y="48769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3971880" y="3124080"/>
            <a:ext cx="11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966120" y="426708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914400" y="5486400"/>
            <a:ext cx="11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7010280" y="54864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057400" y="5791320"/>
            <a:ext cx="12193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6019920" y="57913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عنصر نائب للتذييل 4"/>
          <p:cNvSpPr/>
          <p:nvPr/>
        </p:nvSpPr>
        <p:spPr>
          <a:xfrm>
            <a:off x="1219320" y="63244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8337-ED09-4C25-8F22-40C365EAECB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ow good is the algorithm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ime efficienc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pace efficienc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es there exist a better algorithm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wer boun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timal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عنصر نائب للتذييل 4"/>
          <p:cNvSpPr/>
          <p:nvPr/>
        </p:nvSpPr>
        <p:spPr>
          <a:xfrm>
            <a:off x="1219320" y="63244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585D-3987-48A5-965C-8B39C53E60A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mportant problem typ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rting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arching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ring processing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aph problem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binatorial problem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eometric problem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erical proble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عنصر نائب للتذييل 5"/>
          <p:cNvSpPr/>
          <p:nvPr/>
        </p:nvSpPr>
        <p:spPr>
          <a:xfrm>
            <a:off x="1219320" y="63244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عنصر نائب لرقم الشريحة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6DDA-3B00-4B4E-A586-0478EB745E7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81518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ndamental data structur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267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list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rray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linked list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tring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tack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ue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riority queue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952880" y="1219320"/>
            <a:ext cx="4191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et and diction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صر نائب للتذييل 4"/>
          <p:cNvSpPr/>
          <p:nvPr/>
        </p:nvSpPr>
        <p:spPr>
          <a:xfrm>
            <a:off x="1219320" y="63244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BA3D-E9D5-4509-BE50-C2615DB8FD1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uclid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: Find gcd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,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, the greatest common divisor of two nonnegative, not both zero integer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:  gcd(60,24) = 12,    gcd(60,0) = 60,    gcd(0,0) = ?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uclid’s algorithm is based on repeated application of equal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cd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,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gcd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, m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ntil the second number becomes 0, which makes the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ivial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gcd(60,24) = gcd(24,12) = gcd(12,0) = 1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عنصر نائب للتذييل 4"/>
          <p:cNvSpPr/>
          <p:nvPr/>
        </p:nvSpPr>
        <p:spPr>
          <a:xfrm>
            <a:off x="1219320" y="63244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8D29-2E8D-4213-B78F-4364A9C1804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wo descriptions of Euclid’s algorithm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  If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= 0, return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and stop; otherwise go to Step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Divide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by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and assign the value fo the remainder to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Assign the valu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the valu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.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o to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Step 1.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while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 ≠ 0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do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r ← m 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mod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m← n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n ← r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return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عنصر نائب للتذييل 4"/>
          <p:cNvSpPr/>
          <p:nvPr/>
        </p:nvSpPr>
        <p:spPr>
          <a:xfrm>
            <a:off x="1219320" y="63244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7F59-3D40-458F-9D19-417B0359938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ther methods for computing gcd(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m,n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secutive integer checking algorithm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  Assign the value of min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,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}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 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Divide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by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t. 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If the remainder is 0, go to Step 3;</a:t>
            </a:r>
            <a:br>
              <a:rPr sz="2400"/>
            </a:b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       otherwise, go to Step 4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Divide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by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t. 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If the remainder is 0, return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and stop;</a:t>
            </a:r>
            <a:br>
              <a:rPr sz="2400"/>
            </a:b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       otherwise, go to Step 4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4  Decreas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1 and go to Step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ذييل 4"/>
          <p:cNvSpPr/>
          <p:nvPr/>
        </p:nvSpPr>
        <p:spPr>
          <a:xfrm>
            <a:off x="1219320" y="63244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A8F5-B37A-473D-8D3B-3BA5C92A171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ther methods for gcd(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m,n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) [cont.]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Middle-school procedure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  Find the prime factorization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  Find the prime factorization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Find all the common prime facto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4  Compute the product of all the  common prime factor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and return it as gcd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(m,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this an algorithm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عنصر نائب للتذييل 4"/>
          <p:cNvSpPr/>
          <p:nvPr/>
        </p:nvSpPr>
        <p:spPr>
          <a:xfrm>
            <a:off x="1219320" y="63244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73E6-A078-4D98-950B-33895099428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ieve of Eratosthen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Input: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teger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≥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utput: List of primes less than or equal to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 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← 2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to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do 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] ←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 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← 2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to </a:t>
            </a:r>
            <a:r>
              <a:rPr b="0" lang="pt-BR" sz="2400" spc="-1" strike="noStrike">
                <a:solidFill>
                  <a:srgbClr val="ffff99"/>
                </a:solidFill>
                <a:latin typeface="Symbol"/>
                <a:ea typeface="Symbol"/>
              </a:rPr>
              <a:t>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0" lang="pt-BR" sz="24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do</a:t>
            </a:r>
            <a:r>
              <a:rPr b="1" lang="pt-BR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0  //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sn’t been previously eliminated from the list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j </a:t>
            </a:r>
            <a:r>
              <a:rPr b="0" lang="pt-BR" sz="2800" spc="-1" strike="noStrike">
                <a:solidFill>
                  <a:srgbClr val="ffff99"/>
                </a:solidFill>
                <a:latin typeface="Times New Roman"/>
              </a:rPr>
              <a:t>← </a:t>
            </a:r>
            <a:r>
              <a:rPr b="0" i="1" lang="pt-BR" sz="28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0" i="1" lang="en-US" sz="2800" spc="-1" strike="noStrike" baseline="-2000">
                <a:solidFill>
                  <a:srgbClr val="ffff99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ile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≤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r>
              <a:rPr b="0" lang="pt-BR" sz="2800" spc="-1" strike="noStrike">
                <a:solidFill>
                  <a:srgbClr val="ffff99"/>
                </a:solidFill>
                <a:latin typeface="Times New Roman"/>
              </a:rPr>
              <a:t>← 0  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//mark element as eliminated</a:t>
            </a:r>
            <a:r>
              <a:rPr b="1" lang="pt-BR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j </a:t>
            </a:r>
            <a:r>
              <a:rPr b="0" lang="pt-BR" sz="2800" spc="-1" strike="noStrike">
                <a:solidFill>
                  <a:srgbClr val="ffff99"/>
                </a:solidFill>
                <a:latin typeface="Times New Roman"/>
              </a:rPr>
              <a:t>←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0" lang="pt-BR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ffff99"/>
                </a:solidFill>
                <a:latin typeface="Times New Roman"/>
              </a:rPr>
              <a:t>+ p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2  3  4  5  6  7  8  9 10  11  12  13  14  15  16  17  18  19 20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عنصر نائب للتذييل 4"/>
          <p:cNvSpPr/>
          <p:nvPr/>
        </p:nvSpPr>
        <p:spPr>
          <a:xfrm>
            <a:off x="1219320" y="63244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0CCF-1FC2-428B-9484-DAC14117512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Why study algorithms?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oretical importan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ore of computer scien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actical importan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ractitioner’s toolkit of known algorith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ramework for designing and analyzing algorithms for new proble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عنصر نائب للتذييل 4"/>
          <p:cNvSpPr/>
          <p:nvPr/>
        </p:nvSpPr>
        <p:spPr>
          <a:xfrm>
            <a:off x="1219320" y="63244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عنصر نائب لرقم الشريحة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75E0-3E3F-433B-9A4D-65C3D8CE7FC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wo main issues related to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How to design algorithm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How to analyze algorithm efficiency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لتذييل 5"/>
          <p:cNvSpPr/>
          <p:nvPr/>
        </p:nvSpPr>
        <p:spPr>
          <a:xfrm>
            <a:off x="1219320" y="63244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عنصر نائب لرقم الشريحة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F34F-5DDC-4B3F-89E9-B49D3D9C404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lgorithm  design techniques/strategi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rute for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ivide and conqu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crease and conqu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ansform and conquer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pace and time tradeoff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724280" y="1676520"/>
            <a:ext cx="4419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eedy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ynamic programming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erative improvement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cktracking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ranch and b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Anany Levitin</dc:creator>
  <dc:description/>
  <dc:language>en-US</dc:language>
  <cp:lastModifiedBy>123</cp:lastModifiedBy>
  <dcterms:modified xsi:type="dcterms:W3CDTF">2019-03-31T06:02:26Z</dcterms:modified>
  <cp:revision>76</cp:revision>
  <dc:subject/>
  <dc:title>Chapter 1:  Introduction </dc:title>
</cp:coreProperties>
</file>